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8.wmf" ContentType="image/x-wmf"/>
  <Override PartName="/ppt/media/image30.wmf" ContentType="image/x-wmf"/>
  <Override PartName="/ppt/media/image38.png" ContentType="image/png"/>
  <Override PartName="/ppt/media/image41.wmf" ContentType="image/x-wmf"/>
  <Override PartName="/ppt/media/image39.wmf" ContentType="image/x-wmf"/>
  <Override PartName="/ppt/media/image40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42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79D6-E665-47B0-A1D0-B7AB23688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97B-B7DF-4005-8EC5-C8A88AD89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ymbol zastępczy numeru slajdu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57F-26D6-4130-982E-290D55CCD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605-51AF-4CBF-BF01-EFA94736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297-D0D4-48BD-BAD1-DB528BA5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C5E4A-754C-4C76-B50B-09964B8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9F5D-4A01-4C3D-88E3-8CD712D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22E4-D35E-4735-8D47-D687E67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236F3-8404-474B-8A4F-5C9532C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41EB5-4FD5-46A2-82D6-06F039F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46D1B-6E6A-4200-B420-0188310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D20DB-80DB-41C2-BB75-51699E1C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773C0-705C-4D51-BB32-4AD9A29C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7F2BE-FC14-4FC2-B8E2-A4AF9FA0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E8366-6BC5-45B3-8341-17C6CEE9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DF3-250C-4910-B368-D34E4CE5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3B8CBC-63DC-466B-9B56-A4C41F1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D0E4C4-BCDD-48FF-89C7-6B8D02B1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7559A-5E68-40B3-AE8C-2CC2055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BDF72E-D3BB-4BD4-BAD6-6204CF90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DBD2D-6BED-443B-8B3F-1E67D7B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133AE-64A4-4CAD-A9D3-5879159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7A7A4A-28BF-4791-A5EE-2BFDFAC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94819-CA30-489C-AC0A-390C861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03A79-F1CA-4654-B74E-417CAE35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6EB55-BDCE-463E-AD3F-E12C0816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4B0-B0ED-4D73-BC45-4ACB99E6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F1057-E838-4607-8422-5FFDC193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BE4B6-19E6-415D-9749-8563596B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B9FD-A3CB-410F-9B8E-A2AE2EC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56356-D2A0-4343-A438-8DA594B4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8551B-76EB-4335-94B8-A0B7B8B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04F5-D9DC-4E24-82BE-2670D74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7B151-FAA4-4583-B491-683A506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B72E1-2346-4BBA-94A4-6E7ADCCF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8F86-7DF0-466B-8FB2-6033E1F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83D5-A411-4282-8564-8D82EDD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650-F959-4FD0-95E0-F4FD0981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1493B-8D77-4FB0-AF1D-3D9DF97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04899-76BA-4AD6-A34D-B32E8F18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20605-9B2B-420B-A405-46A692F3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A30-C954-485C-BFD2-8AF8367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04E-8346-44AD-80A9-6695364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82AE-27A7-4F0D-88DD-A2B02BE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C384-F63F-4391-8211-0DFA485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376B-16CE-4F1B-BA75-B35822FA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8D8-66F6-41C3-B493-B2FF62F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717-EDA8-450D-A6A1-0FFBE2E5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A167-BCBB-4A1F-8BF1-90E4919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390-A310-4A1D-8C67-E180459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89B-6951-45F7-9ACD-6297C08D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DE3-1735-43BC-AEEA-441256E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5DB-0372-4364-A6F3-EC0DF1A9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404F-82CF-47C4-BCA9-BF2CA340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8E98-0F09-4BB3-A449-FD86B334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E13B-90CE-4903-A3C9-7388E23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EBE3-18A9-44C1-A891-997988C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F80F-372F-4E75-A88B-FA097991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539-5FB5-469E-AFBE-03FB715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8A71-4509-4257-B98D-90D0D8C1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4658-587B-4363-ACD8-6153C38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E2FE-B330-4970-97E4-F6C8E73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1568-387F-4D1A-A4EC-104EB45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4D48-D5A6-4B7A-832E-DB9EAAC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C3E4-1C16-44DA-B239-6B641C19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5CE9-5880-4551-A651-8406941A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732A8-ABAE-47C7-94AC-B4A5FBD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B3CB8-9280-4E86-8A0B-DA0A503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182D6-4B39-4543-ACC8-DBCBDD5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394-2A95-46C1-A279-2713C1CA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79606-C603-4EEC-A906-EBC0E51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5E004-1E5B-49C4-A04C-BA3C0191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E36B0-2547-413C-9FC2-5A21EB88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A1CEB-9C90-448F-AAE7-4802C29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A4273-999E-44FA-BF38-173B582D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B54C6-164C-4622-BCE2-94A8A15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8BE03-AD9D-4588-8A13-2163DD5D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DADEE-6EC4-4AD5-9E56-4E114400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E1A7C-B19E-4741-AD40-D797D8D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6F449-1F5E-4356-B405-AB77D44C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9FA-A6B2-4DC7-976A-71F1390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3F477-8C93-449B-BF1E-8EC5A644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81062-EA17-4594-9679-2CEBA474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E48FF-4535-4CEE-B463-AE5C8A9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FE4E1-F630-4B5D-BD50-F9FC5AB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B0C08-D446-4C35-9F26-3F8D6F74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0777B-6C3A-40B6-85F0-626F2C3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9F03D-364F-4DBE-9A3F-0EC1BCA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38ED7-2196-4998-B6BD-1B816DDF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D9F66-4A8C-4DDB-B693-1291398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959D7-8A1B-436A-BFA7-C34228E7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654-641F-41B8-A636-10C2300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69B6C-3D7C-4E76-94C5-71D633F8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C9092-46D7-4870-8852-F837A7CE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546C5-C11C-4C59-90AF-EF0FA3C4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71EEF-DA57-4605-91DD-0CF17899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8F758-ABB0-4B12-88A2-94CC0EF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F1288-0FF5-4E26-9EC9-D63195AD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22F99-3EF4-47A2-9410-8D890B18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33134-1764-489D-8891-647E57B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85C8C-73A1-4A8D-BB84-F56DBFA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485E1-9A46-4E06-90CC-2279F7C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C4E-5C9B-4EDE-A5D6-7E49C10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C7DDF-7B82-4DE0-89CA-B52595A4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3E951-0D0B-4C43-AFAB-7FC1AF9C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D3943-C275-4DCA-81CB-41B26EFA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786C-49D4-424D-98E1-BF89A36B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C8FC-9E2C-4F99-AB70-61FA90F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B401E-3C57-43A6-8334-650E6FF1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B3975-8E3A-4327-85F0-C6AF798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22C0-4E5F-4653-9FAA-5F81AD64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7A58-488B-4D42-B7B9-99720FC0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8E174-A0A4-4657-9BB5-BA2F395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224-B5C0-49F3-A280-511BB6B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5154-1A39-4720-9DA0-20366CA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8407-5F68-4766-9244-C6C3B32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2D93-096F-43A7-B43D-8279413E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6CDCF-0C17-4426-B361-C6FB4F36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4D4A-6080-44C4-8014-6F80099C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F3EBE-5FE2-4FAA-A53D-02EC524B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DC7E7-E604-4D4F-A77D-AFB79AA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2DBC5-C74B-4224-AA96-CFD8AAB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28DDC-F993-4920-861A-AA29F91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402DD-89C4-4BB7-9C6F-F484BE3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9F6-44B7-4BED-9FBE-2B0ECD8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F4176-E2D2-4E47-861B-6F71EC2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8E13-7C68-4952-915E-F27E1B9F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1255-684D-44F3-A5E7-0419C8E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E698-5E13-4F6C-99A8-45495B8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6D98-9753-4C23-8BE4-D772A4A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8856-1842-4E90-AB7E-E8DA14B3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BFFA0-5D58-415B-9B2E-01D0E352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317C-4379-4186-A7FD-42450A9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7F005-88BB-4A64-9B28-8AFE6BE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C5AC4-50E4-4C0F-8D53-AE356F22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641-34D9-4F88-95FE-154D56B8719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A67937E-BDAE-4F99-82CD-8B7942B3CDC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D2B5-203A-4D06-90E1-12F3A9D9587F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D5C-C17E-480A-B951-2331913CA6C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8BF7A76-1547-4E24-A432-9131575FD83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951C-A8AB-4CC2-8696-AB8286EF09C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329-6482-481E-AF1E-E44C4FC3781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E9542FE-FC4A-4809-B6FD-4048205744F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6FF-F0D0-48D4-9677-2F10FFE51E7A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2E97-EC60-4893-915F-94EBB2236183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976AABD-CDF7-447A-B9B4-DA4D892B7F86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5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624-3B32-4F51-976E-C65444C85E9A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600-9363-4C75-8814-96D5B563AA2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C384420-044D-4357-92C1-DB412A398AC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61F8-3ECB-4E24-89F7-810AB70425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B82-46B1-4A12-9442-BBA49780974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00E32EA-D35B-492D-B382-62E51157E54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448-B312-4871-B39E-7B30D627BDB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0AC-34CD-40CB-B6C7-E582A90020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6D6C183-27EB-44BA-B4DA-18703E3F6C1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F80-F91F-492F-B450-6F94A044A1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232C-3F2B-4A47-94EC-6C215AD76DB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F8D1810-5805-4CB7-BC30-0EC9F11EF6D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0EF-7371-47B3-B6CC-A2A885CC06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135-C39E-4106-A347-8EA44307830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6C6C2DD-F58C-4117-8459-3416D506B6C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C0F-5A25-4568-A199-021AB04A99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96E-AD9F-4862-91F4-3F3B443E4AD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4C2465F-A8AF-4DFE-B876-9596339F0C5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5121-F0D7-42F7-8961-A9349E8B088E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DE3-5DDC-4CA2-BD4A-8A58F73E899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3E9E105-D713-4B2A-B28F-609D51547AD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F19-3D65-49D8-B05C-06C1404F8D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8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5091120" cy="4510080"/>
          </a:xfrm>
          <a:prstGeom prst="rect">
            <a:avLst/>
          </a:prstGeom>
          <a:ln w="0">
            <a:noFill/>
          </a:ln>
        </p:spPr>
      </p:pic>
      <p:sp>
        <p:nvSpPr>
          <p:cNvPr id="574" name="Prostokąt 15"/>
          <p:cNvSpPr/>
          <p:nvPr/>
        </p:nvSpPr>
        <p:spPr>
          <a:xfrm>
            <a:off x="214200" y="2143080"/>
            <a:ext cx="357192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ozpatrzmy równowagę lewej części pręta odciętej przekrojem ABKL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Promień krzywizn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arstwy obojętnej K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znaczmy prze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Wtedy                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łókno QQ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położone w odległości y od warstwy obojętnej, ma przed odkształceniem długość taką samą jak K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                   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AC3-0DCB-41F1-895C-17498ADD4C2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9" name="Object 5"/>
          <p:cNvGraphicFramePr/>
          <p:nvPr/>
        </p:nvGraphicFramePr>
        <p:xfrm>
          <a:off x="1011240" y="3646440"/>
          <a:ext cx="1104840" cy="5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1240" y="3646440"/>
                    <a:ext cx="1104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6"/>
          <p:cNvGraphicFramePr/>
          <p:nvPr/>
        </p:nvGraphicFramePr>
        <p:xfrm>
          <a:off x="1700280" y="5489640"/>
          <a:ext cx="128592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00280" y="5489640"/>
                    <a:ext cx="1285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rostokąt 15"/>
          <p:cNvSpPr/>
          <p:nvPr/>
        </p:nvSpPr>
        <p:spPr>
          <a:xfrm>
            <a:off x="142920" y="2111400"/>
            <a:ext cx="878688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 odkształceniu                         .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ydłużenie względ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skróce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gdy y&lt;0) teg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łókna oblicza się jak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Napręże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e włóknie QQ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ynosi więc:                                 (*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Uwaga!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in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tylko wtedy, gdy warstwa obojętna jest powierzchnią środkow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1C2-F4D8-4983-B0E5-814F1978278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2739960" y="2759040"/>
          <a:ext cx="39798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9960" y="2759040"/>
                    <a:ext cx="39798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4514760" y="4044960"/>
          <a:ext cx="21560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4044960"/>
                    <a:ext cx="2156040" cy="857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2" name="Object 7"/>
          <p:cNvGraphicFramePr/>
          <p:nvPr/>
        </p:nvGraphicFramePr>
        <p:xfrm>
          <a:off x="1859040" y="2071800"/>
          <a:ext cx="180972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9040" y="2071800"/>
                    <a:ext cx="1809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" descr=""/>
          <p:cNvPicPr/>
          <p:nvPr/>
        </p:nvPicPr>
        <p:blipFill>
          <a:blip r:embed="rId1"/>
          <a:stretch/>
        </p:blipFill>
        <p:spPr>
          <a:xfrm>
            <a:off x="4857840" y="2122560"/>
            <a:ext cx="3714840" cy="4376520"/>
          </a:xfrm>
          <a:prstGeom prst="rect">
            <a:avLst/>
          </a:prstGeom>
          <a:ln w="0">
            <a:noFill/>
          </a:ln>
        </p:spPr>
      </p:pic>
      <p:sp>
        <p:nvSpPr>
          <p:cNvPr id="595" name="Prostokąt 15"/>
          <p:cNvSpPr/>
          <p:nvPr/>
        </p:nvSpPr>
        <p:spPr>
          <a:xfrm>
            <a:off x="142920" y="2000160"/>
            <a:ext cx="442908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omień krzywizny warstwy oboję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const w całym przekroju poprzecznym belki, a przy czystym zginaniu belki pryzmatycznej (o stałym przekroju) – w całej belce. Stąd wnioskuje się, biorąc pod uwagę wzór (*), że naprężeni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y)) zmienia się liniowo z odległością (y) od warstwy obojętnej. Naprężenia te muszą zapewniać równowagę rozpatrywanej części prę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Elementarna siła dP na nieskończenie małym polu dA, po uwzględnieniu wzoru (*) wynos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391E-8E7F-4C2C-B018-C49F5511362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0" name="Object 4"/>
          <p:cNvGraphicFramePr/>
          <p:nvPr/>
        </p:nvGraphicFramePr>
        <p:xfrm>
          <a:off x="1697040" y="5786280"/>
          <a:ext cx="1515960" cy="7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7040" y="5786280"/>
                    <a:ext cx="1515960" cy="714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rostokąt 15"/>
          <p:cNvSpPr/>
          <p:nvPr/>
        </p:nvSpPr>
        <p:spPr>
          <a:xfrm>
            <a:off x="142920" y="2379600"/>
            <a:ext cx="900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 warunków równowagi wynika, że suma (całka) sił elementarnych dP, zebranych na całym polu przekroju poprzecznego pręta musi równać się zeru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Całka w powyższym wzorze (moment statyczny przekroju) jest równa zeru względem każdej osi przechodzącej przez środek geometryczny </a:t>
            </a:r>
            <a:r>
              <a:rPr b="0" lang="pl-PL" sz="2000" spc="-1" strike="noStrike">
                <a:solidFill>
                  <a:srgbClr val="00b0f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 wniosek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arstwa obojętna przechodzi przez środki geometryczne przekrojów poprzecznych pręt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dkształcenia przy zginaniu są bardzo małe </a:t>
            </a:r>
            <a:r>
              <a:rPr b="0" lang="pl-PL" sz="2000" spc="-1" strike="noStrike">
                <a:solidFill>
                  <a:srgbClr val="00b0f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 wniosek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oś obojętna jest prostą przechodzącą przez środek geometryczny przekro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(punkt </a:t>
            </a:r>
            <a:r>
              <a:rPr b="1" lang="pl-PL" sz="2000" spc="-1" strike="noStrike">
                <a:solidFill>
                  <a:srgbClr val="ffff00"/>
                </a:solidFill>
                <a:latin typeface="Tw Cen MT"/>
              </a:rPr>
              <a:t>C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); warstwa obojętna jest powierzchnią walcową (przy czystym zginaniu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2A76-DF9E-4884-83BA-7D366D2E578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7" name="Object 4"/>
          <p:cNvGraphicFramePr/>
          <p:nvPr/>
        </p:nvGraphicFramePr>
        <p:xfrm>
          <a:off x="2279520" y="3046320"/>
          <a:ext cx="41562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3046320"/>
                    <a:ext cx="41562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rostokąt 15"/>
          <p:cNvSpPr/>
          <p:nvPr/>
        </p:nvSpPr>
        <p:spPr>
          <a:xfrm>
            <a:off x="142920" y="2379600"/>
            <a:ext cx="9001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Moment siły elementarnej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P względem osi obojętnej wynosi: dM=dP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uma (całka) tych momentów zebrana po całym przekroju A musi zrównoważyć moment sił zewnętrznych M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Wynika stąd drugie równanie równowag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Całka w powyższym wzorze to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moment bezwładności przekroju poprzecznego pręta względem osi obojętnej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z)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31F-E438-4613-A69D-61D0C2C79FF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4" name="Object 4"/>
          <p:cNvGraphicFramePr/>
          <p:nvPr/>
        </p:nvGraphicFramePr>
        <p:xfrm>
          <a:off x="1617840" y="3286080"/>
          <a:ext cx="540036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3286080"/>
                    <a:ext cx="54003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4"/>
          <p:cNvGraphicFramePr/>
          <p:nvPr/>
        </p:nvGraphicFramePr>
        <p:xfrm>
          <a:off x="3484440" y="5072040"/>
          <a:ext cx="189072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4440" y="5072040"/>
                    <a:ext cx="1890720" cy="963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rostokąt 15"/>
          <p:cNvSpPr/>
          <p:nvPr/>
        </p:nvSpPr>
        <p:spPr>
          <a:xfrm>
            <a:off x="142920" y="2357280"/>
            <a:ext cx="900108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nika stąd zależność:                           lub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Uwzględniając wzór (*) można zapisać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lub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żeli warstwa obojętna jest powierzchnią środkową belki, to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naprężenia gnąc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maksymalne i minimalne są sobie rów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in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) i wynoszą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jest największą odległością włókien od warstwy obojętne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161-778F-4CC1-83B8-BFA097C6BF9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3" name="Object 4"/>
          <p:cNvGraphicFramePr/>
          <p:nvPr/>
        </p:nvGraphicFramePr>
        <p:xfrm>
          <a:off x="2754360" y="2154240"/>
          <a:ext cx="15843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4360" y="2154240"/>
                    <a:ext cx="1584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5"/>
          <p:cNvGraphicFramePr/>
          <p:nvPr/>
        </p:nvGraphicFramePr>
        <p:xfrm>
          <a:off x="4983120" y="2109960"/>
          <a:ext cx="184464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3120" y="2109960"/>
                    <a:ext cx="1844640" cy="934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7" name="Object 7"/>
          <p:cNvGraphicFramePr/>
          <p:nvPr/>
        </p:nvGraphicFramePr>
        <p:xfrm>
          <a:off x="2786040" y="3409920"/>
          <a:ext cx="127152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3409920"/>
                    <a:ext cx="12715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8"/>
          <p:cNvGraphicFramePr/>
          <p:nvPr/>
        </p:nvGraphicFramePr>
        <p:xfrm>
          <a:off x="5052960" y="3409920"/>
          <a:ext cx="137628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2960" y="3409920"/>
                    <a:ext cx="1376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9"/>
          <p:cNvGraphicFramePr/>
          <p:nvPr/>
        </p:nvGraphicFramePr>
        <p:xfrm>
          <a:off x="3500280" y="5159520"/>
          <a:ext cx="1766880" cy="93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5159520"/>
                    <a:ext cx="1766880" cy="934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rostokąt 15"/>
          <p:cNvSpPr/>
          <p:nvPr/>
        </p:nvSpPr>
        <p:spPr>
          <a:xfrm>
            <a:off x="142920" y="2143080"/>
            <a:ext cx="871524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auważmy, ż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arunek wytrzymałości na zginani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apisuje się więc następując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znacza naprężenia dopuszczalne na zginanie; na ogół (dla stali, stopów miedzi lub aluminium)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6E82-39DD-467E-85C7-A259E4C1790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8" name="Object 7"/>
          <p:cNvGraphicFramePr/>
          <p:nvPr/>
        </p:nvGraphicFramePr>
        <p:xfrm>
          <a:off x="3344760" y="2617920"/>
          <a:ext cx="197172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4760" y="2617920"/>
                    <a:ext cx="1971720" cy="882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0" name="Object 8"/>
          <p:cNvGraphicFramePr/>
          <p:nvPr/>
        </p:nvGraphicFramePr>
        <p:xfrm>
          <a:off x="3164040" y="4192560"/>
          <a:ext cx="2336760" cy="12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4040" y="4192560"/>
                    <a:ext cx="2336760" cy="1236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rostokąt 15"/>
          <p:cNvSpPr/>
          <p:nvPr/>
        </p:nvSpPr>
        <p:spPr>
          <a:xfrm>
            <a:off x="142920" y="2143080"/>
            <a:ext cx="871524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materiałów kruchych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żeliwo, beton)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c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&gt;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Wówczas sprawdza się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w Cen MT"/>
              </a:rPr>
              <a:t>dwa warunki wytrzymałościow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włókien rozciąganych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włókien ściskanych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są odpowiednio odległościami od warstwy obojętnej najdalszego włókna rozciąganego, bądź ściskaneg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naprężeń w belce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E4C-C722-48C7-9294-866B6807134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7" name="Object 4"/>
          <p:cNvGraphicFramePr/>
          <p:nvPr/>
        </p:nvGraphicFramePr>
        <p:xfrm>
          <a:off x="3417840" y="3071880"/>
          <a:ext cx="221616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7840" y="3071880"/>
                    <a:ext cx="22161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5"/>
          <p:cNvGraphicFramePr/>
          <p:nvPr/>
        </p:nvGraphicFramePr>
        <p:xfrm>
          <a:off x="3429000" y="4205160"/>
          <a:ext cx="227160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205160"/>
                    <a:ext cx="22716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6" descr=""/>
          <p:cNvPicPr/>
          <p:nvPr/>
        </p:nvPicPr>
        <p:blipFill>
          <a:blip r:embed="rId1"/>
          <a:stretch/>
        </p:blipFill>
        <p:spPr>
          <a:xfrm>
            <a:off x="714240" y="2857680"/>
            <a:ext cx="7777440" cy="3609720"/>
          </a:xfrm>
          <a:prstGeom prst="rect">
            <a:avLst/>
          </a:prstGeom>
          <a:ln w="0">
            <a:noFill/>
          </a:ln>
        </p:spPr>
      </p:pic>
      <p:sp>
        <p:nvSpPr>
          <p:cNvPr id="65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29B-8868-4BE4-80B3-D00849B039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rostokąt 11"/>
          <p:cNvSpPr/>
          <p:nvPr/>
        </p:nvSpPr>
        <p:spPr>
          <a:xfrm>
            <a:off x="428760" y="207180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W wyniku działania momentu gnącego (wewnętrznego) następuje wzajemny obrót sąsiednich przekrojów. Powoduje to zakrzywienie osi pręta. W przypadku zginania płaskiego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oś ugięta jest krzywą płaską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3943440" y="2176560"/>
            <a:ext cx="5006880" cy="2324160"/>
          </a:xfrm>
          <a:prstGeom prst="rect">
            <a:avLst/>
          </a:prstGeom>
          <a:ln w="0">
            <a:noFill/>
          </a:ln>
        </p:spPr>
      </p:pic>
      <p:sp>
        <p:nvSpPr>
          <p:cNvPr id="658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0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C73-6665-45E3-AC95-6794AA20ADE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rostokąt 11"/>
          <p:cNvSpPr/>
          <p:nvPr/>
        </p:nvSpPr>
        <p:spPr>
          <a:xfrm>
            <a:off x="214200" y="207180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W prostokątnym układzie współrzędnych xy, w którym oś x pokrywa się z początkowo prostą osią belki, </a:t>
            </a:r>
            <a:r>
              <a:rPr b="1" lang="pl-PL" sz="1800" spc="-1" strike="noStrike">
                <a:solidFill>
                  <a:srgbClr val="00b0f0"/>
                </a:solidFill>
                <a:latin typeface="Tw Cen MT"/>
              </a:rPr>
              <a:t>równanie osi ugiętej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ma postać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(^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Krzywiznę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osi ugiętej określa podany wcześniej wzór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1500120" y="3357720"/>
          <a:ext cx="12463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3357720"/>
                    <a:ext cx="1246320" cy="519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1254240" y="4572000"/>
          <a:ext cx="184284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4572000"/>
                    <a:ext cx="1842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Prostokąt 9"/>
          <p:cNvSpPr/>
          <p:nvPr/>
        </p:nvSpPr>
        <p:spPr>
          <a:xfrm>
            <a:off x="285840" y="55008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Wzór ten wprawdzie nie uwzględnia wpływu na odkształcenia belki sił tnących (T), ale wpływ ten jest zazwyczaj nieznaczny.  Dlatego też, ściśle biorąc, wzór powyższy dotyczy tzw. zginania równomiernego – bez udziału sił tnących (poprzecznych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1" descr=""/>
          <p:cNvPicPr/>
          <p:nvPr/>
        </p:nvPicPr>
        <p:blipFill>
          <a:blip r:embed="rId1"/>
          <a:stretch/>
        </p:blipFill>
        <p:spPr>
          <a:xfrm>
            <a:off x="7143840" y="2071800"/>
            <a:ext cx="1857240" cy="34113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"/>
          <p:cNvPicPr/>
          <p:nvPr/>
        </p:nvPicPr>
        <p:blipFill>
          <a:blip r:embed="rId2"/>
          <a:stretch/>
        </p:blipFill>
        <p:spPr>
          <a:xfrm>
            <a:off x="4976640" y="2719440"/>
            <a:ext cx="2024280" cy="2709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"/>
          <p:cNvPicPr/>
          <p:nvPr/>
        </p:nvPicPr>
        <p:blipFill>
          <a:blip r:embed="rId3"/>
          <a:stretch/>
        </p:blipFill>
        <p:spPr>
          <a:xfrm>
            <a:off x="2514600" y="2814480"/>
            <a:ext cx="2343240" cy="2521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4"/>
          <a:stretch/>
        </p:blipFill>
        <p:spPr>
          <a:xfrm>
            <a:off x="214200" y="2440080"/>
            <a:ext cx="2109960" cy="2985840"/>
          </a:xfrm>
          <a:prstGeom prst="rect">
            <a:avLst/>
          </a:prstGeom>
          <a:ln w="0">
            <a:noFill/>
          </a:ln>
        </p:spPr>
      </p:pic>
      <p:sp>
        <p:nvSpPr>
          <p:cNvPr id="510" name="Symbol zastępczy zawartości 4"/>
          <p:cNvSpPr/>
          <p:nvPr/>
        </p:nvSpPr>
        <p:spPr>
          <a:xfrm>
            <a:off x="214200" y="1600200"/>
            <a:ext cx="77868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omenty bezwładności i wskaźniki wytrzymałości na zginanie typowych przekrojów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09B-7625-4662-A650-FD7206400BD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4" name="Object 2"/>
          <p:cNvGraphicFramePr/>
          <p:nvPr/>
        </p:nvGraphicFramePr>
        <p:xfrm>
          <a:off x="131760" y="5572080"/>
          <a:ext cx="191448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760" y="5572080"/>
                    <a:ext cx="191448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6" name="Object 6"/>
          <p:cNvGraphicFramePr/>
          <p:nvPr/>
        </p:nvGraphicFramePr>
        <p:xfrm>
          <a:off x="2290680" y="5572080"/>
          <a:ext cx="178128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90680" y="5572080"/>
                    <a:ext cx="178128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8" name="Object 10"/>
          <p:cNvGraphicFramePr/>
          <p:nvPr/>
        </p:nvGraphicFramePr>
        <p:xfrm>
          <a:off x="4343400" y="5532480"/>
          <a:ext cx="3228840" cy="95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5532480"/>
                    <a:ext cx="3228840" cy="954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0" name="Object 12"/>
          <p:cNvGraphicFramePr/>
          <p:nvPr/>
        </p:nvGraphicFramePr>
        <p:xfrm>
          <a:off x="7807320" y="5572080"/>
          <a:ext cx="89064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7320" y="5572080"/>
                    <a:ext cx="89064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rostokąt 15"/>
          <p:cNvSpPr/>
          <p:nvPr/>
        </p:nvSpPr>
        <p:spPr>
          <a:xfrm>
            <a:off x="142920" y="2143080"/>
            <a:ext cx="87152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eometria różniczkowa podaje następujący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zór na krzywiznę linii płaskiej:                                                (**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Uproszczenia: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gd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&lt;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prop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w zakresie liniowej sprężystości/stosowalności prawa Hooke’a) kąt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pomiędzy styczną do osi ugiętej a samą osią przed jej ugięciem*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st mał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jest wielkością małą, a (y’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- małą wyższeg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zędu bliską zeru; stąd wzór (**) można zapisać w formie przybliżonej, jako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E6A-49D9-46DF-8428-AAD6EF4A070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73" name="Object 3"/>
          <p:cNvGraphicFramePr/>
          <p:nvPr/>
        </p:nvGraphicFramePr>
        <p:xfrm>
          <a:off x="3598920" y="2544840"/>
          <a:ext cx="28321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8920" y="2544840"/>
                    <a:ext cx="28321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3351240" y="5521320"/>
          <a:ext cx="179244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1240" y="5521320"/>
                    <a:ext cx="1792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1514520" y="4459320"/>
          <a:ext cx="151272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4520" y="4459320"/>
                    <a:ext cx="1512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rostokąt 15"/>
          <p:cNvSpPr/>
          <p:nvPr/>
        </p:nvSpPr>
        <p:spPr>
          <a:xfrm>
            <a:off x="142920" y="2143080"/>
            <a:ext cx="8786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e względu na dużą sztywność belek stosowanych w praktyce, ugięcia są bardzo małe, wartość promienia krzywizn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bardzo duża; wielkość y nazywa się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ugięcie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belki, zaś kąt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kątem obrotu przekroju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 prostych przekształceniach uzyskuje się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równanie osi ugiętej w postaci różniczkowej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#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 ogół sztywność zginania nie zmienia się wzdłuż osi belki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ównanie (#) jest równaniem wyjściowym do wyznaczenia równania osi ugiętej w postaci (^)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26B-CEF3-474D-A0D6-1BC87B59903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4" name="Object 2"/>
          <p:cNvGraphicFramePr/>
          <p:nvPr/>
        </p:nvGraphicFramePr>
        <p:xfrm>
          <a:off x="3421080" y="3913200"/>
          <a:ext cx="193500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1080" y="3913200"/>
                    <a:ext cx="1935000" cy="1204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rostokąt 15"/>
          <p:cNvSpPr/>
          <p:nvPr/>
        </p:nvSpPr>
        <p:spPr>
          <a:xfrm>
            <a:off x="214200" y="2143080"/>
            <a:ext cx="871560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 początku należy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określić funkcję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(x)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Następnie wykonać dwukrotne całkowanie po x, doprowadzając równanie (#) do postac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albo (gdy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const)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tałe C i D wyznacza się z tzw. warunków brzegowych, czyli warunków przemieszczeń na końcach przedziałów. Dla każdego przedziału można napisać jedno równanie różniczkowe typu (#), gdyż w każdym przedziale jest osobne równanie M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x). Liczba stałych zależy od liczby przedziałów 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..., 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...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3C8-61C1-4FAF-A7EE-FEFA6C339D2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91" name="Object 2"/>
          <p:cNvGraphicFramePr/>
          <p:nvPr/>
        </p:nvGraphicFramePr>
        <p:xfrm>
          <a:off x="1900080" y="2967120"/>
          <a:ext cx="520092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2967120"/>
                    <a:ext cx="52009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"/>
          <p:cNvGraphicFramePr/>
          <p:nvPr/>
        </p:nvGraphicFramePr>
        <p:xfrm>
          <a:off x="2114640" y="4454640"/>
          <a:ext cx="474192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4454640"/>
                    <a:ext cx="47419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rostokąt 15"/>
          <p:cNvSpPr/>
          <p:nvPr/>
        </p:nvSpPr>
        <p:spPr>
          <a:xfrm>
            <a:off x="214200" y="214308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ś ugięta powinna być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krzywą ciągłą i gładk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arunki nierozdzielności odkształceń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równości) kątów obrotu przekroju, a także ugięć na granicach przedziałów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b0f0"/>
                </a:solidFill>
                <a:uFillTx/>
                <a:latin typeface="Tw Cen MT"/>
              </a:rPr>
              <a:t>Przykład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etoda analityczna wyznaczania linii ugięcia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EBF-C961-40C7-B514-4639FB01DF9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6" descr=""/>
          <p:cNvPicPr/>
          <p:nvPr/>
        </p:nvPicPr>
        <p:blipFill>
          <a:blip r:embed="rId1"/>
          <a:stretch/>
        </p:blipFill>
        <p:spPr>
          <a:xfrm>
            <a:off x="6500880" y="214308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523" name="Prostokąt 14"/>
          <p:cNvSpPr/>
          <p:nvPr/>
        </p:nvSpPr>
        <p:spPr>
          <a:xfrm>
            <a:off x="142920" y="2484360"/>
            <a:ext cx="878688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skaźnik wytrzymałości przekroju belki na zginanie (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, W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blicza się w przypadku ogólnym jak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: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znacza odległość najdalszego punktu przekro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przecznego belki od jego osi głównej centralnej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czyli tzw. osi obojętnej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  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!! Wskaźniki nie są addytywne (dodawalne) !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odawać można tylko momenty bezwładności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, obliczone względem tej samej osi. W związku z tym, dla przekrojów złożonych z prostych figur oblicza się najpierw moment bezwładności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drogą sumowania, a następnie ze wzoru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oblicza się wskaźnik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Symbol zastępczy zawartości 4"/>
          <p:cNvSpPr/>
          <p:nvPr/>
        </p:nvSpPr>
        <p:spPr>
          <a:xfrm>
            <a:off x="214200" y="1600200"/>
            <a:ext cx="77868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omenty bezwładności i wskaźniki wytrzymałości na zginanie typowych przekrojów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2B58-DB70-4AA2-9F56-391C5B08B14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8" name="Object 2"/>
          <p:cNvGraphicFramePr/>
          <p:nvPr/>
        </p:nvGraphicFramePr>
        <p:xfrm>
          <a:off x="1974960" y="3170160"/>
          <a:ext cx="117936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3170160"/>
                    <a:ext cx="1179360" cy="901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1" descr=""/>
          <p:cNvPicPr/>
          <p:nvPr/>
        </p:nvPicPr>
        <p:blipFill>
          <a:blip r:embed="rId1"/>
          <a:stretch/>
        </p:blipFill>
        <p:spPr>
          <a:xfrm>
            <a:off x="7143840" y="2071800"/>
            <a:ext cx="1857240" cy="3411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4976640" y="2719440"/>
            <a:ext cx="2024280" cy="270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"/>
          <p:cNvPicPr/>
          <p:nvPr/>
        </p:nvPicPr>
        <p:blipFill>
          <a:blip r:embed="rId3"/>
          <a:stretch/>
        </p:blipFill>
        <p:spPr>
          <a:xfrm>
            <a:off x="2514600" y="2814480"/>
            <a:ext cx="2343240" cy="2521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4"/>
          <a:stretch/>
        </p:blipFill>
        <p:spPr>
          <a:xfrm>
            <a:off x="214200" y="2440080"/>
            <a:ext cx="2109960" cy="2985840"/>
          </a:xfrm>
          <a:prstGeom prst="rect">
            <a:avLst/>
          </a:prstGeom>
          <a:ln w="0">
            <a:noFill/>
          </a:ln>
        </p:spPr>
      </p:pic>
      <p:sp>
        <p:nvSpPr>
          <p:cNvPr id="534" name="Symbol zastępczy zawartości 4"/>
          <p:cNvSpPr/>
          <p:nvPr/>
        </p:nvSpPr>
        <p:spPr>
          <a:xfrm>
            <a:off x="214200" y="1600200"/>
            <a:ext cx="77868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omenty bezwładności i wskaźniki wytrzymałości na zginanie typowych przekrojów bel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85F-2559-43CD-8A6A-D88BAE26578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355680" y="5572080"/>
          <a:ext cx="100152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5572080"/>
                    <a:ext cx="100152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1643040" y="5572080"/>
          <a:ext cx="18702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3040" y="5572080"/>
                    <a:ext cx="187020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2" name="Object 10"/>
          <p:cNvGraphicFramePr/>
          <p:nvPr/>
        </p:nvGraphicFramePr>
        <p:xfrm>
          <a:off x="3786120" y="5532480"/>
          <a:ext cx="3340080" cy="95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6120" y="5532480"/>
                    <a:ext cx="3340080" cy="954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4" name="Object 12"/>
          <p:cNvGraphicFramePr/>
          <p:nvPr/>
        </p:nvGraphicFramePr>
        <p:xfrm>
          <a:off x="7429680" y="5572080"/>
          <a:ext cx="100152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29680" y="5572080"/>
                    <a:ext cx="1001520" cy="874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rostokąt 15"/>
          <p:cNvSpPr/>
          <p:nvPr/>
        </p:nvSpPr>
        <p:spPr>
          <a:xfrm>
            <a:off x="142920" y="2111400"/>
            <a:ext cx="878688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zagadnieniach zginania, w celu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yznaczenia wymaganych wymiarów (kształtu)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ekroju poprzecznego belki należy zastosować następujący wzór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st to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arunek wytrzymałości na zginan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M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oznacza największą (co do wartości bezwzględnej/modułu) wartość wewnętrznego momentu gnącego, którą odczytuje się z wykresów sił wewnętrznych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e wzoru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można też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yznaczyć dopuszczalną wartość momentu gnącego (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w Cen MT"/>
              </a:rPr>
              <a:t>dop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jeżeli dane są wymiary (kształt) przekroju belk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nadto, w niektórych przypadkach należy przeprowadzić obliczenia na ścinanie, ze względu na występowanie sił tnących (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bliczenia wytrzymałościowe na zgina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680-D1F0-46A7-9BF1-713E8AE801A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1" name="Object 12"/>
          <p:cNvGraphicFramePr/>
          <p:nvPr/>
        </p:nvGraphicFramePr>
        <p:xfrm>
          <a:off x="3357720" y="2948040"/>
          <a:ext cx="175896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2948040"/>
                    <a:ext cx="1758960" cy="82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252360" y="2490840"/>
            <a:ext cx="8639280" cy="3295440"/>
          </a:xfrm>
          <a:prstGeom prst="rect">
            <a:avLst/>
          </a:prstGeom>
          <a:ln w="0">
            <a:noFill/>
          </a:ln>
        </p:spPr>
      </p:pic>
      <p:sp>
        <p:nvSpPr>
          <p:cNvPr id="55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dkształcenia belki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99C-0AA7-4108-9761-E4E635301B4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1138320" y="2041560"/>
            <a:ext cx="7108920" cy="4462560"/>
          </a:xfrm>
          <a:prstGeom prst="rect">
            <a:avLst/>
          </a:prstGeom>
          <a:ln w="0">
            <a:noFill/>
          </a:ln>
        </p:spPr>
      </p:pic>
      <p:sp>
        <p:nvSpPr>
          <p:cNvPr id="55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dkształcenia belki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D3E-7B45-44B4-9D33-D0D60CF09C3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rostokąt 15"/>
          <p:cNvSpPr/>
          <p:nvPr/>
        </p:nvSpPr>
        <p:spPr>
          <a:xfrm>
            <a:off x="142920" y="2111400"/>
            <a:ext cx="878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rzypadku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czystego zgina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(T=0) rozwiązanie zadania opiera się na dwu hipotezach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Hipoteza 1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: Wszystkie przekroje odkształconej belki, które były płaskie przed odkształceniem, pozostaną płaskie po odkształceniu podczas czystego zginania (jest to tzw.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hipoteza płaskich przekrojów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Hipoteza 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: W pręcie poddanym czystemu zginaniu poszczególne warstwy równoległe do (zakrzywionej) osi pręta, a prostopadłe do płaszczyzny zginania, znajdują się w jednokierunkowym stanie naprężenia, tzn. są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yłącznie rozciągane, bądź ściskan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nie wywierają na siebie nawzajem żadnych nacisków poprzecznych (wzdłuż promienia krzywizny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dkształcenia belki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6CF-7A74-4E54-83CF-21C5D9DA7CB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rostokąt 15"/>
          <p:cNvSpPr/>
          <p:nvPr/>
        </p:nvSpPr>
        <p:spPr>
          <a:xfrm>
            <a:off x="142920" y="2401920"/>
            <a:ext cx="878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łókno material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st to linia równoległa do osi belki przed odkształceniem, łącząca ciągle te same punkty materialne wzdłuż osi belki, nawet po odkształceniu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arstwą obojętn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nazywa się warstwę włókien, które podczas zginania nie ulegają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ani wydłużeniu, ani skróceniu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a naprężenia w tej warstwie są równe zeru; jest to więc powierzchnia prostopadła do płaszczyzny zginania, zawierająca (zakrzywioną) oś belki; powierzchnia ta przed odkształceniem była płaszczyzną xz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Osią obojętną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ś belki) nazywa się ślad warstwy obojętnej na płaszczyźnie przekroju poprzecznego zginanej belki; jest nią oś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dkształcenia belki przy czystym zginani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Proste zginanie belek, łuków lub ra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D52D-137D-411F-B04C-29444E4CBAD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2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