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2.wmf" ContentType="image/x-wmf"/>
  <Override PartName="/ppt/media/image1.wmf" ContentType="image/x-wmf"/>
  <Override PartName="/ppt/media/image26.wmf" ContentType="image/x-wmf"/>
  <Override PartName="/ppt/media/image15.png" ContentType="image/png"/>
  <Override PartName="/ppt/media/image14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B05-D750-4D4C-B3EF-42EEF5811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160-F007-4BED-9731-8823840AE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89B-12AE-41D8-B6C6-F2DA7C21E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AC6-D012-4435-B134-C9F8AF403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217-109D-43C1-B63B-FCCC71A62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783E-0970-4821-8720-53E92EA47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BB07-CBA0-4231-8584-830070888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898-BEB5-4001-B23D-B2B3C2444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334-FCCC-4B2B-84DB-6827D1EA1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8C67-D10E-463A-9ADB-B0A1536D8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9128-D04F-441F-A496-8D1D490C7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AB2E-26D3-4301-A008-1EEC3540B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728-C18D-4589-BA62-9C33B7D71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1D1-2233-4AFC-8AA0-4B588FC46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CE49-1F9F-4595-AA48-62DBAF937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182-158A-40E2-B131-917D37B11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D78-6D28-402F-8B64-7C47FAD66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DAB-AF05-4475-98D0-80E41688A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549-D09F-4510-A709-C6A771DB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74-4EE9-43E2-9880-49CA1DA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0FC76-55B3-4960-AA5A-75F3408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9A2B-8F3E-40C8-AA87-C5759491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E07AC-5F06-4F38-AC77-C85CC4F0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A855-599F-4C03-AB05-C16623D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25D8-8053-4EC5-B94A-F9B741C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38B8-6BFA-44F3-88CD-06DF8C0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57B0E-C708-42CC-8C90-6CCC3B9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C146-520A-43E4-8C36-B67E3D2C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4D4EA-E89A-46E2-BA47-970F64AB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E2764A-7B69-4CA7-AE6E-0DF88E20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A08-AE1A-44F3-B8B3-EE52C0CC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5D5FE-BA9F-465B-97CB-632F836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39B7F-DCB9-4E25-B51A-0FC71E3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733A6-5A70-469A-A78D-4A12F368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21079F-4223-4794-B08D-F8E09086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458E10-2E59-47E0-86F1-BB28736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CE9697-EEF6-4750-B1F7-883B79D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38DF4-7E34-4486-A98C-D0A0486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BBEF6-7166-4356-A26E-478C169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5CE00-2B0C-4C22-AE24-8793DAE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15BA6F-E2BC-4A84-B26A-993D30EF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D1C-CB3F-4785-A468-7FE024EB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D559AA-82EC-4F94-9498-7496F04C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1DA61-866E-4A60-9B44-4F33488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574E-8D7B-4DA7-A7D5-F447C6B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497C1-950A-483F-B5DA-5D09B608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9BABC-6B70-491F-94FD-9F6245F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314CE-5A52-4675-9CDA-0C0C05D2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70E03-E5F5-459E-873A-E99180C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8AB57-29DD-40E9-8A49-F9F6B45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B6C7A-39B8-4208-949A-B473A00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D9677-0E60-4FDE-83A1-02070CA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F2F8-446A-478E-A1DF-B5A2B677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9E5A8-4EE6-4760-9301-BDF8519F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E8A72-F1B0-4905-98FC-FEEB577F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8AAC-AB80-463B-B6A8-2C5E73C6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3E9A-9125-47F5-9334-276B57F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075-927D-452B-8D3D-C0F0BE6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D0B2-7296-4B22-A3C8-4D459F4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D5A0-F0A7-49EE-99B9-1E69E04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DD1-691C-493A-B954-E130A8A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F41E-CE37-4236-92E2-3B2C9760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980-B39F-40F0-810C-6972CD35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8F0-29EB-4270-95AC-6D3C07F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0614-F529-47CD-9E30-9FE43820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B273-6D93-460D-AE36-A5A64D79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CD3E-850B-4577-8050-EA0CDE14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54F-97ED-4B8F-BB10-5E17412E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E8AC-77C4-4E67-80C1-9FF96621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2519-A464-4264-9C9E-C1C75BCA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95F6-58B2-49E9-A954-F3BF57B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ACE2-004B-4A63-A575-CA190171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99A2-D3C3-46CE-BB75-92730E8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935-AA3A-400E-8282-4FA2681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13AD-B040-4D35-AB83-BB5D214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18CA-D3BD-4BD5-BC80-C5B7CE8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DA1B-3DA5-4D88-82DB-0DA6D8C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8F17-B8A0-4C55-9360-D0A6105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4690-9C6D-4E6D-80F0-1FD4721F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907F-BFCB-4A7E-B267-DCD4E81F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B4ED-812C-4016-8ADA-B0889E8E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94BA7-1C4C-4562-BBB4-070AC25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26CAE-1721-43D7-8009-4F4081E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FDD2C-5D24-44A5-8F2A-B14DEDE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668-59D0-4DFE-AF92-AC078320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86780-1A56-4304-A8D0-94938DD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EF44B-CAC0-4B5E-BA58-32CE97F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77DD1-8094-4DAD-9DE2-A9E4E546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BEC93-1B1E-4EA0-9F86-1B11E3F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ADAD0-DF6A-4801-BA92-B507127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2E669-7E06-47EA-AEB3-CF98415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BFFC8-0AB9-4D15-A36C-B2D08F6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1D96C-CFB0-466A-B369-7B6D047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71E01-1546-482E-A369-BF24EEEB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ED539-E219-4CD7-80DE-6F7F8F5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D58-FF93-4C23-8C76-756956A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B8601-A76E-4AE6-A1FB-8A516CF4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B93C8-77A4-4E9A-9E50-DFF753A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507FA-35B7-4EE7-B670-4A2DBE1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BCBF1-A341-447D-AB18-83DCF25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C0DBD-BA8B-4F42-91B7-C0C95FF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C6631-700D-44C9-B88C-FFF0DDF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3DE00-C599-4D80-8169-0F5D6FA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1DD3A-B6C0-4B40-80B8-8142C41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20150-AF39-4C08-B28D-427C63B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87FA4-CD5F-49CF-8491-AB0DD806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A73-D46B-4688-9B1C-1D65B74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0785A-A8E4-4E91-B842-3D51A582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53467-1BA6-4366-87A0-CFBE1546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3643F-ED97-4CD5-8C97-AD44E079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DAE5C-6E37-4775-BCE0-05095B4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B5E5B-CF10-4062-BF60-79DAFB7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9CFB6-38A1-4F27-82A4-995E5F1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73344-51A6-49CB-BD35-3C4D6C81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588DD-B045-4273-A699-A3104C7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E9A06-AE66-469B-9514-5A47B6BF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13794-5B94-4005-B979-8821E55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CD0-4BBD-4561-8F78-7A71C10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78EB0-E2F8-4556-818A-1B76938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996FD-2DB3-4719-8103-1F202C53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C1986-8DD5-4B96-805C-BBEA60D6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E66F-940B-453B-AC1E-11B83A25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0C74-7E4F-4892-9738-E714463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2100D-5301-4750-B085-E4830DC4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3CB1-A549-4411-B0FD-44E0E9FB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D81C-69CE-4A21-9E55-EE9A8E5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947E-6E12-4B42-BEE3-02A2396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48CA6-127F-4D1C-8375-082BBD0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482-3AF1-48FF-B55F-D18C2D9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B9B4-EE4C-4518-9337-C68ADD5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F0D45-7833-4DE2-A7B3-24D5749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D978-0C92-4758-8A2F-0603206C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3B97-FA9F-4F7F-9920-F30D97DB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C3F8-C8AD-4616-9366-E8A64225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1F198-48D2-40DD-8E58-B18E89B6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7816-18B8-414A-B59B-801C068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CED9-2EBA-4B97-822B-ABAE377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767B3-08D2-4C0F-B9DC-E751BED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899FB-C1F2-4BB5-B1D3-2EDC324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588-9BD9-4C8E-86A5-E107491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C283-9850-4C44-96FC-84FB3BD2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92039-64A3-413D-8C1E-E3CD2B7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872E-EDE2-4F3B-8A46-C420940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F224D-F93B-4008-B625-FA7AF55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5D062-249E-483C-A098-387FE90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D483-DCBF-4F58-B349-F3FD98E8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70871-593D-4A92-BAAA-08BDF46E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132D0-DF00-4D91-822E-D7826F44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EFF9-F619-4E7D-B91C-B9C957F0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EB13A-1906-484D-8126-57392419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B87F-1499-47DA-BA39-59F09BF203A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749A0F0-7054-4A4E-9AD5-10C49B0461B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8AC-78FE-48D3-827F-AAD8679FFAB2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544-A9C1-4A8D-B30B-B2415150EF9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B5D661B-9CB1-4697-80B8-4E8C133F050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2C2-52B4-492C-820C-C24ADC31778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782B-DA5E-4C9F-8373-ED96E02752C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B354365-14CC-4297-BBC9-67EF12D0775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5C3-8CA1-4B62-8CAC-F5FDE30C0EC8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4A1F-778C-4F58-A10F-84A5532A3DA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95E9C2D-22EB-449C-804A-878ED990DEF6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A09B-A691-4E89-845B-D0A91697DD0E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86B8-C606-4A1C-B47B-5D5664E5439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B71A51C-8602-4B34-9863-3E491FB2375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B960-82DE-4ADE-BD1D-86DB5A8C87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6375-1205-4443-B580-3BE8270154C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65B9DFD-7707-4C81-88E3-D04D82C910F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5574-0330-4B46-BF04-A031C9D6C8C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84BE-9AC0-4679-A088-CABFAD6A4FD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479087F-117A-44E8-875B-9684F6B55D9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5BC4-FFB1-4743-B48D-242030B8D9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AEB-120B-4742-8522-EFD37B581A0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3FA359D-39EC-4360-B7AF-B321897D2B3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A0C8-D818-4672-A9CD-62C8380878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0E9C-2DDC-4465-AD7A-45C8A2849DF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0D6B800-BE2C-4D34-B964-6A8A1180A72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504-8562-4806-890E-2D5E640090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007-E78D-44C9-84E7-DDEFEBA5ED8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78F2F0F-FBD4-44C5-A2C6-9AA01CA7ACF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C60-E1BC-462F-8443-A6B10C3D0C7A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CA4-B261-45CE-BDBB-93B6B4338C7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AA8DA8A-E3E9-459B-817B-09B5DC5D470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57F2-0CE2-489B-9ACE-585C0C4007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Jednowymiarowy model Hooke’a ciał sprężystych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336-525E-417F-82A2-B8D0D23C52F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7120" y="1600200"/>
            <a:ext cx="84088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...ale                               oraz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stą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48760" indent="-248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Powyższy wzór ma zastosowanie do rozwiązywania zadań z rozciągania i ściskani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0" name="Object 7"/>
          <p:cNvGraphicFramePr/>
          <p:nvPr/>
        </p:nvGraphicFramePr>
        <p:xfrm>
          <a:off x="2000160" y="1571760"/>
          <a:ext cx="18576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571760"/>
                    <a:ext cx="1857600" cy="960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2" name="Object 10"/>
          <p:cNvGraphicFramePr/>
          <p:nvPr/>
        </p:nvGraphicFramePr>
        <p:xfrm>
          <a:off x="6072120" y="1571760"/>
          <a:ext cx="1928880" cy="96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2120" y="1571760"/>
                    <a:ext cx="1928880" cy="963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4" name="Object 11"/>
          <p:cNvGraphicFramePr/>
          <p:nvPr/>
        </p:nvGraphicFramePr>
        <p:xfrm>
          <a:off x="4143240" y="3214800"/>
          <a:ext cx="1667160" cy="114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3214800"/>
                    <a:ext cx="1667160" cy="1149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Jednowymiarowy model Hooke’a ciał sprężystych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515-E849-40B9-9B05-4AFA8984702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56760" y="1600200"/>
            <a:ext cx="17146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Tw Cen MT"/>
              </a:rPr>
              <a:t>Przykła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B01-65FF-48CF-A8A2-19A5C85B15E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3" name="Diagram 8" descr=""/>
          <p:cNvPicPr/>
          <p:nvPr/>
        </p:nvPicPr>
        <p:blipFill>
          <a:blip r:embed="rId1"/>
          <a:stretch/>
        </p:blipFill>
        <p:spPr>
          <a:xfrm>
            <a:off x="560520" y="274680"/>
            <a:ext cx="829152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Metody wyznaczania sił wewnętrzny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13840" y="1714320"/>
            <a:ext cx="4281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Metoda przecięć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olega na wyznaczaniu sił wewnętrznych w elementach konstrukcyjnych poprzez wykonywanie myślowych przekrojów w odpowiednich miejscach, odrzucanie jednej części elementu i rozpatrzeniu równowagi pozostawionej części utrzymywanej w dotychczasowej równowadze za pomocą odpowiednich sił wewnętrznych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890-19D6-45C0-A0C3-A1E69F121AF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5429160" y="1630440"/>
            <a:ext cx="33102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Metody wyznaczania sił wewnętrzny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13840" y="1714680"/>
            <a:ext cx="42814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Metoda superpozycji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olega na zastosowaniu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zasady superpozycji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zasady niezależności działania sił), która brzm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Garamond"/>
              </a:rPr>
              <a:t>skutek jednoczesnego działania wielu obciążeń na dane ciało równa się sumie skutków działania poszczególnych obciążeń działających oddzielni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B886-FF37-4A6D-A6DE-21CF85666E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5429160" y="1630440"/>
            <a:ext cx="33102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sada Barré de Saint-Venanta (1855r.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14200" y="15001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w Cen MT"/>
              </a:rPr>
              <a:t>Jeżeli na pewien niewielki obszar ciała sprężystego pozostającego w równowadze działają kolejno rozmaicie rozmieszczone, ale statycznie równowarte obciążenia, to w odległości od obszaru przewyższającej wyraźnie jego rozmiary powstają praktycznie jednakowe stany naprężenia i odkształcenia </a:t>
            </a:r>
            <a:r>
              <a:rPr b="0" lang="pl-PL" sz="1900" spc="-1" strike="noStrike">
                <a:solidFill>
                  <a:srgbClr val="ff0000"/>
                </a:solidFill>
                <a:latin typeface="Tw Cen MT"/>
              </a:rPr>
              <a:t>(zasada sprężystej równoważności)</a:t>
            </a:r>
            <a:r>
              <a:rPr b="0" lang="pl-PL" sz="1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BD4-0E0B-457C-BCB7-7E87C21672D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1285920" y="2786040"/>
            <a:ext cx="7145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Układ Clapeyron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1714320"/>
            <a:ext cx="4286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Układ Clapeyrona (układ liniowosprężysty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jest to takie ciało sprężyste znajdujące się pod działaniem zrównoważonego układu sił, w którym przemieszczenie dowolnego punktu materialnego można wyrazić jako liniową funkcję działających nań sił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672-1BBC-4569-ACC4-A9985C3B1AA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4230720" y="1544760"/>
            <a:ext cx="4852800" cy="40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4" name="Object 2"/>
          <p:cNvGraphicFramePr/>
          <p:nvPr/>
        </p:nvGraphicFramePr>
        <p:xfrm>
          <a:off x="357120" y="5357880"/>
          <a:ext cx="5184720" cy="60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5357880"/>
                    <a:ext cx="5184720" cy="606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sada niezmienności wymiarów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7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911C-F7D1-49CD-B44F-284B32E1153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13840" y="1714680"/>
            <a:ext cx="428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Naprężeniem (</a:t>
            </a:r>
            <a:r>
              <a:rPr b="1" i="1" lang="pl-PL" sz="2200" spc="-1" strike="noStrike">
                <a:solidFill>
                  <a:srgbClr val="ff0000"/>
                </a:solidFill>
                <a:latin typeface="Tw Cen MT"/>
              </a:rPr>
              <a:t>p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nazywa się iloraz nieskończenie małej wypadkowej siły spójności 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dS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przez nieskończenie małe pole rozważanego przekroju 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d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Siła 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 nie musi być prostopadła do przekroju 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i może zmieniać się po polu tego przekroj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08" name="Object 2"/>
          <p:cNvGraphicFramePr/>
          <p:nvPr/>
        </p:nvGraphicFramePr>
        <p:xfrm>
          <a:off x="1071720" y="3500280"/>
          <a:ext cx="250812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00280"/>
                    <a:ext cx="2508120" cy="89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Symbol zastępczy numeru slajdu 9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1DB-BA61-4CF4-9AF1-7EB1843E7C2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Symbol zastępczy stopki 92"/>
          <p:cNvSpPr/>
          <p:nvPr/>
        </p:nvSpPr>
        <p:spPr>
          <a:xfrm>
            <a:off x="609480" y="6215040"/>
            <a:ext cx="80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2" name="Object 85"/>
          <p:cNvGraphicFramePr/>
          <p:nvPr/>
        </p:nvGraphicFramePr>
        <p:xfrm>
          <a:off x="714240" y="4500720"/>
          <a:ext cx="331632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Object 8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00720"/>
                    <a:ext cx="3316320" cy="461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4" name="Picture 86" descr=""/>
          <p:cNvPicPr/>
          <p:nvPr/>
        </p:nvPicPr>
        <p:blipFill>
          <a:blip r:embed="rId5"/>
          <a:stretch/>
        </p:blipFill>
        <p:spPr>
          <a:xfrm>
            <a:off x="4286160" y="3429000"/>
            <a:ext cx="3552840" cy="2948040"/>
          </a:xfrm>
          <a:prstGeom prst="rect">
            <a:avLst/>
          </a:prstGeom>
          <a:ln w="0">
            <a:noFill/>
          </a:ln>
        </p:spPr>
      </p:pic>
      <p:pic>
        <p:nvPicPr>
          <p:cNvPr id="515" name="Obraz 90" descr=""/>
          <p:cNvPicPr/>
          <p:nvPr/>
        </p:nvPicPr>
        <p:blipFill>
          <a:blip r:embed="rId6"/>
          <a:stretch/>
        </p:blipFill>
        <p:spPr>
          <a:xfrm>
            <a:off x="6200640" y="1901880"/>
            <a:ext cx="2543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1714320"/>
            <a:ext cx="51436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Średnim naprężeniem normalnym (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pl-PL" sz="1600" spc="-1" strike="noStrike">
                <a:solidFill>
                  <a:srgbClr val="ff0000"/>
                </a:solidFill>
                <a:latin typeface="Tw Cen MT"/>
              </a:rPr>
              <a:t>sr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w danym przekroju ciała nazywa się iloraz siły normalnej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w tym przekroju przez pole jego powierzchni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Jednostki naprężeni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Symbol zastępczy numeru slajdu 9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54C-492A-4CF6-ABE1-DAFEF93AC3A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Symbol zastępczy stopki 9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1571760" y="3786120"/>
          <a:ext cx="150156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3786120"/>
                    <a:ext cx="1501560" cy="1108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2" name="Object 84"/>
          <p:cNvGraphicFramePr/>
          <p:nvPr/>
        </p:nvGraphicFramePr>
        <p:xfrm>
          <a:off x="285840" y="5500800"/>
          <a:ext cx="504504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5500800"/>
                    <a:ext cx="50450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4" name="Grupa 56"/>
          <p:cNvGrpSpPr/>
          <p:nvPr/>
        </p:nvGrpSpPr>
        <p:grpSpPr>
          <a:xfrm>
            <a:off x="4857840" y="2499840"/>
            <a:ext cx="3665520" cy="2953080"/>
            <a:chOff x="4857840" y="2499840"/>
            <a:chExt cx="3665520" cy="2953080"/>
          </a:xfrm>
        </p:grpSpPr>
        <p:pic>
          <p:nvPicPr>
            <p:cNvPr id="525" name="Picture 86" descr=""/>
            <p:cNvPicPr/>
            <p:nvPr/>
          </p:nvPicPr>
          <p:blipFill>
            <a:blip r:embed="rId5"/>
            <a:stretch/>
          </p:blipFill>
          <p:spPr>
            <a:xfrm>
              <a:off x="4857840" y="2504880"/>
              <a:ext cx="3552120" cy="2948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26" name="Łącznik prosty ze strzałką 48"/>
            <p:cNvCxnSpPr/>
            <p:nvPr/>
          </p:nvCxnSpPr>
          <p:spPr>
            <a:xfrm flipV="1">
              <a:off x="7257960" y="2499840"/>
              <a:ext cx="121500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527" name="Łącznik prosty ze strzałką 49"/>
            <p:cNvCxnSpPr/>
            <p:nvPr/>
          </p:nvCxnSpPr>
          <p:spPr>
            <a:xfrm flipV="1">
              <a:off x="7258320" y="2856960"/>
              <a:ext cx="776880" cy="653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528" name="Text Box 6"/>
            <p:cNvSpPr/>
            <p:nvPr/>
          </p:nvSpPr>
          <p:spPr>
            <a:xfrm>
              <a:off x="8363160" y="2543040"/>
              <a:ext cx="1602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9" name="Text Box 6"/>
            <p:cNvSpPr/>
            <p:nvPr/>
          </p:nvSpPr>
          <p:spPr>
            <a:xfrm>
              <a:off x="7786800" y="2719080"/>
              <a:ext cx="1602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0" name="Text Box 6"/>
            <p:cNvSpPr/>
            <p:nvPr/>
          </p:nvSpPr>
          <p:spPr>
            <a:xfrm>
              <a:off x="7153560" y="3547800"/>
              <a:ext cx="16020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7715520" y="3504960"/>
              <a:ext cx="1602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13840" y="1714320"/>
            <a:ext cx="4281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Przemieszczeniem (</a:t>
            </a:r>
            <a:r>
              <a:rPr b="1" lang="pl-PL" sz="2400" spc="-1" strike="noStrike">
                <a:solidFill>
                  <a:srgbClr val="ff0000"/>
                </a:solidFill>
                <a:latin typeface="Tw Cen MT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unktu materialnego A ciała sprężystego nazywa się wektor, którego początkiem jest ten punkt w stanie pierwotnym ciała, a końcem punkt A</a:t>
            </a:r>
            <a:r>
              <a:rPr b="0" lang="pl-PL" sz="14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określający nowe położenie punktu A (po zmianie stanu ciał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4" name="Object 2"/>
          <p:cNvGraphicFramePr/>
          <p:nvPr/>
        </p:nvGraphicFramePr>
        <p:xfrm>
          <a:off x="1500120" y="5357880"/>
          <a:ext cx="12668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5357880"/>
                    <a:ext cx="1266840" cy="576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20B7-ACAF-4DBC-9C3F-25AF6A339F2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45878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1714320"/>
            <a:ext cx="44956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prostokątnym układzie współrzędnych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x, y, z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wartości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składowych wektora przemieszczeni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unktu A oznacza się na ogół symbolemi odpowiednio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</a:rPr>
              <a:t>u, v, w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prowadzając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wersory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 j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 k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odpowiednich osi układu odniesienia można zapisać wektor przemieszczenia jak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A7AB-DC2B-47AD-B31A-32B0AAA771C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3" name="Object 2"/>
          <p:cNvGraphicFramePr/>
          <p:nvPr/>
        </p:nvGraphicFramePr>
        <p:xfrm>
          <a:off x="882720" y="5700600"/>
          <a:ext cx="22176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2720" y="5700600"/>
                    <a:ext cx="2217600" cy="460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4143240" y="2428920"/>
            <a:ext cx="4597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714680"/>
            <a:ext cx="428148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Liniowym odkształceniem względnym (</a:t>
            </a:r>
            <a:r>
              <a:rPr b="0" i="1" lang="pl-PL" sz="2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)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ciała materialnego w punkcie A  w kierunku AB nazywa się granicę do której dąży stosunek długości |A</a:t>
            </a:r>
            <a:r>
              <a:rPr b="0" lang="pl-PL" sz="11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pl-PL" sz="11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1900" spc="-1" strike="noStrike">
                <a:solidFill>
                  <a:srgbClr val="000000"/>
                </a:solidFill>
                <a:latin typeface="Tw Cen MT"/>
              </a:rPr>
              <a:t>|</a:t>
            </a:r>
            <a:r>
              <a:rPr b="0" lang="pl-PL" sz="1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odcinka AB, zmienionej działaniem sił zewnętrznych, do jego długości pierwotnej |AB|, gdy długość odcinka |AB| dąży do zera, tzn. gdy punkt B dąży do punktu 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428760" y="5000760"/>
          <a:ext cx="351468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000760"/>
                    <a:ext cx="3514680" cy="1009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0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3D7-D022-408D-BAC8-6B08794A941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3"/>
          <a:stretch/>
        </p:blipFill>
        <p:spPr>
          <a:xfrm>
            <a:off x="4186080" y="1728720"/>
            <a:ext cx="48531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1714680"/>
            <a:ext cx="43578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Średnim (liniowym) odkształceniem względnym (</a:t>
            </a:r>
            <a:r>
              <a:rPr b="0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pl-PL" sz="1900" spc="-1" strike="noStrike">
                <a:solidFill>
                  <a:srgbClr val="ff0000"/>
                </a:solidFill>
                <a:latin typeface="Tw Cen MT"/>
              </a:rPr>
              <a:t>sr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iała materialnego w kierunku AB nazywa się iloraz przyrostu długości odcinka AB do jego długości pierwotnej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5" name="Object 2"/>
          <p:cNvGraphicFramePr/>
          <p:nvPr/>
        </p:nvGraphicFramePr>
        <p:xfrm>
          <a:off x="1357200" y="4143240"/>
          <a:ext cx="167328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143240"/>
                    <a:ext cx="1673280" cy="1266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7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BBE5-D7D8-43DB-9267-AAD4CC57F04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3"/>
          <a:stretch/>
        </p:blipFill>
        <p:spPr>
          <a:xfrm>
            <a:off x="4186080" y="1728720"/>
            <a:ext cx="48531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e, przemieszczenie, a odkształceni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171432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Odkształceniem postaciowym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lub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kątem odkształcenia postaciowego (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 [rad])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iała materialnego w punkcie 0 nazywa się granicę, do której dąży zmiana kąta pomiędzy początkowo prostopadłymi odcinkami przecinającymi się w punkcie 0, gdy długości tych odcinków dążą do zer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2" name="Object 2"/>
          <p:cNvGraphicFramePr/>
          <p:nvPr/>
        </p:nvGraphicFramePr>
        <p:xfrm>
          <a:off x="104760" y="5214960"/>
          <a:ext cx="43578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5214960"/>
                    <a:ext cx="4357800" cy="1028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4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A06-895F-41B2-A81D-9530D235D39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4519440" y="1785960"/>
            <a:ext cx="44150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Jednowymiarowy model Hooke’a ciał sprężystych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47600" y="1588680"/>
            <a:ext cx="4495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Cauchy, 1822 r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9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– moduł Young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ewężenie względn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- współczynnik Poisso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139-822A-464C-BCE0-A1035BFC9B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4143240" y="2357280"/>
            <a:ext cx="4810320" cy="315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7"/>
          <p:cNvGraphicFramePr/>
          <p:nvPr/>
        </p:nvGraphicFramePr>
        <p:xfrm>
          <a:off x="1428840" y="2143080"/>
          <a:ext cx="132696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2143080"/>
                    <a:ext cx="1326960" cy="12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4" name="Object 8"/>
          <p:cNvGraphicFramePr/>
          <p:nvPr/>
        </p:nvGraphicFramePr>
        <p:xfrm>
          <a:off x="857160" y="4714920"/>
          <a:ext cx="265608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714920"/>
                    <a:ext cx="2656080" cy="100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1:3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