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3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1.wmf" ContentType="image/x-wmf"/>
  <Override PartName="/ppt/media/image5.png" ContentType="image/png"/>
  <Override PartName="/ppt/media/image35.png" ContentType="image/png"/>
  <Override PartName="/ppt/media/image34.wmf" ContentType="image/x-wmf"/>
  <Override PartName="/ppt/media/image40.wmf" ContentType="image/x-wmf"/>
  <Override PartName="/ppt/media/image41.wmf" ContentType="image/x-wmf"/>
  <Override PartName="/ppt/media/image39.png" ContentType="image/png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5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6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59EE-8EE1-42F1-AFE3-081942AC3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4162-50CB-432A-8457-ED11895C6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C3D-AE30-42AB-836D-F24F4316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FD5-1CE1-40EE-B8D3-DD1003B8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52D09-F3C0-4C5E-91A8-0DA61442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8D1C6-D01A-4590-8E4F-5AC17EFC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FF7A2-56BE-42FD-BE49-E88EE17B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26C02-EED8-4644-A8A6-13E73295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91AAA-F338-4C95-9AD7-B11DBA52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7E8B9-FA43-45A6-AF67-F00F4E30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7A0D0-1F3B-4F7B-BC0E-15F61A7E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BB3CB-D6F1-4694-9709-3CAFFB09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9D733-37FB-46E8-A85A-6E40E938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DB4AA0-9A8F-4C8D-ADC4-29F48167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F4B-2305-4512-85C5-3EC35428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C1F244-2E4E-4975-BA80-22F2A0CB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A945A9-7E6C-4537-A192-E6534336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2D3DF1-A27C-4A06-9AC6-F6A570E0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F27D17-47DD-4A4E-9443-B527F556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3DEE81-0A1C-48F7-AD88-966CBD3F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3E0CBF-256B-47C1-89B0-6208DEA7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5E6741-488A-42C0-B24D-84E8FD0F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921AB8-5B0C-4D3A-8ED4-E4C53FF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0D13B1-68F6-437F-AAA1-49E84074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37F8C7-48E9-493B-9BCF-4AA2804E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4BE-0C1C-4E33-9469-D9BD54AB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11331D-3011-4123-A7D2-19099679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963A8-1683-4F4A-B0F0-84833854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9C783-476C-441F-ADCC-6842FE30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6EE2A-90B4-49B4-9FE9-B694760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ED283-CB00-44A5-911B-7AB1CB80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D84E5-BDD2-42F5-8FF7-4B0C644A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8F74A-99F4-491B-BCF6-40D508C0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CC175-0C51-49BE-9701-46AD68D3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184DB-661F-4A28-A36D-9026052C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ED551-E4C6-4698-A1C8-A9901ED8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1EE6-DCA1-457B-896F-35C64709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B64B5-E66D-407F-9E98-5D67ABF7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83143-01CE-43D4-99E1-BFEBADDE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C27E5-9C38-478D-A231-54EC0DF7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F3D9-5AB8-4584-A9F6-34E4D23A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A293-DD15-4309-BCE9-B30361DE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C194-63F0-43F2-81E4-0391A8F8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2B37-BC0E-4FF3-A4FE-155AF715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AF4A-098C-4014-8046-4A456B80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300C-C832-442F-9FCD-0033F069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03A-B963-44E9-9DC1-EDDCB12C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5B92-0075-460B-80AC-52EC631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F1A4-AEC3-4489-B3BD-1648B5CF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2E6B-90A6-4D08-9842-AB988299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8F1F-6DD5-4B37-81D9-527A75C3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76A6-5FCB-4157-84AF-8EC95143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F3A6-57DF-4C6A-ABC1-AE6B01FE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A356-82E6-4066-97FF-DF9C63DC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7BD6-EC69-42C3-81EF-E5E3CA3A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40F8-276E-4935-BF6B-4283F27F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0895-87E0-421E-AB7F-6FC03FAE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08A-C9EC-4871-928B-408209FE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8224-B55F-43D0-A502-F6D355A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6A39-1F92-4B6A-9074-8E6CC23A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B819-5F2D-4026-BE66-EB80130D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B49A-44FB-44AE-900F-61B5EC4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2C63-9320-4584-B3ED-EF248FC9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91974-FD10-4838-BD5E-529D253E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0B3B2-E84D-4AE7-8ADD-9F6649BD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6405E-0804-4253-9A09-24492C37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72C134-08A5-45B3-95FF-50FEC8DE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4DA3F-02EE-4399-80BB-5272DCD3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97B-519D-4309-922A-65B11949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8EA79-30A9-4A57-BD04-E93D317A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60DF7-7F2D-4709-956D-2DCD1E99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7FE72-ED4A-4486-952E-05FB2D9D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F0F9C-1888-40CD-8ED5-31933AD2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A7E81-C993-4B24-93D4-1AED880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DD196-1F92-4EF9-AA61-D0617167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BF195-37F2-4128-AF90-0C25E05A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42423B-2BAF-4E86-8454-8DEC4D50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D6122-1159-4B26-93D2-97C93FC4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CCC1B-12F9-4A0B-8F9B-E59EB6F4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D97-961C-46E4-B18A-2976088C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70A1E-4384-4CA2-8891-1CF99A09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E61F0-A231-41A3-9134-E83E4CF8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623CC-22BE-4E30-90D2-EFFE2DC5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E7AAD-9867-4C59-966B-5F2DEB20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37D14-6181-4298-B28A-AAA27992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F9744-83D8-45F4-9697-5EF0A82E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36596-9C2B-4999-A808-4934F7F6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364D8-769A-41B1-BA94-5E9F3AF1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8ABB7-ACC1-4DBF-9E82-F21ABBCD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F3629F-811F-45A5-ADB4-817EA76B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E14-A12F-4939-8078-4E71B5AF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B6C4F-6A9C-43EC-A18A-B09A4C8A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A4D7F8-25BF-4808-B3BB-ACC5FEFF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38404-1D7E-4DD9-9CF4-AA7B808A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6E89C-3DBB-40EC-8DCB-720CCBE7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C0350-A168-43D9-AA27-7B2BF7AB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C7872-4097-4B8C-96C6-92739FD8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60B21C-E9DF-4614-9EEB-6E77E9C0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22AA5-5020-46C7-8EC5-EB5A376B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8DBC0-8B11-4494-8316-082AAE9C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38AD2-18A3-4DE7-B0F4-DE64D2CF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31B-481F-448F-8057-DB94CAC3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07EF8-E9FD-4D47-8B12-8686EDEA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E1A55-EF61-457E-8C65-BE0AF82E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1723D-B948-41DC-A498-02FC3186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922E8-38F4-4056-A67A-1FB81D57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6E5FD-4ABD-488B-BDCD-6B30629A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E4DA3-10DF-45ED-8E23-0731CD62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44C36-AB0A-454F-910E-01802D1B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ADFC8-D9A2-492B-B287-578C2375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28DA2-8490-4C37-9328-39D6D02B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822D1-BAFC-42B9-9168-96735549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76D-9ED0-43AE-BD22-A14F13B5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D8C30-C6D1-43D8-8C0A-9EFFA3A1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3E3D9-7005-470E-B527-D1AF71F3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03C02-7594-4FA5-84A6-21040BD3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0D015-0462-41EC-B228-B24CAF64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B5743-AF3E-4CF0-8A59-1757D7CE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FF340-F022-4A8F-9BA0-9FDB79F1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C3AC9-4EB7-4E47-BDFC-30573CE8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E4802-54BF-4AA6-896C-C5D087A4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86315-3EF9-4120-97B6-D458DEC6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D31FD-838A-444F-9C20-6C4607F8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F9A-6648-410B-A93D-8140E7FE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22451-775F-4DA2-8975-0EFCB576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3DF69-2447-4838-B8DA-6CC4F1DC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81414-3B90-4902-9D8D-BAE434C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B18A8-8800-4ACE-B8D7-B7FA7C2E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88EFA-9504-42B4-835B-56996828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85D34-5954-47B7-8CA1-81869EA9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6631A-53A1-4606-A73E-8367BD99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A5E29-0855-4ED3-A4E2-B7E5BC1F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AB406-FF04-4152-A0DC-9D172E3F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F36D8-EBF6-4ED4-9FAB-081D54C0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FC8B-66BF-4FA7-9016-DBA48E219D7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1D9AC71-5E71-4911-B2E2-53A4446D624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00AE-C797-44F9-900A-C3A827F74CCC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D75F-FCA6-4AF1-90CA-AC2CA828E46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C7A997BA-A3D2-4A46-BAC6-05A24908B3A7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500B-5D44-41FC-9BF6-89921A3F664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16BB-7CC1-4672-BED6-5E2265EC21F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C244527D-0721-4B16-AC4A-0D9076AFEB5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B49A-C745-4F52-81EA-66BE8C8A76C5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0EB6-CEE1-403E-A759-33850072E503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1FAA9C9-3EAD-4DE7-9959-0B1E82CD9C20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55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eece1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4DF3-8305-4807-9BEE-1F1823AD170D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BA86-E8FB-457D-9A94-907448EB283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D4A9CD9E-35C9-48E2-9FE3-54C42049C42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74A9-0252-4430-A17E-E93A8A86E2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917B-D4AE-48CF-A000-A6ECE74E405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29D0B4C-39DC-4B9A-8E6E-3FFA9940A4D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640D-492B-49E7-B251-72EF146A16A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A889-F4BF-48CB-A202-1E415632FCC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3A8952A-2B29-4D61-8BEA-62C77D7344A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B3B1-A955-4A39-98C0-E054A31F9B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F8E9-24E5-4A11-A90F-5047344C545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9630F5D-6900-494E-921B-94636D84CB6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09F5-338A-4CFD-A138-D8CE39854B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6C7D-10DE-4DBB-B583-B4E8593E478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F273E3A-F61A-4A9E-9A16-D75FD1DAE66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7DE0-DA74-4E80-83E7-3C3363EF25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D901-8554-4442-A1EB-E05A76F6732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12AC12C-C6AD-4CD7-AA9B-5B66DD984A9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AD80-BD06-41C0-9BF6-A892B4CE5343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1463-7981-4209-B7EB-076C9FEDE51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1143FFE-B0C5-47E5-BFC1-803316D45B0E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C9CD-771E-4649-97EB-3CDCBEA167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eece1"/>
                </a:solidFill>
                <a:latin typeface="Tw Cen MT"/>
              </a:rPr>
              <a:t>WYTRZYMAŁOŚĆ MATERIAŁÓW - CZ. 1</a:t>
            </a:r>
            <a:br>
              <a:rPr sz="32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WYKŁADY DLA STUDENTÓW</a:t>
            </a:r>
            <a:br>
              <a:rPr sz="24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STUDIÓW DZIENNYCH, MIBM</a:t>
            </a:r>
            <a:endParaRPr b="0" lang="en-US" sz="2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Opracował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Dr inż. Sylwester Samborski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2590-A85B-45C5-B457-0F018B21C7B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0" y="1599840"/>
            <a:ext cx="91440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Szczegółowa analiza naprężeń i odkształceń w pręcie skręcany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Z „plasterka” dx wycina się myślowo elementarny fragment  o grubości d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(i długości dx) położony w odległości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od osi wału, zawierający punkty E, F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i F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7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1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8FE7-B988-4197-A0E3-C9ED38D9C4F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928800" y="1643040"/>
            <a:ext cx="75578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5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BE1B-9DB7-4730-B2B8-0C680C5CC1C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1600200"/>
            <a:ext cx="89298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Szczegółowa analiza naprężeń i odkształceń w pręcie skręcany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Na zakreskowanych ściankach elementu występują naprężenia styczne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kąt odkształcenia postaciowego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wynosi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                                          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(b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z (a) i (b) wynika, że: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8" name="Object 2"/>
          <p:cNvGraphicFramePr/>
          <p:nvPr/>
        </p:nvGraphicFramePr>
        <p:xfrm>
          <a:off x="1571760" y="3214800"/>
          <a:ext cx="159048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3214800"/>
                    <a:ext cx="1590480" cy="13809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70" name="Object 3"/>
          <p:cNvGraphicFramePr/>
          <p:nvPr/>
        </p:nvGraphicFramePr>
        <p:xfrm>
          <a:off x="4857840" y="4786200"/>
          <a:ext cx="209232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4786200"/>
                    <a:ext cx="2092320" cy="1463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3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C04B-5A8A-4135-9001-94275E3731D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1599840"/>
            <a:ext cx="47862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Naprężenia maksymalne i kąt skręcenia prę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naprężenia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działające na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małym fragmencie dA pola przekroju poprzecznego wału dają elementarny moment dM względem osi wału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76" name="Object 3"/>
          <p:cNvGraphicFramePr/>
          <p:nvPr/>
        </p:nvGraphicFramePr>
        <p:xfrm>
          <a:off x="1071720" y="5214960"/>
          <a:ext cx="31575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5214960"/>
                    <a:ext cx="3157560" cy="857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78" name="Picture 4" descr=""/>
          <p:cNvPicPr/>
          <p:nvPr/>
        </p:nvPicPr>
        <p:blipFill>
          <a:blip r:embed="rId3"/>
          <a:stretch/>
        </p:blipFill>
        <p:spPr>
          <a:xfrm>
            <a:off x="4857840" y="1928880"/>
            <a:ext cx="40734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0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9483-0860-4C5E-A06F-72F6FB139FD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1599840"/>
            <a:ext cx="89298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Naprężenia maksymalne i kąt skręcenia prę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Z warunków równowagi pręta (</a:t>
            </a:r>
            <a:r>
              <a:rPr b="0" lang="pl-PL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pl-PL" sz="2900" spc="-1" strike="noStrike" baseline="-25000">
                <a:solidFill>
                  <a:srgbClr val="000000"/>
                </a:solidFill>
                <a:latin typeface="Tw Cen MT"/>
              </a:rPr>
              <a:t>ix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) wynika, że suma momentów elementarnych dM w całym przekroju wału musi równoważyć zewnętrzny moment skręcający M</a:t>
            </a:r>
            <a:r>
              <a:rPr b="0" lang="pl-PL" sz="2900" spc="-1" strike="noStrike" baseline="-25000">
                <a:solidFill>
                  <a:srgbClr val="000000"/>
                </a:solidFill>
                <a:latin typeface="Tw Cen MT"/>
              </a:rPr>
              <a:t>s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(*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ale:                           ,     stą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83" name="Object 3"/>
          <p:cNvGraphicFramePr/>
          <p:nvPr/>
        </p:nvGraphicFramePr>
        <p:xfrm>
          <a:off x="2286000" y="3500280"/>
          <a:ext cx="42354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500280"/>
                    <a:ext cx="4235400" cy="1170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5" name="Object 5"/>
          <p:cNvGraphicFramePr/>
          <p:nvPr/>
        </p:nvGraphicFramePr>
        <p:xfrm>
          <a:off x="1500120" y="4929120"/>
          <a:ext cx="1903320" cy="13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4929120"/>
                    <a:ext cx="1903320" cy="1306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7" name="Object 6"/>
          <p:cNvGraphicFramePr/>
          <p:nvPr/>
        </p:nvGraphicFramePr>
        <p:xfrm>
          <a:off x="5429160" y="5000760"/>
          <a:ext cx="2266920" cy="12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5000760"/>
                    <a:ext cx="2266920" cy="12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536C-5CBE-40B4-A5AB-880BEDA4E63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1599840"/>
            <a:ext cx="89298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Naprężenia maksymalne i kąt skręcenia prę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podstawiając dwa ostatnie wzory do (*) otrzymuje się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ostatnia całka jest funkcją wyłącznie wymiarów przekroju poprzecznego wału (pewną charakterystyką geometryczną), którą nazwano 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biegunowym momentem bezwładności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przekroju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93" name="Object 3"/>
          <p:cNvGraphicFramePr/>
          <p:nvPr/>
        </p:nvGraphicFramePr>
        <p:xfrm>
          <a:off x="1214280" y="2500200"/>
          <a:ext cx="641376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500200"/>
                    <a:ext cx="6413760" cy="1452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3071880" y="5214960"/>
          <a:ext cx="2214360" cy="10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5214960"/>
                    <a:ext cx="2214360" cy="1069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C9AC-D546-4CCF-86DF-9F444BC6FB6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1599840"/>
            <a:ext cx="89298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Naprężenia maksymalne i kąt skręcenia prę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yrażenie na </a:t>
            </a:r>
            <a:r>
              <a:rPr b="0" lang="pl-PL" sz="2900" spc="-1" strike="noStrike">
                <a:solidFill>
                  <a:srgbClr val="00b0f0"/>
                </a:solidFill>
                <a:latin typeface="Tw Cen MT"/>
              </a:rPr>
              <a:t>maksymalne naprężenia tnące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zyjmuje posta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01" name="Object 3"/>
          <p:cNvGraphicFramePr/>
          <p:nvPr/>
        </p:nvGraphicFramePr>
        <p:xfrm>
          <a:off x="2571840" y="3500280"/>
          <a:ext cx="3576600" cy="18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3500280"/>
                    <a:ext cx="3576600" cy="187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4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2764-5D6D-4225-A9C7-BA157AC20BC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1599840"/>
            <a:ext cx="89298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Naprężenia maksymalne i kąt skręcenia prę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onadt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Ale:                       stąd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07" name="Object 4"/>
          <p:cNvGraphicFramePr/>
          <p:nvPr/>
        </p:nvGraphicFramePr>
        <p:xfrm>
          <a:off x="2286000" y="2357280"/>
          <a:ext cx="298620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57280"/>
                    <a:ext cx="2986200" cy="1343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9" name="Object 4"/>
          <p:cNvGraphicFramePr/>
          <p:nvPr/>
        </p:nvGraphicFramePr>
        <p:xfrm>
          <a:off x="1143000" y="4089240"/>
          <a:ext cx="1785960" cy="12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089240"/>
                    <a:ext cx="1785960" cy="1249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1" name="Object 5"/>
          <p:cNvGraphicFramePr/>
          <p:nvPr/>
        </p:nvGraphicFramePr>
        <p:xfrm>
          <a:off x="4640400" y="4089240"/>
          <a:ext cx="194292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0400" y="4089240"/>
                    <a:ext cx="1942920" cy="1268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4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E718-7E5E-4776-9F78-091918F387A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1599840"/>
            <a:ext cx="89298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Naprężenia maksymalne i kąt skręcenia prę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b0f0"/>
                </a:solidFill>
                <a:latin typeface="Tw Cen MT"/>
              </a:rPr>
              <a:t>Kąt skręcenia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ału (inaczej: </a:t>
            </a:r>
            <a:r>
              <a:rPr b="0" lang="pl-PL" sz="2900" spc="-1" strike="noStrike">
                <a:solidFill>
                  <a:srgbClr val="00b0f0"/>
                </a:solidFill>
                <a:latin typeface="Tw Cen MT"/>
              </a:rPr>
              <a:t>kąt obrotu przekroju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, np. całkowity kąt skręcenia lub kąt skręcenia pewnego odcinka wału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zy M</a:t>
            </a:r>
            <a:r>
              <a:rPr b="0" lang="pl-PL" sz="2900" spc="-1" strike="noStrike" baseline="-25000">
                <a:solidFill>
                  <a:srgbClr val="000000"/>
                </a:solidFill>
                <a:latin typeface="Tw Cen MT"/>
              </a:rPr>
              <a:t>s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=con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17" name="Object 5"/>
          <p:cNvGraphicFramePr/>
          <p:nvPr/>
        </p:nvGraphicFramePr>
        <p:xfrm>
          <a:off x="2857680" y="3143160"/>
          <a:ext cx="354636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3143160"/>
                    <a:ext cx="3546360" cy="13795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9" name="Object 5"/>
          <p:cNvGraphicFramePr/>
          <p:nvPr/>
        </p:nvGraphicFramePr>
        <p:xfrm>
          <a:off x="2857680" y="5000760"/>
          <a:ext cx="1573200" cy="121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7680" y="5000760"/>
                    <a:ext cx="1573200" cy="1215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7086-51C9-485A-A659-E8F85AAAFD8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1599840"/>
            <a:ext cx="89298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Naprężenia maksymalne i kąt skręcenia prę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zy M</a:t>
            </a:r>
            <a:r>
              <a:rPr b="0" lang="pl-PL" sz="2900" spc="-1" strike="noStrike" baseline="-25000">
                <a:solidFill>
                  <a:srgbClr val="000000"/>
                </a:solidFill>
                <a:latin typeface="Tw Cen MT"/>
              </a:rPr>
              <a:t>s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=con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b0f0"/>
                </a:solidFill>
                <a:latin typeface="Tw Cen MT"/>
              </a:rPr>
              <a:t>Jednostkowy kąt skręcenia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wału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25" name="Object 5"/>
          <p:cNvGraphicFramePr/>
          <p:nvPr/>
        </p:nvGraphicFramePr>
        <p:xfrm>
          <a:off x="3197160" y="2286000"/>
          <a:ext cx="302904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7160" y="2286000"/>
                    <a:ext cx="3029040" cy="1430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7" name="Object 4"/>
          <p:cNvGraphicFramePr/>
          <p:nvPr/>
        </p:nvGraphicFramePr>
        <p:xfrm>
          <a:off x="2500200" y="4429080"/>
          <a:ext cx="412272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4429080"/>
                    <a:ext cx="4122720" cy="1473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7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580A-06A8-4FF9-B3AB-0FC492E452A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12720" y="1600200"/>
            <a:ext cx="81532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Skręcanie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powodują dwie pary sił, działające w dwu różnych płaszczyznach prostopadłych do osi pręta (wału); momenty tych par sił to 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momenty skręcające (</a:t>
            </a:r>
            <a:r>
              <a:rPr b="0" i="1" lang="pl-PL" sz="2700" spc="-1" strike="noStrike">
                <a:solidFill>
                  <a:srgbClr val="00b0f0"/>
                </a:solidFill>
                <a:latin typeface="Tw Cen MT"/>
              </a:rPr>
              <a:t>M</a:t>
            </a:r>
            <a:r>
              <a:rPr b="0" lang="pl-PL" sz="2700" spc="-1" strike="noStrike" baseline="-25000">
                <a:solidFill>
                  <a:srgbClr val="00b0f0"/>
                </a:solidFill>
                <a:latin typeface="Tw Cen MT"/>
              </a:rPr>
              <a:t>s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)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Moment skręcający jest dodatni, gdy wektor momentu jest zwrócony na zewnątrz wycinka wału (wektor </a:t>
            </a:r>
            <a:r>
              <a:rPr b="0" i="1" lang="pl-PL" sz="27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s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pozornie „rozciąga” wał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10" name="Grupa 42"/>
          <p:cNvGrpSpPr/>
          <p:nvPr/>
        </p:nvGrpSpPr>
        <p:grpSpPr>
          <a:xfrm>
            <a:off x="2643120" y="4429080"/>
            <a:ext cx="3928680" cy="1643040"/>
            <a:chOff x="2643120" y="4429080"/>
            <a:chExt cx="3928680" cy="1643040"/>
          </a:xfrm>
        </p:grpSpPr>
        <p:sp>
          <p:nvSpPr>
            <p:cNvPr id="511" name="Strzałka w górę 6"/>
            <p:cNvSpPr/>
            <p:nvPr/>
          </p:nvSpPr>
          <p:spPr>
            <a:xfrm flipH="1" rot="5400000">
              <a:off x="5764680" y="4648680"/>
              <a:ext cx="410760" cy="1202760"/>
            </a:xfrm>
            <a:prstGeom prst="upArrow">
              <a:avLst>
                <a:gd name="adj1" fmla="val 50000"/>
                <a:gd name="adj2" fmla="val 39042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2" name="Strzałka w górę 7"/>
            <p:cNvSpPr/>
            <p:nvPr/>
          </p:nvSpPr>
          <p:spPr>
            <a:xfrm rot="16200000">
              <a:off x="3039120" y="4648680"/>
              <a:ext cx="410760" cy="1202760"/>
            </a:xfrm>
            <a:prstGeom prst="upArrow">
              <a:avLst>
                <a:gd name="adj1" fmla="val 50000"/>
                <a:gd name="adj2" fmla="val 39042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3" name="Strzałka w górę 8"/>
            <p:cNvSpPr/>
            <p:nvPr/>
          </p:nvSpPr>
          <p:spPr>
            <a:xfrm rot="16200000">
              <a:off x="3279600" y="4648680"/>
              <a:ext cx="410760" cy="1202760"/>
            </a:xfrm>
            <a:prstGeom prst="upArrow">
              <a:avLst>
                <a:gd name="adj1" fmla="val 50000"/>
                <a:gd name="adj2" fmla="val 39042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4" name="Łącznik prosty 9"/>
            <p:cNvSpPr/>
            <p:nvPr/>
          </p:nvSpPr>
          <p:spPr>
            <a:xfrm>
              <a:off x="4166640" y="5250600"/>
              <a:ext cx="882000" cy="2160"/>
            </a:xfrm>
            <a:prstGeom prst="line">
              <a:avLst/>
            </a:prstGeom>
            <a:ln w="10080">
              <a:solidFill>
                <a:srgbClr val="9bbb59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5" name="Text Box 2"/>
            <p:cNvSpPr/>
            <p:nvPr/>
          </p:nvSpPr>
          <p:spPr>
            <a:xfrm>
              <a:off x="3124080" y="4429080"/>
              <a:ext cx="744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i="1" lang="pl-PL" sz="3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6" name="Text Box 2"/>
            <p:cNvSpPr/>
            <p:nvPr/>
          </p:nvSpPr>
          <p:spPr>
            <a:xfrm>
              <a:off x="5426640" y="4429080"/>
              <a:ext cx="744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i="1" lang="pl-PL" sz="3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7" name="Plus 12"/>
            <p:cNvSpPr/>
            <p:nvPr/>
          </p:nvSpPr>
          <p:spPr>
            <a:xfrm>
              <a:off x="4326840" y="4899240"/>
              <a:ext cx="561240" cy="718920"/>
            </a:xfrm>
            <a:custGeom>
              <a:avLst/>
              <a:gdLst>
                <a:gd name="textAreaLeft" fmla="*/ 74160 w 561240"/>
                <a:gd name="textAreaRight" fmla="*/ 487080 w 561240"/>
                <a:gd name="textAreaTop" fmla="*/ 275040 h 718920"/>
                <a:gd name="textAreaBottom" fmla="*/ 443880 h 718920"/>
              </a:gdLst>
              <a:ahLst/>
              <a:rect l="textAreaLeft" t="textAreaTop" r="textAreaRight" b="textAreaBottom"/>
              <a:pathLst>
                <a:path w="500066" h="500066">
                  <a:moveTo>
                    <a:pt x="66284" y="191225"/>
                  </a:moveTo>
                  <a:lnTo>
                    <a:pt x="191225" y="191225"/>
                  </a:lnTo>
                  <a:lnTo>
                    <a:pt x="191225" y="66284"/>
                  </a:lnTo>
                  <a:lnTo>
                    <a:pt x="308841" y="66284"/>
                  </a:lnTo>
                  <a:lnTo>
                    <a:pt x="308841" y="191225"/>
                  </a:lnTo>
                  <a:lnTo>
                    <a:pt x="433782" y="191225"/>
                  </a:lnTo>
                  <a:lnTo>
                    <a:pt x="433782" y="308841"/>
                  </a:lnTo>
                  <a:lnTo>
                    <a:pt x="308841" y="308841"/>
                  </a:lnTo>
                  <a:lnTo>
                    <a:pt x="308841" y="433782"/>
                  </a:lnTo>
                  <a:lnTo>
                    <a:pt x="191225" y="433782"/>
                  </a:lnTo>
                  <a:lnTo>
                    <a:pt x="191225" y="308841"/>
                  </a:lnTo>
                  <a:lnTo>
                    <a:pt x="66284" y="308841"/>
                  </a:lnTo>
                  <a:close/>
                </a:path>
              </a:pathLst>
            </a:custGeom>
            <a:solidFill>
              <a:srgbClr val="9bbb59"/>
            </a:solidFill>
            <a:ln w="19080">
              <a:solidFill>
                <a:srgbClr val="7189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8" name="Prostokąt 13"/>
            <p:cNvSpPr/>
            <p:nvPr/>
          </p:nvSpPr>
          <p:spPr>
            <a:xfrm>
              <a:off x="4246920" y="4531680"/>
              <a:ext cx="721440" cy="1540440"/>
            </a:xfrm>
            <a:prstGeom prst="rect">
              <a:avLst/>
            </a:prstGeom>
            <a:noFill/>
            <a:ln w="190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9" name="Strzałka w górę 14"/>
            <p:cNvSpPr/>
            <p:nvPr/>
          </p:nvSpPr>
          <p:spPr>
            <a:xfrm flipH="1" rot="5400000">
              <a:off x="5524200" y="4648680"/>
              <a:ext cx="410760" cy="1202760"/>
            </a:xfrm>
            <a:prstGeom prst="upArrow">
              <a:avLst>
                <a:gd name="adj1" fmla="val 50000"/>
                <a:gd name="adj2" fmla="val 39042"/>
              </a:avLst>
            </a:prstGeom>
            <a:solidFill>
              <a:srgbClr val="9bbb59"/>
            </a:solidFill>
            <a:ln w="190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0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2C22-24AD-48D0-8B93-182C56E9D91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-360" y="1599840"/>
            <a:ext cx="43578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Biegunowy moment bezwładności przekroju kołoweg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Z definicji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Niech pole elementarne dA będzie pierścieniem o szerokości d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, którego punkty leżą w jednakowej odległości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od środka O przekroju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33" name="Object 4"/>
          <p:cNvGraphicFramePr/>
          <p:nvPr/>
        </p:nvGraphicFramePr>
        <p:xfrm>
          <a:off x="1928880" y="2500200"/>
          <a:ext cx="164304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2500200"/>
                    <a:ext cx="1643040" cy="793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35" name="Picture 6" descr=""/>
          <p:cNvPicPr/>
          <p:nvPr/>
        </p:nvPicPr>
        <p:blipFill>
          <a:blip r:embed="rId3"/>
          <a:stretch/>
        </p:blipFill>
        <p:spPr>
          <a:xfrm>
            <a:off x="4664160" y="207180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7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CCD0-371D-41B4-8DA6-C2E245A65B6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1600200"/>
            <a:ext cx="8929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Biegunowy moment bezwładności przekroju kołowe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ted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Ostateczni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40" name="Object 4"/>
          <p:cNvGraphicFramePr/>
          <p:nvPr/>
        </p:nvGraphicFramePr>
        <p:xfrm>
          <a:off x="2786040" y="4429080"/>
          <a:ext cx="322416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4429080"/>
                    <a:ext cx="3224160" cy="1312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2" name="Object 4"/>
          <p:cNvGraphicFramePr/>
          <p:nvPr/>
        </p:nvGraphicFramePr>
        <p:xfrm>
          <a:off x="195120" y="2786040"/>
          <a:ext cx="878688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120" y="2786040"/>
                    <a:ext cx="8786880" cy="1114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7" descr=""/>
          <p:cNvPicPr/>
          <p:nvPr/>
        </p:nvPicPr>
        <p:blipFill>
          <a:blip r:embed="rId1"/>
          <a:stretch/>
        </p:blipFill>
        <p:spPr>
          <a:xfrm>
            <a:off x="6540480" y="4286160"/>
            <a:ext cx="2411280" cy="241164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4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84A3-C196-4E3C-B7DF-4E3AABCFB0D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0" y="1600200"/>
            <a:ext cx="914400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Obliczenia wytrzymałościowe na skręcanie wału pełne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                                     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stą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900" spc="-1" strike="noStrike">
                <a:solidFill>
                  <a:srgbClr val="000000"/>
                </a:solidFill>
                <a:latin typeface="Tw Cen MT"/>
              </a:rPr>
              <a:t>W</a:t>
            </a:r>
            <a:r>
              <a:rPr b="0" lang="pl-PL" sz="2900" spc="-1" strike="noStrike" baseline="-25000">
                <a:solidFill>
                  <a:srgbClr val="000000"/>
                </a:solidFill>
                <a:latin typeface="Tw Cen MT"/>
              </a:rPr>
              <a:t>O</a:t>
            </a: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 jest to </a:t>
            </a:r>
            <a:r>
              <a:rPr b="0" lang="pl-PL" sz="2900" spc="-1" strike="noStrike">
                <a:solidFill>
                  <a:srgbClr val="00b0f0"/>
                </a:solidFill>
                <a:latin typeface="Tw Cen MT"/>
              </a:rPr>
              <a:t>wskaźnik wytrzymałości przekroju na skręcan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 przypadku przekroju kołowego pełneg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49" name="Object 4"/>
          <p:cNvGraphicFramePr/>
          <p:nvPr/>
        </p:nvGraphicFramePr>
        <p:xfrm>
          <a:off x="514440" y="2357280"/>
          <a:ext cx="3419280" cy="12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2357280"/>
                    <a:ext cx="3419280" cy="124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1" name="Object 5"/>
          <p:cNvGraphicFramePr/>
          <p:nvPr/>
        </p:nvGraphicFramePr>
        <p:xfrm>
          <a:off x="5465880" y="2357280"/>
          <a:ext cx="1639800" cy="115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65880" y="2357280"/>
                    <a:ext cx="1639800" cy="11559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3" name="Object 6"/>
          <p:cNvGraphicFramePr/>
          <p:nvPr/>
        </p:nvGraphicFramePr>
        <p:xfrm>
          <a:off x="2341440" y="4919760"/>
          <a:ext cx="3092400" cy="1230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4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41440" y="4919760"/>
                    <a:ext cx="3092400" cy="123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0" y="160020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Powyższe wzory są słuszne także w przypadku wałów drążonych, przy czym inne są wyrażenia na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200" spc="-1" strike="noStrike" baseline="-25000">
                <a:solidFill>
                  <a:srgbClr val="000000"/>
                </a:solidFill>
                <a:latin typeface="Tw Cen MT"/>
              </a:rPr>
              <a:t>O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200" spc="-1" strike="noStrike" baseline="-25000">
                <a:solidFill>
                  <a:srgbClr val="000000"/>
                </a:solidFill>
                <a:latin typeface="Tw Cen MT"/>
              </a:rPr>
              <a:t>O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, tzn.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Uwaga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: dodawanie/odejmowanie wskaźników (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) jest </a:t>
            </a: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niedopuszczalne!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Addytywne są tylko momenty bezwładności (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1"/>
          <a:stretch/>
        </p:blipFill>
        <p:spPr>
          <a:xfrm>
            <a:off x="5786280" y="2071800"/>
            <a:ext cx="2521080" cy="32288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B896-B41E-4475-9587-93A3C9F18AF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60" name="Object 4"/>
          <p:cNvGraphicFramePr/>
          <p:nvPr/>
        </p:nvGraphicFramePr>
        <p:xfrm>
          <a:off x="642960" y="2330280"/>
          <a:ext cx="4071960" cy="19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2330280"/>
                    <a:ext cx="4071960" cy="1962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2" name="Object 3"/>
          <p:cNvGraphicFramePr/>
          <p:nvPr/>
        </p:nvGraphicFramePr>
        <p:xfrm>
          <a:off x="642960" y="4402080"/>
          <a:ext cx="398952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2960" y="4402080"/>
                    <a:ext cx="3989520" cy="952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64" name="Grupa 14"/>
          <p:cNvGrpSpPr/>
          <p:nvPr/>
        </p:nvGrpSpPr>
        <p:grpSpPr>
          <a:xfrm>
            <a:off x="6072120" y="5715000"/>
            <a:ext cx="2786040" cy="928800"/>
            <a:chOff x="6072120" y="5715000"/>
            <a:chExt cx="2786040" cy="928800"/>
          </a:xfrm>
        </p:grpSpPr>
        <p:graphicFrame>
          <p:nvGraphicFramePr>
            <p:cNvPr id="665" name="Object 5"/>
            <p:cNvGraphicFramePr/>
            <p:nvPr/>
          </p:nvGraphicFramePr>
          <p:xfrm>
            <a:off x="6072120" y="5857920"/>
            <a:ext cx="2741040" cy="642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66" name="Object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72120" y="5857920"/>
                      <a:ext cx="2741040" cy="64296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67" name="Łącznik prosty 10"/>
            <p:cNvSpPr/>
            <p:nvPr/>
          </p:nvSpPr>
          <p:spPr>
            <a:xfrm>
              <a:off x="6143400" y="5715000"/>
              <a:ext cx="2428920" cy="9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8" name="Łącznik prosty 11"/>
            <p:cNvSpPr/>
            <p:nvPr/>
          </p:nvSpPr>
          <p:spPr>
            <a:xfrm flipV="1">
              <a:off x="6286320" y="5715000"/>
              <a:ext cx="2571840" cy="9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70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52FA-6622-46AC-BA89-14FED07B390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0" y="160020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Warunek wytrzymałości na skręcani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                                  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Uwaga: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dodatkowo należy sprawdzić 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warunek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dostatecznej 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sztywności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skrętnej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Zazwyczaj </a:t>
            </a:r>
            <a:r>
              <a:rPr b="0" i="1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dop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=0,25deg/m=0,00436rad/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3247920" y="2071800"/>
          <a:ext cx="25164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7920" y="2071800"/>
                    <a:ext cx="2516400" cy="1155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3571920" y="4392720"/>
          <a:ext cx="1979640" cy="96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920" y="4392720"/>
                    <a:ext cx="1979640" cy="963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6" descr=""/>
          <p:cNvPicPr/>
          <p:nvPr/>
        </p:nvPicPr>
        <p:blipFill>
          <a:blip r:embed="rId1"/>
          <a:srcRect l="71852" t="20236" r="0" b="26947"/>
          <a:stretch/>
        </p:blipFill>
        <p:spPr>
          <a:xfrm>
            <a:off x="6143760" y="1714680"/>
            <a:ext cx="2786040" cy="46846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6" descr=""/>
          <p:cNvPicPr/>
          <p:nvPr/>
        </p:nvPicPr>
        <p:blipFill>
          <a:blip r:embed="rId2"/>
          <a:stretch/>
        </p:blipFill>
        <p:spPr>
          <a:xfrm>
            <a:off x="398520" y="2728800"/>
            <a:ext cx="4473360" cy="40086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 txBox="1"/>
          <p:nvPr/>
        </p:nvSpPr>
        <p:spPr>
          <a:xfrm>
            <a:off x="-360" y="1599840"/>
            <a:ext cx="57862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Energia sprężysta w pręcie skręcany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Rozpatrzmy pręt o dług. </a:t>
            </a:r>
            <a:r>
              <a:rPr b="0" i="1" lang="pl-PL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i średnicy 2</a:t>
            </a:r>
            <a:r>
              <a:rPr b="0" i="1" lang="pl-PL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utwierdzony z lewej stron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81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7F29-614D-4435-894B-67E62A3995B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6" descr=""/>
          <p:cNvPicPr/>
          <p:nvPr/>
        </p:nvPicPr>
        <p:blipFill>
          <a:blip r:embed="rId1"/>
          <a:srcRect l="71852" t="20236" r="0" b="26947"/>
          <a:stretch/>
        </p:blipFill>
        <p:spPr>
          <a:xfrm>
            <a:off x="6143760" y="1714680"/>
            <a:ext cx="2786040" cy="468468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 txBox="1"/>
          <p:nvPr/>
        </p:nvSpPr>
        <p:spPr>
          <a:xfrm>
            <a:off x="0" y="1600200"/>
            <a:ext cx="61437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Energia sprężysta w pręcie skręcany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Moment pary sił wynosi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a kąt skręcenia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Zakłada się, że siły </a:t>
            </a:r>
            <a:r>
              <a:rPr b="0" i="1" lang="pl-PL" sz="2700" spc="-1" strike="noStrike">
                <a:solidFill>
                  <a:srgbClr val="000000"/>
                </a:solidFill>
                <a:latin typeface="Tw Cen MT"/>
              </a:rPr>
              <a:t>P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są przykładane 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quasi-statycznie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i są 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stale styczne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do okręgu. Praca każdej z sił na drodze łukowej AA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=BB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=r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wynosi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8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0F82-4045-42EF-A331-A0C49B5F818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88" name="Object 2"/>
          <p:cNvGraphicFramePr/>
          <p:nvPr/>
        </p:nvGraphicFramePr>
        <p:xfrm>
          <a:off x="3786120" y="2000160"/>
          <a:ext cx="1500120" cy="47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6120" y="2000160"/>
                    <a:ext cx="1500120" cy="473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0" name="Object 5"/>
          <p:cNvGraphicFramePr/>
          <p:nvPr/>
        </p:nvGraphicFramePr>
        <p:xfrm>
          <a:off x="3000240" y="2643120"/>
          <a:ext cx="1285920" cy="911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00240" y="2643120"/>
                    <a:ext cx="1285920" cy="911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2" name="Object 4"/>
          <p:cNvGraphicFramePr/>
          <p:nvPr/>
        </p:nvGraphicFramePr>
        <p:xfrm>
          <a:off x="1941480" y="5143680"/>
          <a:ext cx="2251080" cy="114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1480" y="5143680"/>
                    <a:ext cx="2251080" cy="1143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6" descr=""/>
          <p:cNvPicPr/>
          <p:nvPr/>
        </p:nvPicPr>
        <p:blipFill>
          <a:blip r:embed="rId1"/>
          <a:stretch/>
        </p:blipFill>
        <p:spPr>
          <a:xfrm>
            <a:off x="5000760" y="2000160"/>
            <a:ext cx="3875040" cy="407844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 txBox="1"/>
          <p:nvPr/>
        </p:nvSpPr>
        <p:spPr>
          <a:xfrm>
            <a:off x="213840" y="1600200"/>
            <a:ext cx="4714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Energia sprężysta w pręcie skręcany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Praca obu sił to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czyli pole trójkąta na wykresie obok; praca ta jest równa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energii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sprężystej 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odkształcenia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postaciowego: L=V, a więc energii potencjalnej „zmagazynowanej” w skręconym pręc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7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F17E-23A0-4160-B331-A728C2B4FCF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99" name="Object 4"/>
          <p:cNvGraphicFramePr/>
          <p:nvPr/>
        </p:nvGraphicFramePr>
        <p:xfrm>
          <a:off x="571680" y="2928960"/>
          <a:ext cx="421452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2928960"/>
                    <a:ext cx="4214520" cy="1079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6" descr=""/>
          <p:cNvPicPr/>
          <p:nvPr/>
        </p:nvPicPr>
        <p:blipFill>
          <a:blip r:embed="rId1"/>
          <a:stretch/>
        </p:blipFill>
        <p:spPr>
          <a:xfrm>
            <a:off x="5268960" y="1928880"/>
            <a:ext cx="3875040" cy="40780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 txBox="1"/>
          <p:nvPr/>
        </p:nvSpPr>
        <p:spPr>
          <a:xfrm>
            <a:off x="213840" y="1599840"/>
            <a:ext cx="492948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Energia sprężysta w pręcie skręcany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Stą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a wyrażenie na </a:t>
            </a: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energię sprężystą w pręcie skręcanym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zapisuje się najczęściej w postaci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4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A5A9-55DF-4B38-BA70-8792F5E39ED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06" name="Object 4"/>
          <p:cNvGraphicFramePr/>
          <p:nvPr/>
        </p:nvGraphicFramePr>
        <p:xfrm>
          <a:off x="1143000" y="2428920"/>
          <a:ext cx="414324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28920"/>
                    <a:ext cx="4143240" cy="936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8" name="Object 7"/>
          <p:cNvGraphicFramePr/>
          <p:nvPr/>
        </p:nvGraphicFramePr>
        <p:xfrm>
          <a:off x="1714680" y="4714920"/>
          <a:ext cx="2106360" cy="14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4680" y="4714920"/>
                    <a:ext cx="2106360" cy="1484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214200" y="1599840"/>
            <a:ext cx="8715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aca a moc momentu skręcającego (obrotowego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12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39AA-1F64-4FC3-90E1-6E566B4868C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1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8199-114B-4A8F-B856-F79340F9CF7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0" y="15998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Analiza odkształceń pręta poddanego skręcaniu (wału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428760" y="2357280"/>
            <a:ext cx="84214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751F-D3B6-40D7-BD04-CF0CDB9212D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1600200"/>
            <a:ext cx="56437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Analiza odkształceń pręta poddanego skręcaniu (wału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tworząca A</a:t>
            </a:r>
            <a:r>
              <a:rPr b="0" lang="pl-PL" sz="22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2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– początkowo linia prosta przybiera po skręceniu kształt linii śrubowej AD, o stałym kącie nachylenia </a:t>
            </a:r>
            <a:r>
              <a:rPr b="0" i="1" lang="pl-PL" sz="2200" spc="-1" strike="noStrike">
                <a:solidFill>
                  <a:srgbClr val="ff0000"/>
                </a:solidFill>
                <a:latin typeface="Symbol"/>
                <a:ea typeface="Symbol"/>
              </a:rPr>
              <a:t>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i="1" lang="pl-PL" sz="2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=const,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przekroje końcowe pręta pozostają płaskie, zaś długość (l) oraz średnica (d) nie zmieniają się, tzn. V=const,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linie obwodowe pozostają płaskie i zachowują kształt okręgów,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promień OD</a:t>
            </a:r>
            <a:r>
              <a:rPr b="0" lang="pl-PL" sz="22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narysowany na końcowym przekroju pręta pozostaje przy skręcaniu linią prostą, a kąt jego obrotu 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) nazywa się </a:t>
            </a:r>
            <a:r>
              <a:rPr b="0" lang="pl-PL" sz="2200" spc="-1" strike="noStrike">
                <a:solidFill>
                  <a:srgbClr val="00b0f0"/>
                </a:solidFill>
                <a:latin typeface="Tw Cen MT"/>
              </a:rPr>
              <a:t>kątem skręcenia wału 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lub </a:t>
            </a:r>
            <a:r>
              <a:rPr b="0" lang="pl-PL" sz="2200" spc="-1" strike="noStrike">
                <a:solidFill>
                  <a:srgbClr val="00b0f0"/>
                </a:solidFill>
                <a:latin typeface="Tw Cen MT"/>
              </a:rPr>
              <a:t>kątem obrotu przekroj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5718240" y="3357720"/>
            <a:ext cx="32684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1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833F-C9BB-44A7-9BBB-9F8A344DBA9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56760" y="1599840"/>
            <a:ext cx="5286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Analiza odkształceń pręta poddanego skręcaniu (wału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Nprężenia styczne są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do promieni pomyślanych w przekrojach poprzecznych wału i rosną liniowo od zera w osi wału do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maks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na jego powierzchni, zgodnie z zależnością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5857920" y="2428920"/>
            <a:ext cx="2806560" cy="29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5" name="Object 3"/>
          <p:cNvGraphicFramePr/>
          <p:nvPr/>
        </p:nvGraphicFramePr>
        <p:xfrm>
          <a:off x="1714680" y="4786200"/>
          <a:ext cx="1865160" cy="13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4680" y="4786200"/>
                    <a:ext cx="1865160" cy="1370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8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3BB5-6A78-46D1-9AF3-397808D3866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15998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Szczegółowa analiza naprężeń i odkształceń w pręcie skręcany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1" name="Picture 7" descr=""/>
          <p:cNvPicPr/>
          <p:nvPr/>
        </p:nvPicPr>
        <p:blipFill>
          <a:blip r:embed="rId1"/>
          <a:stretch/>
        </p:blipFill>
        <p:spPr>
          <a:xfrm>
            <a:off x="1500120" y="2000160"/>
            <a:ext cx="58593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6E95-4F82-4613-ADC3-2B3A30BD4EB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1214280" y="1571760"/>
            <a:ext cx="73026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6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4C49-66E7-448E-9E1E-6B5688B6A24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0" y="1599840"/>
            <a:ext cx="5214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Szczegółowa analiza naprężeń i odkształceń w pręcie skręcany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Przekrój określony współrzędną x obrócił się o pewien kąt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x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: B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B, tworząca B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x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-kąt obrotu „plasterka” o dł. dx,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BC (linia śrubowa), promień O’C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x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0" i="1" lang="pl-PL" sz="25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-kąt skręcenia plasterka o dł. dx)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O’C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obrót tworzącej BC</a:t>
            </a:r>
            <a:r>
              <a:rPr b="0" lang="pl-PL" sz="1100" spc="-1" strike="noStrike">
                <a:solidFill>
                  <a:srgbClr val="000000"/>
                </a:solidFill>
                <a:latin typeface="Tw Cen MT"/>
              </a:rPr>
              <a:t>1 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o kąt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: C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C=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BC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dx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obrót promienia O’C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o kąt d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1019160" indent="-473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C=O’C</a:t>
            </a:r>
            <a:r>
              <a:rPr b="0" lang="pl-P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=rd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766440" indent="-473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z 1. i 2. wynika: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dx=rd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5384880" y="2786040"/>
            <a:ext cx="36986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1f497d"/>
                </a:solidFill>
                <a:latin typeface="Tw Cen MT"/>
              </a:rPr>
              <a:t>Skręcanie prętów o przekroju kołowym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1" name="Symbol zastępczy stopki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0600-E246-43D5-9FA5-93763FCAA37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1599840"/>
            <a:ext cx="5214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Szczegółowa analiza naprężeń i odkształceń w pręcie skręcany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EF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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BC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, EF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EF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Analogicznie do 1. i 2. jest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obrót tworzącej EF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1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o kąt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: F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F=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EF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dx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obrót promienia O’F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o kąt d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008000" indent="-4680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F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F=O’F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758160" indent="-468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z 3. i 4. wynika: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/dx     (a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5384880" y="2786040"/>
            <a:ext cx="36986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14:40Z</dcterms:created>
  <dc:creator/>
  <dc:description/>
  <dc:language>en-US</dc:language>
  <cp:lastModifiedBy/>
  <dcterms:modified xsi:type="dcterms:W3CDTF">2011-10-05T15:23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5</vt:lpwstr>
  </property>
  <property fmtid="{D5CDD505-2E9C-101B-9397-08002B2CF9AE}" pid="3" name="_TemplateID">
    <vt:lpwstr>TC101671251045</vt:lpwstr>
  </property>
</Properties>
</file>