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7.wmf" ContentType="image/x-wmf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28.png" ContentType="image/png"/>
  <Override PartName="/ppt/media/image16.png" ContentType="image/png"/>
  <Override PartName="/ppt/media/image25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dt" idx="3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ftr" idx="35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 type="sldNum" idx="36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BD08-C89F-40BB-AD07-D0687D223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8E87-2F23-444D-BDA7-EC595F2B8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AC28-2F14-457D-B844-578EEB95D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FC33-7B9F-4863-A44A-B10E9F180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93DD-F71A-4235-BDB9-9951674F8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A19A-5C5A-4D74-9174-A864C966E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4156-BA24-473A-A7FA-32FBA32B3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A66A-8034-4C92-B81D-79AAC81FE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C54E-7C02-4DAB-8B5C-BCFEDBE72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6F2D-47B9-4EB4-A2F0-E7BA3CAFB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670E-873E-4354-A4AF-EBCC8037E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A53E-FD10-4BA6-B49F-5719CD52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DA45-8306-435B-9103-DD2D991C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A713F-E181-4D4C-82D3-F4111FAC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B7641-2917-4BB2-A711-F63CCA04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498D8-DE0B-4EE0-9937-70CFDF3B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E239D-CF8A-44DB-AAFD-5C6B3AB4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D8A90-4730-4A94-976D-5D6C5CD8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2D0E7-8C31-4AB2-B6B3-82BC647F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3190A-5280-49A1-B067-16611EC8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3E2AF-531F-426A-8697-57494EF7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89E63-D4D0-4F0A-B7BF-171550B8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ABEE65-409E-4D9F-B1BC-3EB8D964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0B9-0343-418A-91CB-CFEBD062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5C8183-A632-4A60-8677-6571488D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4D8BB7-6C18-46D0-86F3-60C863CA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A2FBF5-11E3-4A19-9CBB-31A059A3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EAA2CD-B233-45E4-A401-10185844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A6203C-380E-4A08-ACE3-BCCF6629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CD0457-B330-4216-8DFE-BBDC9F80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7B1DAA-A3A9-4C55-ACD6-1D0F0D0B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EBFAC1-5787-4D83-A282-B03B0FC6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C6A054-65C0-4EBB-8EBA-803D9074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8A0861-F903-4189-A3E1-7352ACE7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EBAE-EDBE-41E5-BBF2-27A0EA76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6D3B13-1372-4580-BA23-3F0B3E08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18B22-089F-4BA8-84F3-7B332416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C8517-3C08-4C9C-AF46-2E34A2B3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5AA99-1338-4D16-9892-1FC52878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4CBF1-C788-41D1-AAD1-F57B6A08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FC8F5-DF33-49CB-993E-12D97B09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18D57-D0F6-4543-A25E-29F7880C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2885B-C106-4F9C-A59E-018B0460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8B77C-5F12-4F1C-B103-5C6A4F5B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DFF5B-9F80-4E9C-89E0-55BD9E5A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2E61-B702-41A7-9B58-832A5A57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E8EAF-3032-4741-A021-6CAA61BC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D0E05-9683-46D7-A806-4368C10D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A88B8-4001-4211-A5E5-2C6FEDBD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21FD-220B-4CA7-ADB1-ACCBBD5F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5311-94EC-47D5-A309-7F53803F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68B6-CD97-431D-BB08-3C252A7C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E063-0EE2-4C88-94EC-7BDFEE9C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1773-555A-4408-A2C6-B6257443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47B7-6504-4DEE-9065-96E0B015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EA2-5D3D-4DE1-804E-3C518937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267E-AC2B-4F89-9EA7-30CF6EE1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BBE2-EA23-4264-BD2C-A4445FF5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0D98-A76A-4699-84EE-1E665BD9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B12C-5EA7-46F5-A0E6-C5D68046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07FA-C2C4-4A68-9301-287BF4AE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B22C0-036D-4E13-BECA-4A32864A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41F65-BCF7-4E2D-B7D8-27DAFF6E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C998C-3B9D-4B6B-9672-B032047F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C554A-47C6-4EB0-9F18-9A0AC61E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DD0A9-8C45-4EA1-9CB0-672E62E3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5C9-6BFB-4637-8C7E-D949D9D9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4675F-33D8-4C6C-96C9-B12F9234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7BC25-6EE4-4168-812C-ACE834FD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0A1CC-765F-4E8F-B284-061AF476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A0490-7C9F-4D9B-9A32-8ADFA176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7B2FA-30F5-440A-AC84-0795B1A3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D6C65-8D2C-49E4-A6EA-F7F6C087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341FD-B670-4535-84BF-11544F18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8CE053-2C53-4D91-9099-6126A786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252911-D82C-4437-B09C-A3B02143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1AE94C-9541-4917-A2E3-8FF39E0A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1C9-F41A-48AC-91F2-2D86A13E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D55588-9C08-488E-9672-D19006B4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D97DFA-D759-49A1-BF26-37B637CD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CC3F88-3048-4BF1-A18C-6559A63E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5C5376-8581-47F5-A6F9-2D58023E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56C49-2725-43F0-B8F5-C07460A4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0FFAE1-0538-4F22-9E52-474114D7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320604-3FD9-4753-BBF3-B6FC31CE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FEBA19-C0F7-4015-BEE5-7A46F3AA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382CA6-196E-47A3-A589-956EC718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9AF817-1ECB-4F7A-B04C-11D3FADA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873-44C6-4CEB-A4F0-93E93CB7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4BED24-9BC7-4AE0-BFC0-E552C450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F6E13A-5683-4119-A618-96B6875F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652A52-A7D7-49A1-9D5E-35221DA1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A1D468-81F3-44F3-8C61-2F4C2913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A5DD0E-D0AB-4B28-8234-D2932835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A7CDA8-E66B-4704-8BCB-96BA0767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CD22B-39A6-4D82-9EB9-FA98ED56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025D25-871B-47EF-B45F-FC0E6072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7C9CF2-98EF-4B6A-B77D-6A828047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65B86C-9A7D-4FC2-B156-41BCB411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0859-B5A8-4FA2-9107-3DE2AB38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B5EB6-317F-4231-B15A-180E1A1C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EF7688-AA8D-437F-A5FB-9692961D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C4A66A-D888-46CD-BECC-78FA7C7A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41B162-A498-4E5E-BAB6-75912244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99566-2CCE-48E6-917E-C771D23F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1698B4-78C1-41E9-8918-41D0331D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36581C-E69D-4079-89BB-F54C3148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685F42-D00F-499C-BDE0-36B69E6C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DB6465-2AE7-40FF-931C-1A5E05F5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40CF81-18FA-4585-8972-1EBF22B9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F92-ACF0-4FAB-9578-0AF01285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89AB17-F2E9-4A66-A3A8-30B832EC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14A401-F5A0-4A57-9D0E-C56D4829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71BF8A-653E-4625-812C-BEB2CE76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9EA34-61F1-4981-BD0B-00D66832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1A654-FD49-47CC-BBA3-3E9666F8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FACCD-488F-4EFB-A4E7-F1F64EC3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93D98-BEBA-421D-92F1-949332B3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0B751-4B06-4617-8B58-A4AD4F26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0F46C-0C86-4E32-9A4D-DC4D58FC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EE2C8-D923-4D90-B85B-EB9AC622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4E4C-1424-4115-87D4-CB921FD5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7DD0B-DE01-4B64-AF58-B4590C1D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F2C81-CC85-42EB-8515-2EC67A2E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6C60D-6B6E-42BB-B5B7-F0EA2093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00CEB-3868-4F07-9458-B6416E20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DF8AF-FED5-43FB-8B92-90D051B4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A9FD6-938A-4FF9-9424-351CAFAB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A7389-97CD-4AFD-8423-826B4580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D1BF1-556F-4C26-B2AB-29B5286E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E4E44-4B10-4AA6-AA76-52B7785B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037BD-1E23-4972-869D-FF661B1E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DA2-64F6-429E-A66E-4AEBAA02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CE2E8-F5D3-4C1E-BABB-F4ACBBED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E7DA0-8A1A-44E3-8AB4-9E1541F0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2C518-DE8B-456B-B9D9-7F7ED826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563B1-8C6D-4853-BC12-860B06CD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90C03-4946-42AF-B7CE-9E508EB9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5CD1A-F5AF-4588-98CC-21BA0D86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05875-AA98-404A-B73B-4DACFE51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B65AE-1554-4D19-932C-F3D1A6F7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A2B91-758D-4A57-80B4-6B79AAE2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6B882-7284-4ACD-8599-68778515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66AF-001F-4B6E-B81A-433466BB9EE1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6EA36D3F-479B-43AD-BB1A-ADC45B97B80D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EA65-AF63-49B0-9C29-F45B383D4558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B05D-8375-46AC-9DC4-BA445E36216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998D4888-90D4-4D82-8A0B-825F9EAF599F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C007-66AD-403B-923B-BCA345BF8F04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A5AC-5627-428B-A11F-6898C2CB029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0A992AC5-8DCA-4E98-9F33-4718CC51FC65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B399-8335-480C-984B-D76183895923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15E7-C1FE-4498-8F51-653A788B25DB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DA1D276C-6039-433A-A52C-DF22F72009BB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8:55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eece1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D10E-195E-44C6-912C-B25DE5CE46B4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2945-78B8-4DB4-AC0A-2733B0C4308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2DFFD532-6B48-405F-94E4-CA3587DCEE90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F1A1-3BAF-4892-81A1-71498F1998D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0326-7FCA-48DA-AE06-48A140ED76A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E05E65BA-4141-4F88-A9FB-FA1390455E77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7082-A6D5-4F39-A6E0-89441827510F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CA94-0524-43BC-9512-E8BCEDC7279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E068D4C9-1B57-47A2-975E-5EBDB8A98826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CDA2-3A4B-4929-9B2C-64AAEB08B6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CD6C-154B-4C39-A265-D1790ADE092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7C49C393-FE42-44F2-A08E-09725F3E5C16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1586-42EF-4B1F-B5E9-C5C76B5922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AA23-512E-4838-BF37-4EDE3AF4435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ED3BEBB1-9315-4A16-B8B4-7C182E1D7DF1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B5D0-D328-47C1-9DE8-5293D9FFEF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2C4A-4A95-4C8B-B32C-D06DAD0076E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9F661571-6BAA-45E6-BF12-8F604BFAE4E8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A6C1-25ED-4CBE-886D-580F631F006B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7DDC-082F-41DA-A947-9EC3E5B1DA0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C6FE9185-FE9D-456D-91C6-AF5B50CDF2F9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B2AC-97E7-418C-BE69-22029B30AA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eece1"/>
                </a:solidFill>
                <a:latin typeface="Tw Cen MT"/>
              </a:rPr>
              <a:t>WYTRZYMAŁOŚĆ MATERIAŁÓW - CZ. 1</a:t>
            </a:r>
            <a:br>
              <a:rPr sz="3200"/>
            </a:br>
            <a:r>
              <a:rPr b="0" lang="pl-PL" sz="2400" spc="-1" strike="noStrike">
                <a:solidFill>
                  <a:srgbClr val="eeece1"/>
                </a:solidFill>
                <a:latin typeface="Tw Cen MT"/>
              </a:rPr>
              <a:t>WYKŁADY DLA STUDENTÓW</a:t>
            </a:r>
            <a:br>
              <a:rPr sz="2400"/>
            </a:br>
            <a:r>
              <a:rPr b="0" lang="pl-PL" sz="2400" spc="-1" strike="noStrike">
                <a:solidFill>
                  <a:srgbClr val="eeece1"/>
                </a:solidFill>
                <a:latin typeface="Tw Cen MT"/>
              </a:rPr>
              <a:t>STUDIÓW DZIENNYCH, MIBM</a:t>
            </a:r>
            <a:endParaRPr b="0" lang="en-US" sz="2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Opracował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Dr inż. Sylwester Samborski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Naprężenia montażowe (zestawcze)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0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9B44-8664-458D-BDFA-A50574C669D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12720" y="1599840"/>
            <a:ext cx="8153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 u="sng">
                <a:solidFill>
                  <a:srgbClr val="000000"/>
                </a:solidFill>
                <a:uFillTx/>
                <a:latin typeface="Tw Cen MT"/>
              </a:rPr>
              <a:t>Przykład: 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Wyznaczyć reakcje w pręcie po jego przyspawaniu do prawej ściany, jeżeli ten pręt wykonano za krótki o wielkość </a:t>
            </a:r>
            <a:r>
              <a:rPr b="0" lang="pl-PL" sz="29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2643120" y="3429000"/>
            <a:ext cx="408456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Naprężenia montażowe (zestawcze)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5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FE11-5322-4AF9-BA2E-6EFB0C60366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12720" y="1599840"/>
            <a:ext cx="8153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b0f0"/>
                </a:solidFill>
                <a:latin typeface="Tw Cen MT"/>
              </a:rPr>
              <a:t>Rozwiązanie: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 Należy zastosować procedurę rozwiązywania zagadnień statycznie niewyznaczalnych zakładając, że </a:t>
            </a:r>
            <a:r>
              <a:rPr b="0" lang="pl-PL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pl-PL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9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68" name="Object 2"/>
          <p:cNvGraphicFramePr/>
          <p:nvPr/>
        </p:nvGraphicFramePr>
        <p:xfrm>
          <a:off x="214200" y="3071880"/>
          <a:ext cx="314496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3071880"/>
                    <a:ext cx="314496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0" name="Picture 3" descr=""/>
          <p:cNvPicPr/>
          <p:nvPr/>
        </p:nvPicPr>
        <p:blipFill>
          <a:blip r:embed="rId3"/>
          <a:stretch/>
        </p:blipFill>
        <p:spPr>
          <a:xfrm>
            <a:off x="3133800" y="3571920"/>
            <a:ext cx="6010200" cy="242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1" name="Object 4"/>
          <p:cNvGraphicFramePr/>
          <p:nvPr/>
        </p:nvGraphicFramePr>
        <p:xfrm>
          <a:off x="214200" y="4714920"/>
          <a:ext cx="3432240" cy="1650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200" y="4714920"/>
                    <a:ext cx="343224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Naprężenia cieplne (termiczne)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4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5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24A9-0A8A-4ADB-94CD-89EE545F00F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Naprężenia cieplne (termiczne)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występują w  elementach konstrukcyjnych w następstwie zmian temperatury danego elementu przy jednoczesnym ograniczeniu możliwości zmian jego wymiarów przez inne elementy układu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Naprężenia te istnieją bez jakiegokolwiek obciążenia zewnętrznego danego elementu, a jedynie na skutek zmiany temperatury powodującej zmianę wymiarów elementu (</a:t>
            </a:r>
            <a:r>
              <a:rPr b="0" lang="pl-PL" sz="2700" spc="-1" strike="noStrike">
                <a:solidFill>
                  <a:srgbClr val="00b0f0"/>
                </a:solidFill>
                <a:latin typeface="Tw Cen MT"/>
              </a:rPr>
              <a:t>zjawisko rozszerzalności cieplnej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Należy je rozwiązywać tak, jak zagadnienia statycznie niewyznaczaln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Naprężenia cieplne (termiczne)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8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917A-F9C6-420D-A1B7-F3B2286A9AE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612720" y="1599840"/>
            <a:ext cx="8153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 u="sng">
                <a:solidFill>
                  <a:srgbClr val="000000"/>
                </a:solidFill>
                <a:uFillTx/>
                <a:latin typeface="Tw Cen MT"/>
              </a:rPr>
              <a:t>Przykład: 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Wyznaczyć reakcje w pręcie po zmianie jego temperatury o </a:t>
            </a:r>
            <a:r>
              <a:rPr b="0" lang="pl-PL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pl-PL" sz="2900" spc="-1" strike="noStrike">
                <a:solidFill>
                  <a:srgbClr val="000000"/>
                </a:solidFill>
                <a:latin typeface="Tw Cen MT"/>
              </a:rPr>
              <a:t>T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 wskutek podgrzani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2428920" y="2643120"/>
            <a:ext cx="46274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6" descr=""/>
          <p:cNvPicPr/>
          <p:nvPr/>
        </p:nvPicPr>
        <p:blipFill>
          <a:blip r:embed="rId1"/>
          <a:stretch/>
        </p:blipFill>
        <p:spPr>
          <a:xfrm>
            <a:off x="3841920" y="2714760"/>
            <a:ext cx="5211720" cy="285732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Naprężenia cieplne (termiczne)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4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F946-A6AB-4D17-B135-D69E00C186D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12720" y="1599840"/>
            <a:ext cx="8153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b0f0"/>
                </a:solidFill>
                <a:latin typeface="Tw Cen MT"/>
              </a:rPr>
              <a:t>Rozwiązanie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Należy zastosować procedurę rozwiązywania zagadnień statycznie niewyznaczalnych, przyjmując 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pl-P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pl-P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pl-P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pl-PL" sz="2500" spc="-1" strike="noStrike">
                <a:solidFill>
                  <a:srgbClr val="000000"/>
                </a:solidFill>
                <a:latin typeface="Tw Cen MT"/>
              </a:rPr>
              <a:t>T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, gdzie 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[1/K] oznacza </a:t>
            </a:r>
            <a:r>
              <a:rPr b="0" lang="pl-PL" sz="2500" spc="-1" strike="noStrike">
                <a:solidFill>
                  <a:srgbClr val="ff0000"/>
                </a:solidFill>
                <a:latin typeface="Tw Cen MT"/>
              </a:rPr>
              <a:t>współczynnik liniowej rozszerzalności cieplnej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87" name="Object 2"/>
          <p:cNvGraphicFramePr/>
          <p:nvPr/>
        </p:nvGraphicFramePr>
        <p:xfrm>
          <a:off x="214200" y="3222720"/>
          <a:ext cx="2922840" cy="120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3222720"/>
                    <a:ext cx="292284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Object 4"/>
          <p:cNvGraphicFramePr/>
          <p:nvPr/>
        </p:nvGraphicFramePr>
        <p:xfrm>
          <a:off x="246240" y="4778280"/>
          <a:ext cx="4479840" cy="1650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0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6240" y="4778280"/>
                    <a:ext cx="447984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2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5ECC-FFDD-425D-AAB6-3F68B2C606D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95" name="Diagram 6" descr=""/>
          <p:cNvPicPr/>
          <p:nvPr/>
        </p:nvPicPr>
        <p:blipFill>
          <a:blip r:embed="rId1"/>
          <a:stretch/>
        </p:blipFill>
        <p:spPr>
          <a:xfrm>
            <a:off x="487440" y="414360"/>
            <a:ext cx="83646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5286240" y="2786040"/>
            <a:ext cx="3616560" cy="386388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Ścina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8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47D1-C99E-4C40-95C3-2D8862D3A80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13840" y="1600200"/>
            <a:ext cx="855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Czyste ścinanie 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ma miejsce wtedy, gdy na czterech ścianach prostopadłościennej kostki występują jedynie naprężenia stycz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Prawo Hooke’a przy ścinaniu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przy czy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01" name="Object 4"/>
          <p:cNvGraphicFramePr/>
          <p:nvPr/>
        </p:nvGraphicFramePr>
        <p:xfrm>
          <a:off x="2214720" y="3571920"/>
          <a:ext cx="1204920" cy="113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4720" y="3571920"/>
                    <a:ext cx="1204920" cy="11318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03" name="Object 6"/>
          <p:cNvGraphicFramePr/>
          <p:nvPr/>
        </p:nvGraphicFramePr>
        <p:xfrm>
          <a:off x="714240" y="5214960"/>
          <a:ext cx="1714680" cy="9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4240" y="5214960"/>
                    <a:ext cx="1714680" cy="938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Ścina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6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D5E0-EEDE-4EF9-93AD-DA8110D476D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285840" y="1600200"/>
            <a:ext cx="885816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Ścinanie techniczne (technologiczne)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zachodzi, gdy naprężeniom tnącym towarzyszą znacznie od nich mniejsze naprężenia normalne; występuje ono w połączeniach części maszyn (nitowych, spawanych, sworzniowych kołkowych, wpustowych, klinowych i niektórych śrubowych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09" name="Picture 3" descr=""/>
          <p:cNvPicPr/>
          <p:nvPr/>
        </p:nvPicPr>
        <p:blipFill>
          <a:blip r:embed="rId1"/>
          <a:stretch/>
        </p:blipFill>
        <p:spPr>
          <a:xfrm>
            <a:off x="2357280" y="3286080"/>
            <a:ext cx="46674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Ścina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11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DC47-10C6-4E1B-9158-DAAD3F6DB26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85840" y="1600200"/>
            <a:ext cx="8572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W obliczeniach zagadnień </a:t>
            </a: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ścinania technicznego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uśrednia się naprężenia tnące w całym przekroju ścinanym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sr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); warunek wytrzymałościowy ma wówczas postać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rzy wielu przekrojach ścinanych zakłada się jednakowe obciążenie wszystkich tych przekrojów np. w połączeniach nitowych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14" name="Object 2"/>
          <p:cNvGraphicFramePr/>
          <p:nvPr/>
        </p:nvGraphicFramePr>
        <p:xfrm>
          <a:off x="3286080" y="2857680"/>
          <a:ext cx="2233800" cy="12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2857680"/>
                    <a:ext cx="2233800" cy="1214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16" name="Object 3"/>
          <p:cNvGraphicFramePr/>
          <p:nvPr/>
        </p:nvGraphicFramePr>
        <p:xfrm>
          <a:off x="3143160" y="4929120"/>
          <a:ext cx="2428920" cy="14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3160" y="4929120"/>
                    <a:ext cx="2428920" cy="1403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Ścina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19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B6F9-E3D9-4F5E-8580-2927119D501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14200" y="1599840"/>
            <a:ext cx="8715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Tok obliczeń połączeń (spawanych, nitowych itp.) na ogół zawier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 algn="just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sprawdzenie elementów łączonych (blach itp.) na rozciąganie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 algn="just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sprawdzenie elementów łączonych na ścinanie (np. wycięcie ucha przez sworzeń)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 algn="just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sprawdzenie elementów złącznych (nitów, kołków itp.) lub spoin na ścinanie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 algn="just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sprawdzenie połączenia na </a:t>
            </a: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docisk(naciski powierzchniowe)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22" name="Object 3"/>
          <p:cNvGraphicFramePr/>
          <p:nvPr/>
        </p:nvGraphicFramePr>
        <p:xfrm>
          <a:off x="3357720" y="4857840"/>
          <a:ext cx="237780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4857840"/>
                    <a:ext cx="2377800" cy="124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Zagadnienia statycznie niewyznaczalne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7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8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7B21-22EF-4B4E-854E-DE1DB08FD2E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0" y="1600200"/>
            <a:ext cx="87660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Tw Cen MT"/>
              </a:rPr>
              <a:t>Zagadnienia statycznie niewyznaczalne 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są to przypadki obciążenia elementów konstrukcyjnych, w których liczba niewiadomych (reakcji) jest większa niż liczba statycznych równań równowagi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Na przykład: zagadnienie jednokrotnie statycznie niewyznaczalne, tzn. liczba niewiadomych jest o 1 większa od liczby równań statyk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10" name="Object 5"/>
          <p:cNvGraphicFramePr/>
          <p:nvPr/>
        </p:nvGraphicFramePr>
        <p:xfrm>
          <a:off x="214200" y="3071880"/>
          <a:ext cx="171936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3071880"/>
                    <a:ext cx="171936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2" name="Picture 6" descr=""/>
          <p:cNvPicPr/>
          <p:nvPr/>
        </p:nvPicPr>
        <p:blipFill>
          <a:blip r:embed="rId3"/>
          <a:stretch/>
        </p:blipFill>
        <p:spPr>
          <a:xfrm>
            <a:off x="3460680" y="3286080"/>
            <a:ext cx="5683320" cy="216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3" name="Object 7"/>
          <p:cNvGraphicFramePr/>
          <p:nvPr/>
        </p:nvGraphicFramePr>
        <p:xfrm>
          <a:off x="214200" y="4286160"/>
          <a:ext cx="3430800" cy="83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200" y="4286160"/>
                    <a:ext cx="34308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1f497d"/>
                </a:solidFill>
                <a:latin typeface="Tw Cen MT"/>
              </a:rPr>
              <a:t>Ścinani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5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E8FF-4021-4A09-B608-08E72C6C806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0" y="1600200"/>
            <a:ext cx="49291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Rozkład naprężeń tnących w elemencie o przekroju poprzecznym w kształcie wąskiego prostokąta (lub innym), ścinanym siłą poprzeczną (tnącą) T wyraża się wzorem (</a:t>
            </a:r>
            <a:r>
              <a:rPr b="0" lang="pl-PL" sz="2000" spc="-1" strike="noStrike">
                <a:solidFill>
                  <a:srgbClr val="ff0000"/>
                </a:solidFill>
                <a:latin typeface="Tw Cen MT"/>
              </a:rPr>
              <a:t>wzór Żurawskiego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gdzie: 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S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to moment statyczny względem osi 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części przekroju poprzecznego zawartej między 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a 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y</a:t>
            </a:r>
            <a:r>
              <a:rPr b="0" lang="pl-PL" sz="1300" spc="-1" strike="noStrike">
                <a:solidFill>
                  <a:srgbClr val="000000"/>
                </a:solidFill>
                <a:latin typeface="Tw Cen MT"/>
              </a:rPr>
              <a:t>maks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; 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b</a:t>
            </a:r>
            <a:r>
              <a:rPr b="0" i="1" lang="pl-PL" sz="1500" spc="-1" strike="noStrike">
                <a:solidFill>
                  <a:srgbClr val="000000"/>
                </a:solidFill>
                <a:latin typeface="Tw Cen MT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– szer. przekroju na poziomie 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; 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J</a:t>
            </a:r>
            <a:r>
              <a:rPr b="0" i="1" lang="pl-PL" sz="17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– moment bezwładności całego przekroju poprzecznego wzgl. osi </a:t>
            </a:r>
            <a:r>
              <a:rPr b="0" i="1" lang="pl-PL" sz="2000" spc="-1" strike="noStrike">
                <a:solidFill>
                  <a:srgbClr val="000000"/>
                </a:solidFill>
                <a:latin typeface="Tw Cen MT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dla przekroju prostokątnego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1300" spc="-1" strike="noStrike">
                <a:solidFill>
                  <a:srgbClr val="000000"/>
                </a:solidFill>
                <a:latin typeface="Tw Cen MT"/>
              </a:rPr>
              <a:t>maks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3/2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1300" spc="-1" strike="noStrike">
                <a:solidFill>
                  <a:srgbClr val="000000"/>
                </a:solidFill>
                <a:latin typeface="Tw Cen MT"/>
              </a:rPr>
              <a:t>sr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zaś dla przekroju kołowego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1300" spc="-1" strike="noStrike">
                <a:solidFill>
                  <a:srgbClr val="000000"/>
                </a:solidFill>
                <a:latin typeface="Tw Cen MT"/>
              </a:rPr>
              <a:t>maks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4/3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1300" spc="-1" strike="noStrike">
                <a:solidFill>
                  <a:srgbClr val="000000"/>
                </a:solidFill>
                <a:latin typeface="Tw Cen MT"/>
              </a:rPr>
              <a:t>sr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28" name="Object 2"/>
          <p:cNvGraphicFramePr/>
          <p:nvPr/>
        </p:nvGraphicFramePr>
        <p:xfrm>
          <a:off x="1571760" y="2928960"/>
          <a:ext cx="157140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2928960"/>
                    <a:ext cx="1571400" cy="1127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30" name="Picture 5" descr=""/>
          <p:cNvPicPr/>
          <p:nvPr/>
        </p:nvPicPr>
        <p:blipFill>
          <a:blip r:embed="rId3"/>
          <a:stretch/>
        </p:blipFill>
        <p:spPr>
          <a:xfrm>
            <a:off x="4819680" y="2849400"/>
            <a:ext cx="4210200" cy="32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Charakterystyki geometryczne figur płaski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32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EB57-B8E6-4316-9287-5C2173FBF1C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Zagadnienia statycznie niewyznaczalne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6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D358-002F-4769-85F7-31F4529FE8A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1600200"/>
            <a:ext cx="87660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Tw Cen MT"/>
              </a:rPr>
              <a:t>Zagadnienia statycznie niewyznaczalne 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są to przypadki obciążenia elementów konstrukcyjnych, w których liczba niewiadomych (reakcji) jest większa niż liczba statycznych równań równowagi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Na przykład: zagadnienie jednokrotnie statycznie niewyznaczalne, tzn. liczba niewiadomych jest o 1 większa od liczby równań statyk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19" name="Object 5"/>
          <p:cNvGraphicFramePr/>
          <p:nvPr/>
        </p:nvGraphicFramePr>
        <p:xfrm>
          <a:off x="214200" y="3071880"/>
          <a:ext cx="171936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3071880"/>
                    <a:ext cx="171936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1" name="Picture 6" descr=""/>
          <p:cNvPicPr/>
          <p:nvPr/>
        </p:nvPicPr>
        <p:blipFill>
          <a:blip r:embed="rId3"/>
          <a:stretch/>
        </p:blipFill>
        <p:spPr>
          <a:xfrm>
            <a:off x="3460680" y="3286080"/>
            <a:ext cx="5683320" cy="216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2" name="Object 7"/>
          <p:cNvGraphicFramePr/>
          <p:nvPr/>
        </p:nvGraphicFramePr>
        <p:xfrm>
          <a:off x="214200" y="4286160"/>
          <a:ext cx="3430800" cy="83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200" y="4286160"/>
                    <a:ext cx="34308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5"/>
          <p:cNvGraphicFramePr/>
          <p:nvPr/>
        </p:nvGraphicFramePr>
        <p:xfrm>
          <a:off x="142920" y="5095800"/>
          <a:ext cx="2178000" cy="833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5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2920" y="5095800"/>
                    <a:ext cx="21780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Prostokąt 10"/>
          <p:cNvSpPr/>
          <p:nvPr/>
        </p:nvSpPr>
        <p:spPr>
          <a:xfrm>
            <a:off x="104760" y="4214880"/>
            <a:ext cx="3643200" cy="2000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Zagadnienia statycznie niewyznaczalne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8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311B-0226-4181-B750-E5D9ED9B59F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0" y="1600200"/>
            <a:ext cx="39290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W celu rozwiązania </a:t>
            </a: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zagadnienia statycznie niewyznaczalnego 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należy do statycznych równań równowagi dopisać tyle </a:t>
            </a: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równań geometrycznych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, ile jest ”nadmiarowych” niewiadomych. Ponadto zapisuje się </a:t>
            </a: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związki fizyczne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np. prawo Hooke’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31" name="Object 7"/>
          <p:cNvGraphicFramePr/>
          <p:nvPr/>
        </p:nvGraphicFramePr>
        <p:xfrm>
          <a:off x="3908520" y="2259000"/>
          <a:ext cx="5145120" cy="32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8520" y="2259000"/>
                    <a:ext cx="514512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Zagadnienia statycznie niewyznaczalne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4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EDCB-1C9F-481F-8A47-34C9E2FC422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1600200"/>
            <a:ext cx="9144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Procedura rozwiązywania </a:t>
            </a:r>
            <a:r>
              <a:rPr b="0" lang="pl-PL" sz="2500" spc="-1" strike="noStrike">
                <a:solidFill>
                  <a:srgbClr val="ff0000"/>
                </a:solidFill>
                <a:latin typeface="Tw Cen MT"/>
              </a:rPr>
              <a:t>zagadnień statycznie niewyznaczalnych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uwolnienie danego elementu od więzów i wprowadzenie </a:t>
            </a:r>
            <a:r>
              <a:rPr b="0" lang="pl-PL" sz="2500" spc="-1" strike="noStrike">
                <a:solidFill>
                  <a:srgbClr val="00b0f0"/>
                </a:solidFill>
                <a:latin typeface="Tw Cen MT"/>
              </a:rPr>
              <a:t>reakcji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zapisanie statycznych </a:t>
            </a:r>
            <a:r>
              <a:rPr b="0" lang="pl-PL" sz="2500" spc="-1" strike="noStrike">
                <a:solidFill>
                  <a:srgbClr val="00b0f0"/>
                </a:solidFill>
                <a:latin typeface="Tw Cen MT"/>
              </a:rPr>
              <a:t>równań równowagi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ustalenie stopnia (</a:t>
            </a:r>
            <a:r>
              <a:rPr b="0" lang="pl-PL" sz="2500" spc="-1" strike="noStrike">
                <a:solidFill>
                  <a:srgbClr val="00b0f0"/>
                </a:solidFill>
                <a:latin typeface="Tw Cen MT"/>
              </a:rPr>
              <a:t>krotności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) </a:t>
            </a:r>
            <a:r>
              <a:rPr b="0" lang="pl-PL" sz="2500" spc="-1" strike="noStrike">
                <a:solidFill>
                  <a:srgbClr val="00b0f0"/>
                </a:solidFill>
                <a:latin typeface="Tw Cen MT"/>
              </a:rPr>
              <a:t>statycznej niewyznaczalności 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rozpatrywanego zagadnienia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naszkicowanie </a:t>
            </a:r>
            <a:r>
              <a:rPr b="0" lang="pl-PL" sz="2500" spc="-1" strike="noStrike">
                <a:solidFill>
                  <a:srgbClr val="00b0f0"/>
                </a:solidFill>
                <a:latin typeface="Tw Cen MT"/>
              </a:rPr>
              <a:t>schematu odkształceń/przemieszczeń 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i zapisanie odpowiedniej liczby równań geometrycznych, czyli </a:t>
            </a:r>
            <a:r>
              <a:rPr b="0" lang="pl-PL" sz="2500" spc="-1" strike="noStrike">
                <a:solidFill>
                  <a:srgbClr val="00b0f0"/>
                </a:solidFill>
                <a:latin typeface="Tw Cen MT"/>
              </a:rPr>
              <a:t>równań nierozdzielności odkształceń/przemieszczeń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zapisanie </a:t>
            </a:r>
            <a:r>
              <a:rPr b="0" lang="pl-PL" sz="2500" spc="-1" strike="noStrike">
                <a:solidFill>
                  <a:srgbClr val="00b0f0"/>
                </a:solidFill>
                <a:latin typeface="Tw Cen MT"/>
              </a:rPr>
              <a:t>równań fizycznych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(np. prawo Hooke’a) dla rozpatrywanych elementów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rozwiązanie otrzymanego </a:t>
            </a:r>
            <a:r>
              <a:rPr b="0" lang="pl-PL" sz="2500" spc="-1" strike="noStrike">
                <a:solidFill>
                  <a:srgbClr val="00b0f0"/>
                </a:solidFill>
                <a:latin typeface="Tw Cen MT"/>
              </a:rPr>
              <a:t>układu równań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w celu wyznaczenia niewiadomych sił (reakcji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Zagadnienia statycznie niewyznaczalne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8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0A8F-B577-471D-BA45-9F6FFF4299D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1599840"/>
            <a:ext cx="8929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 u="sng">
                <a:solidFill>
                  <a:srgbClr val="000000"/>
                </a:solidFill>
                <a:uFillTx/>
                <a:latin typeface="Tw Cen MT"/>
              </a:rPr>
              <a:t>Przykład: 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Narysować wykres sił wewnętrznych w pręcie obciążonym tak, jak na rysunku. Wyznaczyć przemieszczenie punktu B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41" name="Picture 5" descr=""/>
          <p:cNvPicPr/>
          <p:nvPr/>
        </p:nvPicPr>
        <p:blipFill>
          <a:blip r:embed="rId1"/>
          <a:stretch/>
        </p:blipFill>
        <p:spPr>
          <a:xfrm>
            <a:off x="1571760" y="2857680"/>
            <a:ext cx="611496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Zagadnienia statycznie niewyznaczalne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3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CFA6-0DDE-4F82-9A62-EA9CBE2FE15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1599840"/>
            <a:ext cx="4357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 u="sng">
                <a:solidFill>
                  <a:srgbClr val="000000"/>
                </a:solidFill>
                <a:uFillTx/>
                <a:latin typeface="Tw Cen MT"/>
              </a:rPr>
              <a:t>Rozwiązanie: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Zagadnienie jest jednokrotnie statycznie niewyznaczalne, gdyż liczba reakcji wynosi 2, a jest tylko jedno równanie statyki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46" name="Object 7"/>
          <p:cNvGraphicFramePr/>
          <p:nvPr/>
        </p:nvGraphicFramePr>
        <p:xfrm>
          <a:off x="357120" y="3643200"/>
          <a:ext cx="8501040" cy="26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3643200"/>
                    <a:ext cx="8501040" cy="26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8" name="Picture 3" descr=""/>
          <p:cNvPicPr/>
          <p:nvPr/>
        </p:nvPicPr>
        <p:blipFill>
          <a:blip r:embed="rId3"/>
          <a:stretch/>
        </p:blipFill>
        <p:spPr>
          <a:xfrm>
            <a:off x="4286160" y="1643040"/>
            <a:ext cx="48578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Zagadnienia statycznie niewyznaczalne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0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E00C-DC82-4F5F-AB70-A92DAC3093C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52" name="Object 3"/>
          <p:cNvGraphicFramePr/>
          <p:nvPr/>
        </p:nvGraphicFramePr>
        <p:xfrm>
          <a:off x="214200" y="1571760"/>
          <a:ext cx="8637840" cy="82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571760"/>
                    <a:ext cx="863784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4" name="Picture 4" descr=""/>
          <p:cNvPicPr/>
          <p:nvPr/>
        </p:nvPicPr>
        <p:blipFill>
          <a:blip r:embed="rId3"/>
          <a:stretch/>
        </p:blipFill>
        <p:spPr>
          <a:xfrm>
            <a:off x="2071800" y="2500200"/>
            <a:ext cx="548784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Naprężenia montażowe (zestawcze)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6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4D6C-1520-468C-99D8-4E4155D7E20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Naprężenia montażowe (zestawcze)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 występują w układach elementów konstrukcyjnych wykonanych niedokładnie (np. ze zbyt dużym luzem lub na zbyt duży wcisk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Są to naprężenia wstępne, a więc takie, które istnieją bez jakiegokolwiek obciążenia zewnętrznego danego układu, a jedynie na skutek wymuszonego montażu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Należy je rozwiązywać tak, jak zagadnienia statycznie niewyznaczaln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7:14:40Z</dcterms:created>
  <dc:creator/>
  <dc:description/>
  <dc:language>en-US</dc:language>
  <cp:lastModifiedBy/>
  <dcterms:modified xsi:type="dcterms:W3CDTF">2011-10-05T15:22:3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lpwstr>1045</vt:lpwstr>
  </property>
  <property fmtid="{D5CDD505-2E9C-101B-9397-08002B2CF9AE}" pid="3" name="_TemplateID">
    <vt:lpwstr>TC101671251045</vt:lpwstr>
  </property>
</Properties>
</file>