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9.png" ContentType="image/png"/>
  <Override PartName="/ppt/media/image17.wmf" ContentType="image/x-wmf"/>
  <Override PartName="/ppt/media/image13.png" ContentType="image/png"/>
  <Override PartName="/ppt/media/image8.png" ContentType="image/png"/>
  <Override PartName="/ppt/media/image12.png" ContentType="image/png"/>
  <Override PartName="/ppt/media/image19.wmf" ContentType="image/x-wmf"/>
  <Override PartName="/ppt/media/image18.wmf" ContentType="image/x-wmf"/>
  <Override PartName="/ppt/media/image1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wmf" ContentType="image/x-wmf"/>
  <Override PartName="/ppt/media/image11.wmf" ContentType="image/x-wmf"/>
  <Override PartName="/ppt/media/image3.png" ContentType="image/png"/>
  <Override PartName="/ppt/media/image4.wmf" ContentType="image/x-wmf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</p:sldIdLst>
  <p:sldSz cx="9144000" cy="6858000"/>
  <p:notesSz cx="6858000" cy="100123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"/>
          <p:cNvSpPr/>
          <p:nvPr/>
        </p:nvSpPr>
        <p:spPr>
          <a:xfrm>
            <a:off x="0" y="0"/>
            <a:ext cx="6858000" cy="1001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dt" idx="34"/>
          </p:nvPr>
        </p:nvSpPr>
        <p:spPr>
          <a:xfrm>
            <a:off x="3884400" y="-360"/>
            <a:ext cx="297180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 type="sldImg"/>
          </p:nvPr>
        </p:nvSpPr>
        <p:spPr>
          <a:xfrm>
            <a:off x="927000" y="750600"/>
            <a:ext cx="5004000" cy="3754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ce1"/>
                </a:solidFill>
                <a:latin typeface="Tw Cen MT"/>
              </a:rPr>
              <a:t>Click to move the slide</a:t>
            </a:r>
            <a:endParaRPr b="0" lang="en-US" sz="4400" spc="-1" strike="noStrike">
              <a:solidFill>
                <a:srgbClr val="eeece1"/>
              </a:solidFill>
              <a:latin typeface="Tw Cen MT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 type="body"/>
          </p:nvPr>
        </p:nvSpPr>
        <p:spPr>
          <a:xfrm>
            <a:off x="685800" y="4756320"/>
            <a:ext cx="5486400" cy="450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 type="ftr" idx="35"/>
          </p:nvPr>
        </p:nvSpPr>
        <p:spPr>
          <a:xfrm>
            <a:off x="-360" y="9510480"/>
            <a:ext cx="297180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 type="sldNum" idx="36"/>
          </p:nvPr>
        </p:nvSpPr>
        <p:spPr>
          <a:xfrm>
            <a:off x="3884400" y="9510480"/>
            <a:ext cx="297180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B6557-3C12-49FA-81B1-3E694EAF35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sldImg"/>
          </p:nvPr>
        </p:nvSpPr>
        <p:spPr>
          <a:xfrm>
            <a:off x="927000" y="750960"/>
            <a:ext cx="5004000" cy="3754440"/>
          </a:xfrm>
          <a:prstGeom prst="rect">
            <a:avLst/>
          </a:prstGeom>
          <a:ln w="0">
            <a:noFill/>
          </a:ln>
        </p:spPr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685800" y="4756320"/>
            <a:ext cx="5486400" cy="45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Slide Number Placeholder 3"/>
          <p:cNvSpPr/>
          <p:nvPr/>
        </p:nvSpPr>
        <p:spPr>
          <a:xfrm>
            <a:off x="3884760" y="951084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35411-A132-479B-8DE1-57D73DE2D3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sldImg"/>
          </p:nvPr>
        </p:nvSpPr>
        <p:spPr>
          <a:xfrm>
            <a:off x="927000" y="750960"/>
            <a:ext cx="5004000" cy="3754440"/>
          </a:xfrm>
          <a:prstGeom prst="rect">
            <a:avLst/>
          </a:prstGeom>
          <a:ln w="0">
            <a:noFill/>
          </a:ln>
        </p:spPr>
      </p:sp>
      <p:sp>
        <p:nvSpPr>
          <p:cNvPr id="686" name="PlaceHolder 2"/>
          <p:cNvSpPr>
            <a:spLocks noGrp="1"/>
          </p:cNvSpPr>
          <p:nvPr>
            <p:ph type="body"/>
          </p:nvPr>
        </p:nvSpPr>
        <p:spPr>
          <a:xfrm>
            <a:off x="685800" y="4756320"/>
            <a:ext cx="5486400" cy="45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Slide Number Placeholder 3"/>
          <p:cNvSpPr/>
          <p:nvPr/>
        </p:nvSpPr>
        <p:spPr>
          <a:xfrm>
            <a:off x="3884760" y="951084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EC4B1-2392-4986-B9B9-A70B33AA7E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sldImg"/>
          </p:nvPr>
        </p:nvSpPr>
        <p:spPr>
          <a:xfrm>
            <a:off x="927000" y="750960"/>
            <a:ext cx="5004000" cy="3754440"/>
          </a:xfrm>
          <a:prstGeom prst="rect">
            <a:avLst/>
          </a:prstGeom>
          <a:ln w="0">
            <a:noFill/>
          </a:ln>
        </p:spPr>
      </p:sp>
      <p:sp>
        <p:nvSpPr>
          <p:cNvPr id="689" name="PlaceHolder 2"/>
          <p:cNvSpPr>
            <a:spLocks noGrp="1"/>
          </p:cNvSpPr>
          <p:nvPr>
            <p:ph type="body"/>
          </p:nvPr>
        </p:nvSpPr>
        <p:spPr>
          <a:xfrm>
            <a:off x="685800" y="4756320"/>
            <a:ext cx="5486400" cy="45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Slide Number Placeholder 3"/>
          <p:cNvSpPr/>
          <p:nvPr/>
        </p:nvSpPr>
        <p:spPr>
          <a:xfrm>
            <a:off x="3884760" y="951084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7A10E-439E-4AF6-BF04-3FE434DAEF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ldImg"/>
          </p:nvPr>
        </p:nvSpPr>
        <p:spPr>
          <a:xfrm>
            <a:off x="927000" y="750960"/>
            <a:ext cx="5004000" cy="3754440"/>
          </a:xfrm>
          <a:prstGeom prst="rect">
            <a:avLst/>
          </a:prstGeom>
          <a:ln w="0">
            <a:noFill/>
          </a:ln>
        </p:spPr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685800" y="4756320"/>
            <a:ext cx="5486400" cy="45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Slide Number Placeholder 3"/>
          <p:cNvSpPr/>
          <p:nvPr/>
        </p:nvSpPr>
        <p:spPr>
          <a:xfrm>
            <a:off x="3884760" y="951084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7B10D-FD06-4E41-B6EA-6002E7726D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sldImg"/>
          </p:nvPr>
        </p:nvSpPr>
        <p:spPr>
          <a:xfrm>
            <a:off x="927000" y="750960"/>
            <a:ext cx="5004000" cy="3754440"/>
          </a:xfrm>
          <a:prstGeom prst="rect">
            <a:avLst/>
          </a:prstGeom>
          <a:ln w="0">
            <a:noFill/>
          </a:ln>
        </p:spPr>
      </p:sp>
      <p:sp>
        <p:nvSpPr>
          <p:cNvPr id="677" name="PlaceHolder 2"/>
          <p:cNvSpPr>
            <a:spLocks noGrp="1"/>
          </p:cNvSpPr>
          <p:nvPr>
            <p:ph type="body"/>
          </p:nvPr>
        </p:nvSpPr>
        <p:spPr>
          <a:xfrm>
            <a:off x="685800" y="4756320"/>
            <a:ext cx="5486400" cy="45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Slide Number Placeholder 3"/>
          <p:cNvSpPr/>
          <p:nvPr/>
        </p:nvSpPr>
        <p:spPr>
          <a:xfrm>
            <a:off x="3884760" y="951084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3E8AB-65FD-4011-9057-9CB897F859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ldImg"/>
          </p:nvPr>
        </p:nvSpPr>
        <p:spPr>
          <a:xfrm>
            <a:off x="927000" y="750960"/>
            <a:ext cx="5004000" cy="3754440"/>
          </a:xfrm>
          <a:prstGeom prst="rect">
            <a:avLst/>
          </a:prstGeom>
          <a:ln w="0">
            <a:noFill/>
          </a:ln>
        </p:spPr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685800" y="4756320"/>
            <a:ext cx="5486400" cy="45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Slide Number Placeholder 3"/>
          <p:cNvSpPr/>
          <p:nvPr/>
        </p:nvSpPr>
        <p:spPr>
          <a:xfrm>
            <a:off x="3884760" y="951084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5BC81-F29E-456A-BC3D-D7DAA2AD73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sldImg"/>
          </p:nvPr>
        </p:nvSpPr>
        <p:spPr>
          <a:xfrm>
            <a:off x="927000" y="750960"/>
            <a:ext cx="5004000" cy="3754440"/>
          </a:xfrm>
          <a:prstGeom prst="rect">
            <a:avLst/>
          </a:prstGeom>
          <a:ln w="0">
            <a:noFill/>
          </a:ln>
        </p:spPr>
      </p:sp>
      <p:sp>
        <p:nvSpPr>
          <p:cNvPr id="683" name="PlaceHolder 2"/>
          <p:cNvSpPr>
            <a:spLocks noGrp="1"/>
          </p:cNvSpPr>
          <p:nvPr>
            <p:ph type="body"/>
          </p:nvPr>
        </p:nvSpPr>
        <p:spPr>
          <a:xfrm>
            <a:off x="685800" y="4756320"/>
            <a:ext cx="5486400" cy="45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Slide Number Placeholder 3"/>
          <p:cNvSpPr/>
          <p:nvPr/>
        </p:nvSpPr>
        <p:spPr>
          <a:xfrm>
            <a:off x="3884760" y="951084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E47A5-2E45-4EC5-A988-DF12987EA8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2D7C8-77E3-4DF6-B101-D5D9D2AA4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44A56-C184-45F7-A186-E38BE681B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70C1A3-42AB-4C22-8D28-E37BA42F4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3F4579-6475-4CA9-A898-E28362B8A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11FD1D-FEFE-4587-8100-EC25E045B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34CC8F-D104-4D44-AC58-273E7212D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DAD6D4-312C-4E4C-97F9-11F2738D7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EA389A-6639-4CD3-A332-172D89457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F65D93-2160-44AC-A3D3-B3A3EE884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03A0E7-E94D-4F64-BFF8-DD5305A1A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45463F-4AD5-471A-A861-CFDF25EB5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04BB03E-1AEB-44A3-9741-1FD8A1750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A7922-AC41-4569-96D3-31301915C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3A203B9-C387-413C-8A80-93E57928F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7C465DF-3CB1-4292-8B58-4CAC0F352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8B12147-17DF-4DBA-B5B5-FCE08F581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0F7FA6B-AFAF-4A20-98EB-43BD6B2D2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E7DEC45-BDAE-4117-B8A1-E731473A7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E5C5A35-BDDE-4E20-95EF-D4E2DE894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1DBF52E-76D6-4709-9F04-01AA791DD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F219DBA-0AE2-4EC9-85A5-DF9EA5600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EA0C8D6-AFC0-40A6-ABC1-9271DEF40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62B58D2-9995-475E-AF7B-D79FC85EA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CAFFD-50DE-437A-8486-AFB7F3A7B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BF76905-687B-4681-AB8B-6090E6C49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8EE54D-5591-4B9E-9D54-41C3006DD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9143BA-33CD-492E-9951-7D08383CD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AE4980-722D-4140-862D-ABD198AA8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DC9650-A9BC-404B-AB95-5C1CD34F8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BE8956-E526-4A08-B3FA-5544CE889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FE7839-CDC8-4C93-B84A-E87AA1A3C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658980-13E5-4516-B776-AC662843A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493E2B-11D7-4497-9734-CF3F1E3E2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18F7D5-3AEF-480F-B2B5-EFFEBE2B0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233BF-476E-4DC1-9906-74953C0D9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F4FB73-ED31-4890-B921-D1C2189D2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24F71D-95D7-41F0-9553-8C6474CEC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5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6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B609AA-08A8-44D6-BCE3-FC666E657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6C850-7BFE-40C8-9B1A-B30114D08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1EFBC-918E-428B-A815-5638CCBAB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A8E05-7881-4650-9B1A-B35AF47D5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BA1A8-E583-42E9-BBF1-F697238BE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10534-5F8F-40B8-BF1C-8F20A2E2D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81C3A-B971-4FA3-8DA5-913F592FA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9EDBC-6054-4448-88C8-B18CD9533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E2FAB-5F2F-4256-8E12-91F297BAA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B3157-0947-44BE-AC11-661AA97F8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587E5-D7A5-4EF3-8FB8-19811CFD3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9CB1B-591E-4014-8CFC-5C82DB894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5257A-3E66-4B7E-99E3-473304C8F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E64B03-3DFC-4285-815F-FCAEBE1B2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D2285A-B9DD-4CEB-9411-5A4792CB4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CA0C00-E9A7-450C-A575-3B585502F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546237-70A1-4A86-ACBC-458F6DA6A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CD122B-B973-468A-8D4C-BBCCD06AC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95F41-F18F-4E43-B071-37EC04352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B557CB-4B92-4225-918C-80BD22700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DD1F87-295F-410F-9F01-E0E7630DE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81DE34-1914-4065-B35C-8196F5A19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0EF906-C7C6-4D7E-A77E-88153784F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3AF5EA-2738-4F65-82E7-786746698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BE05AA-1CA3-406C-9CD2-DB4846B7D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55F999-906C-48D7-A717-8A16D67EB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626EA11-F2B1-4C1E-A123-A17B5CAA4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2393735-A2EC-48C7-9C1D-71B9CA10C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B4A60BC-D164-46E6-B3BA-2E7178EF5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227F1-B01A-40A8-9FBF-C56D18DC4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0333048-D2A4-4F0F-B3B4-7C02103CD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8741F3E-91D7-4024-AFCE-A9BF9E5AF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49AF772-E751-4180-AC69-9B2B0FF36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60337F9-B32A-4016-B33F-686562A7E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E9CA429-8B75-4D98-870B-0B15D06C7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807FCFC-9052-47D0-96EF-83C8F87E0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680F663-9B3E-4827-AE12-82248DDF9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7FD698D-76E5-4CD5-9845-4D41A8479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33F01BC-6DB1-4810-B482-B4B8814A6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7EA0942-8C28-4174-8A48-689D25B71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C6CDA-3906-48FC-BD4E-F6C22F4D9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9C619E8-E196-4011-AEC2-BBFE66308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C8D0C00-630F-4800-BD4D-F4A1CAB8A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84F8F7B-F623-41D9-8F48-47A14FAD6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32940D0-CFA2-4812-A558-0C5709013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20C549D-3C3E-41FA-849F-8A4003A65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68ED4D6-0D54-48EE-A5A7-132A17A0D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29B7C7E-EA15-41AE-9FE7-6272D75D2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C44630E-8737-4318-9A34-1D56C87D4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17373E2-B28F-4F85-8CE1-5CCA35884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B4A6AD0-48FD-4433-AA53-8E3D70941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4DF82-9CBC-4903-9891-79FFB7E23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2B134AA-510B-452C-B824-CE692E35A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46ED4A6-E27D-43FD-BEBE-B52CEDF75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227972C-1008-468B-8428-8A44553B3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7664210-11A4-4430-A088-0A6472A7A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17AB2CA-7F2C-4D18-AB06-CAC6EE043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5B83908-31A8-4300-B705-3A2FE555B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C73503A-93AA-46C4-BAEB-C688EDEC3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8481CED-02B9-4147-A4AB-6773D030B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AD8C1FB-5C7A-4A37-B351-DFD4BBBB4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9FC281B-FC34-4F44-B992-53A50F549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4E620-6C63-4F7E-9AD2-80A74260C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A0A06C2-D562-4E1F-A5E8-AC561068A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93ECBDC-D2C4-44A5-8853-B71BB7DBD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ED8A42B-D288-41DC-AEB1-C6AC68428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66610B-3936-4D2A-A082-CF0D6F50D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36CDD7-3889-40AA-80D8-34BEE50A0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ED4366-47DC-4798-A306-29D262595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7E018D-E874-4F1B-BCC9-F40A34BB0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FB3B6F-499E-4F53-97B6-FB97B845A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34080D-CAC8-4DB5-906F-698FA03BF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230885-668F-4E48-A423-23C08C49D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63D08-8CF5-4B79-BEAF-823549585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055DF1-8024-4359-BC5F-E27BE48A4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B00B0A-2512-4EE0-A018-4BF13CE9B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A80F95-AD2D-4549-A5A6-4088A4727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331812-CC29-4F1B-BAC5-10185BB2F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6A8C55-F59A-4617-B2E4-3D18C9D1D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014829-5CFD-4912-8463-4B3BEE009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7B7930-52DD-4B86-A13C-551BFD7D5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EE556C-66FC-473F-A200-AF2FB2663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57BC42-E9ED-439D-8EAA-6C3C4A15A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D876B7-B524-4165-9AC4-EA0E5421A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41E8C-2848-494C-815C-EBB6ADFBB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654989-B338-4D9A-937B-0C0FFC99B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2AD34F-2413-461E-A326-D2A743686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744134-8553-47A4-9EF3-62BDA9221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F765D2-ED08-44C9-A12D-F57D45ABD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422429-799D-4D05-BAD4-83CA9D9D4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19512B-00C0-4852-9C56-E72435722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BB509E-D5F9-4BBA-A400-98539D4F0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173870-2638-4913-9277-72F40E5B0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946FE6-9C56-4869-B9A2-3757DD600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BAB978-1084-4005-BECB-3E2C81AED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1993F-0050-4E33-956A-6FB82911FF55}" type="datetime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7/31/26</a:t>
            </a:fld>
            <a:r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 </a:t>
            </a:r>
            <a:fld id="{FFC6F90E-1F97-4FAB-9886-0692757D4D1D}" type="datetime10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8:5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1f497d"/>
                </a:solidFill>
                <a:latin typeface="Times New Roman"/>
              </a:rPr>
              <a:t>Wytrzymałość materiałów - cz. 1, dr inż. Sylwester Sambor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6AB6A-F2ED-4A37-8F3F-186C783985E6}" type="slidenum">
              <a:rPr b="1" lang="en-US" sz="1200" spc="-1" strike="noStrike">
                <a:solidFill>
                  <a:srgbClr val="1f497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5" name="Rectangle 7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6" name="Rectangle 8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7" name="Rectangle 9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8" name="Rectangle 10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 type="dt" idx="28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A15D4-11F0-4BC4-9D0A-0EC549D00712}" type="datetime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7/31/26</a:t>
            </a:fld>
            <a:r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 </a:t>
            </a:r>
            <a:fld id="{3E5B8D55-039A-4753-9CFE-A4B74012C89D}" type="datetime10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8:5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 type="sldNum" idx="29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F3EB3-3BE9-40FE-B9AA-F7607817E69D}" type="slidenum"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 type="ftr" idx="30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1f497d"/>
                </a:solidFill>
                <a:latin typeface="Times New Roman"/>
              </a:rPr>
              <a:t>Wytrzymałość materiałów - cz. 1, dr inż. Sylwester Sambor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1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2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3" name="Rectangle 6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4" name="Rectangle 7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5" name="Rectangle 8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 type="dt" idx="31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3BCFE-0F48-4205-A0F0-1F06A5713D1F}" type="datetime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7/31/26</a:t>
            </a:fld>
            <a:r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 </a:t>
            </a:r>
            <a:fld id="{FAD1DAEB-9D74-4946-B37E-FF8639BC80E3}" type="datetime10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8:5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 type="ftr" idx="32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1f497d"/>
                </a:solidFill>
                <a:latin typeface="Times New Roman"/>
              </a:rPr>
              <a:t>Wytrzymałość materiałów - cz. 1, dr inż. Sylwester Sambor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 type="sldNum" idx="33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0205B-28AA-431E-95A4-B54C19F5F282}" type="slidenum">
              <a:rPr b="1" lang="en-US" sz="1200" spc="-1" strike="noStrike">
                <a:solidFill>
                  <a:srgbClr val="1f497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" name="Rectangle 6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" name="Rectangle 9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" name="Rectangle 10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ce1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eece1"/>
              </a:solidFill>
              <a:latin typeface="Tw Cen M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6B8A2-7927-4C9A-8372-47916A8E105D}" type="datetime"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fld id="{F562EAAE-9AA5-41BF-ABAA-F2EC2DC47AE6}" type="datetime10"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08:56</a:t>
            </a:fld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eeece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eeece1"/>
                </a:solidFill>
                <a:latin typeface="Times New Roman"/>
              </a:rPr>
              <a:t>Wytrzymałość materiałów - cz. 1, dr inż. Sylwester Samborsk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eece1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80EB5-5CBB-4F06-86D5-51D546C54659}" type="slidenum">
              <a:rPr b="1" lang="en-US" sz="1400" spc="-1" strike="noStrike">
                <a:solidFill>
                  <a:srgbClr val="eeece1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2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81E04-018B-44B6-8144-67507BCAC360}" type="datetime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7/31/26</a:t>
            </a:fld>
            <a:r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 </a:t>
            </a:r>
            <a:fld id="{99BF0249-814E-4AF6-B2E9-D2F1F0150105}" type="datetime10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8:5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1f497d"/>
                </a:solidFill>
                <a:latin typeface="Times New Roman"/>
              </a:rPr>
              <a:t>Wytrzymałość materiałów - cz. 1, dr inż. Sylwester Sambor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A0929-B1D7-4F4E-831B-18077B892B39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6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8" name="Rectangle 6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9" name="Rectangle 7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0" name="Rectangle 8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D127A-E355-4795-A68D-E5387C14B8A7}" type="datetime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7/31/26</a:t>
            </a:fld>
            <a:r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 </a:t>
            </a:r>
            <a:fld id="{3CACDBD1-1603-415A-BC19-54F3707C94BE}" type="datetime10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8:5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sldNum" idx="11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D763D-2A79-4FE3-9A8E-A77B1C7BBCDC}" type="slidenum"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1f497d"/>
                </a:solidFill>
                <a:latin typeface="Times New Roman"/>
              </a:rPr>
              <a:t>Wytrzymałość materiałów - cz. 1, dr inż. Sylwester Sambor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62D12-BEDD-439B-9416-B92E71714C39}" type="datetime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7/31/26</a:t>
            </a:fld>
            <a:r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 </a:t>
            </a:r>
            <a:fld id="{189052EA-D0DE-4A3A-9A85-761BA8C8F1EB}" type="datetime10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8:5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3EB42-8F6F-4A8E-9881-C90049106594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1f497d"/>
                </a:solidFill>
                <a:latin typeface="Times New Roman"/>
              </a:rPr>
              <a:t>Wytrzymałość materiałów - cz. 1, dr inż. Sylwester Sambor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B81F2-0DF6-4709-B5D8-89B29827196D}" type="datetime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7/31/26</a:t>
            </a:fld>
            <a:r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 </a:t>
            </a:r>
            <a:fld id="{25E1350E-4900-40D1-B484-B099C98E4B24}" type="datetime10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8:5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sldNum" idx="17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5186E-DEA6-448A-AB49-C8875AA623E0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ftr" idx="18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1f497d"/>
                </a:solidFill>
                <a:latin typeface="Times New Roman"/>
              </a:rPr>
              <a:t>Wytrzymałość materiałów - cz. 1, dr inż. Sylwester Sambor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1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2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19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67FC6-06A5-4136-A982-10A7FE44A155}" type="datetime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7/31/26</a:t>
            </a:fld>
            <a:r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 </a:t>
            </a:r>
            <a:fld id="{E9AF1CC6-8A52-4BE5-B31C-0323956C6285}" type="datetime10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8:5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ftr" idx="20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1f497d"/>
                </a:solidFill>
                <a:latin typeface="Times New Roman"/>
              </a:rPr>
              <a:t>Wytrzymałość materiałów - cz. 1, dr inż. Sylwester Sambor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sldNum" idx="2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205C3-0EDB-4D43-81A0-05DCFCC75B11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7AD25-65A9-43C8-BBA3-85175E9C128A}" type="datetime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7/31/26</a:t>
            </a:fld>
            <a:r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 </a:t>
            </a:r>
            <a:fld id="{72996280-BAFE-41C3-BEC5-BC26A7FE4009}" type="datetime10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8:5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1f497d"/>
                </a:solidFill>
                <a:latin typeface="Times New Roman"/>
              </a:rPr>
              <a:t>Wytrzymałość materiałów - cz. 1, dr inż. Sylwester Sambor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54BFF-81C3-4E3A-BFC9-EC05A3B338A7}" type="slidenum">
              <a:rPr b="1" lang="en-US" sz="1400" spc="-1" strike="noStrike">
                <a:solidFill>
                  <a:srgbClr val="1f497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9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0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5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CD42C-FF72-4FBE-9B33-6D43DF5B40FC}" type="datetime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7/31/26</a:t>
            </a:fld>
            <a:r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 </a:t>
            </a:r>
            <a:fld id="{7759721F-8157-4807-B547-B8805F96857B}" type="datetime10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8:5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6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1f497d"/>
                </a:solidFill>
                <a:latin typeface="Times New Roman"/>
              </a:rPr>
              <a:t>Wytrzymałość materiałów - cz. 1, dr inż. Sylwester Sambor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7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54E36-F179-445F-89AB-7EF8EA296D82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97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97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609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2361960" y="4038480"/>
            <a:ext cx="647676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eeece1"/>
                </a:solidFill>
                <a:latin typeface="Tw Cen MT"/>
              </a:rPr>
              <a:t>WYTRZYMAŁOŚĆ MATERIAŁÓW - CZ. 1</a:t>
            </a:r>
            <a:br>
              <a:rPr sz="3200"/>
            </a:br>
            <a:r>
              <a:rPr b="0" lang="pl-PL" sz="2400" spc="-1" strike="noStrike">
                <a:solidFill>
                  <a:srgbClr val="eeece1"/>
                </a:solidFill>
                <a:latin typeface="Tw Cen MT"/>
              </a:rPr>
              <a:t>WYKŁADY DLA STUDENTÓW</a:t>
            </a:r>
            <a:br>
              <a:rPr sz="2400"/>
            </a:br>
            <a:r>
              <a:rPr b="0" lang="pl-PL" sz="2400" spc="-1" strike="noStrike">
                <a:solidFill>
                  <a:srgbClr val="eeece1"/>
                </a:solidFill>
                <a:latin typeface="Tw Cen MT"/>
              </a:rPr>
              <a:t>STUDIÓW DZIENNYCH, MIBM</a:t>
            </a:r>
            <a:endParaRPr b="0" lang="en-US" sz="2400" spc="-1" strike="noStrike">
              <a:solidFill>
                <a:srgbClr val="eeece1"/>
              </a:solidFill>
              <a:latin typeface="Tw Cen M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w Cen MT"/>
              </a:rPr>
              <a:t>Opracował: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w Cen MT"/>
              </a:rPr>
              <a:t>Dr inż. Sylwester Samborski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7" name="Picture 2" descr=""/>
          <p:cNvPicPr/>
          <p:nvPr/>
        </p:nvPicPr>
        <p:blipFill>
          <a:blip r:embed="rId1"/>
          <a:stretch/>
        </p:blipFill>
        <p:spPr>
          <a:xfrm>
            <a:off x="4857840" y="2071800"/>
            <a:ext cx="3273480" cy="4425840"/>
          </a:xfrm>
          <a:prstGeom prst="rect">
            <a:avLst/>
          </a:prstGeom>
          <a:ln w="0">
            <a:noFill/>
          </a:ln>
        </p:spPr>
      </p:pic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1f497d"/>
                </a:solidFill>
                <a:latin typeface="Tw Cen MT"/>
              </a:rPr>
              <a:t>Proste zginanie belek, łuków lub ram</a:t>
            </a:r>
            <a:endParaRPr b="0" lang="en-US" sz="40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59" name="Symbol zastępczy stopki 2"/>
          <p:cNvSpPr/>
          <p:nvPr/>
        </p:nvSpPr>
        <p:spPr>
          <a:xfrm>
            <a:off x="0" y="6553080"/>
            <a:ext cx="9144000" cy="214560"/>
          </a:xfrm>
          <a:prstGeom prst="rect">
            <a:avLst/>
          </a:prstGeom>
          <a:solidFill>
            <a:srgbClr val="95b3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1f497d"/>
                </a:solidFill>
                <a:latin typeface="Tw Cen MT"/>
              </a:rPr>
              <a:t>Wytrzymałość materiałów - cz. 1, dr inż. Sylwester Samborski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0" name="Symbol zastępczy numeru slajdu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B6510-63C1-4A01-9181-506C6B84CE0C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1" name="Prostokąt 12"/>
          <p:cNvSpPr/>
          <p:nvPr/>
        </p:nvSpPr>
        <p:spPr>
          <a:xfrm>
            <a:off x="428760" y="2500200"/>
            <a:ext cx="4214520" cy="26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Jeżeli w danym przekroju elementu występuje </a:t>
            </a:r>
            <a:r>
              <a:rPr b="1" lang="pl-PL" sz="2000" spc="-1" strike="noStrike">
                <a:solidFill>
                  <a:srgbClr val="000000"/>
                </a:solidFill>
                <a:latin typeface="Tw Cen MT"/>
              </a:rPr>
              <a:t>tylko M</a:t>
            </a:r>
            <a:r>
              <a:rPr b="1" lang="pl-PL" sz="2000" spc="-1" strike="noStrike" baseline="-25000">
                <a:solidFill>
                  <a:srgbClr val="000000"/>
                </a:solidFill>
                <a:latin typeface="Tw Cen MT"/>
              </a:rPr>
              <a:t>g</a:t>
            </a: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 , to jest to przypadek </a:t>
            </a:r>
            <a:r>
              <a:rPr b="1" lang="pl-PL" sz="2000" spc="-1" strike="noStrike">
                <a:solidFill>
                  <a:srgbClr val="00b0f0"/>
                </a:solidFill>
                <a:latin typeface="Tw Cen MT"/>
              </a:rPr>
              <a:t>czystego zginania</a:t>
            </a: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; moment gnący można wówczas rozłożyć (dla ułatwienia obliczeń) na </a:t>
            </a:r>
            <a:r>
              <a:rPr b="0" lang="pl-PL" sz="2000" spc="-1" strike="noStrike" u="sng">
                <a:solidFill>
                  <a:srgbClr val="000000"/>
                </a:solidFill>
                <a:uFillTx/>
                <a:latin typeface="Tw Cen MT"/>
              </a:rPr>
              <a:t>dwie prostopadłe składowe</a:t>
            </a: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, działające wzdłuż osi y i z: </a:t>
            </a:r>
            <a:r>
              <a:rPr b="0" lang="pl-PL" sz="2000" spc="-1" strike="noStrike" u="sng">
                <a:solidFill>
                  <a:srgbClr val="000000"/>
                </a:solidFill>
                <a:uFillTx/>
                <a:latin typeface="Tw Cen MT"/>
              </a:rPr>
              <a:t>M</a:t>
            </a:r>
            <a:r>
              <a:rPr b="0" lang="pl-PL" sz="2000" spc="-1" strike="noStrike" u="sng" baseline="-25000">
                <a:solidFill>
                  <a:srgbClr val="000000"/>
                </a:solidFill>
                <a:uFillTx/>
                <a:latin typeface="Tw Cen MT"/>
              </a:rPr>
              <a:t>y</a:t>
            </a:r>
            <a:r>
              <a:rPr b="0" lang="pl-PL" sz="2000" spc="-1" strike="noStrike" u="sng">
                <a:solidFill>
                  <a:srgbClr val="000000"/>
                </a:solidFill>
                <a:uFillTx/>
                <a:latin typeface="Tw Cen MT"/>
              </a:rPr>
              <a:t> i M</a:t>
            </a:r>
            <a:r>
              <a:rPr b="0" lang="pl-PL" sz="2000" spc="-1" strike="noStrike" u="sng" baseline="-25000">
                <a:solidFill>
                  <a:srgbClr val="000000"/>
                </a:solidFill>
                <a:uFillTx/>
                <a:latin typeface="Tw Cen MT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2" name="Symbol zastępczy zawartości 4"/>
          <p:cNvSpPr/>
          <p:nvPr/>
        </p:nvSpPr>
        <p:spPr>
          <a:xfrm>
            <a:off x="214200" y="1600200"/>
            <a:ext cx="8715600" cy="19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900" spc="-1" strike="noStrike">
                <a:solidFill>
                  <a:srgbClr val="ff0000"/>
                </a:solidFill>
                <a:latin typeface="Tw Cen MT"/>
              </a:rPr>
              <a:t>Siły wewnętrzne – przypadki szczególn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3" name="Picture 2" descr=""/>
          <p:cNvPicPr/>
          <p:nvPr/>
        </p:nvPicPr>
        <p:blipFill>
          <a:blip r:embed="rId1"/>
          <a:stretch/>
        </p:blipFill>
        <p:spPr>
          <a:xfrm>
            <a:off x="5695920" y="1638360"/>
            <a:ext cx="2948040" cy="484812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1f497d"/>
                </a:solidFill>
                <a:latin typeface="Tw Cen MT"/>
              </a:rPr>
              <a:t>Proste zginanie belek, łuków lub ram</a:t>
            </a:r>
            <a:endParaRPr b="0" lang="en-US" sz="40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65" name="Symbol zastępczy stopki 2"/>
          <p:cNvSpPr/>
          <p:nvPr/>
        </p:nvSpPr>
        <p:spPr>
          <a:xfrm>
            <a:off x="0" y="6553080"/>
            <a:ext cx="9144000" cy="214560"/>
          </a:xfrm>
          <a:prstGeom prst="rect">
            <a:avLst/>
          </a:prstGeom>
          <a:solidFill>
            <a:srgbClr val="95b3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1f497d"/>
                </a:solidFill>
                <a:latin typeface="Tw Cen MT"/>
              </a:rPr>
              <a:t>Wytrzymałość materiałów - cz. 1, dr inż. Sylwester Samborski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6" name="Symbol zastępczy numeru slajdu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2452B-2D2D-4B17-A9AC-90658EF9EB49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7" name="Prostokąt 12"/>
          <p:cNvSpPr/>
          <p:nvPr/>
        </p:nvSpPr>
        <p:spPr>
          <a:xfrm>
            <a:off x="428760" y="2500200"/>
            <a:ext cx="4214520" cy="26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Jeżeli w danym przekroju elementu występuje </a:t>
            </a:r>
            <a:r>
              <a:rPr b="1" lang="pl-PL" sz="2000" spc="-1" strike="noStrike">
                <a:solidFill>
                  <a:srgbClr val="000000"/>
                </a:solidFill>
                <a:latin typeface="Tw Cen MT"/>
              </a:rPr>
              <a:t>tylko M</a:t>
            </a:r>
            <a:r>
              <a:rPr b="1" lang="pl-PL" sz="2000" spc="-1" strike="noStrike" baseline="-25000">
                <a:solidFill>
                  <a:srgbClr val="000000"/>
                </a:solidFill>
                <a:latin typeface="Tw Cen MT"/>
              </a:rPr>
              <a:t>g</a:t>
            </a: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 i </a:t>
            </a:r>
            <a:r>
              <a:rPr b="1" lang="pl-PL" sz="2000" spc="-1" strike="noStrike">
                <a:solidFill>
                  <a:srgbClr val="000000"/>
                </a:solidFill>
                <a:latin typeface="Tw Cen MT"/>
              </a:rPr>
              <a:t>T</a:t>
            </a: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, to jest to przypadek </a:t>
            </a:r>
            <a:r>
              <a:rPr b="1" lang="pl-PL" sz="2000" spc="-1" strike="noStrike">
                <a:solidFill>
                  <a:srgbClr val="00b0f0"/>
                </a:solidFill>
                <a:latin typeface="Tw Cen MT"/>
              </a:rPr>
              <a:t>zginania z udziałem sił poprzecznych (tnących)</a:t>
            </a: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; siłę tnącą również można rozłożyć na </a:t>
            </a:r>
            <a:r>
              <a:rPr b="0" lang="pl-PL" sz="2000" spc="-1" strike="noStrike" u="sng">
                <a:solidFill>
                  <a:srgbClr val="000000"/>
                </a:solidFill>
                <a:uFillTx/>
                <a:latin typeface="Tw Cen MT"/>
              </a:rPr>
              <a:t>dwie prostopadłe składowe</a:t>
            </a: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, działające wzdłuż osi y i z: </a:t>
            </a:r>
            <a:r>
              <a:rPr b="0" lang="pl-PL" sz="2000" spc="-1" strike="noStrike" u="sng">
                <a:solidFill>
                  <a:srgbClr val="000000"/>
                </a:solidFill>
                <a:uFillTx/>
                <a:latin typeface="Tw Cen MT"/>
              </a:rPr>
              <a:t>T</a:t>
            </a:r>
            <a:r>
              <a:rPr b="0" lang="pl-PL" sz="2000" spc="-1" strike="noStrike" u="sng" baseline="-25000">
                <a:solidFill>
                  <a:srgbClr val="000000"/>
                </a:solidFill>
                <a:uFillTx/>
                <a:latin typeface="Tw Cen MT"/>
              </a:rPr>
              <a:t>y</a:t>
            </a:r>
            <a:r>
              <a:rPr b="0" lang="pl-PL" sz="2000" spc="-1" strike="noStrike" u="sng">
                <a:solidFill>
                  <a:srgbClr val="000000"/>
                </a:solidFill>
                <a:uFillTx/>
                <a:latin typeface="Tw Cen MT"/>
              </a:rPr>
              <a:t> i T</a:t>
            </a:r>
            <a:r>
              <a:rPr b="0" lang="pl-PL" sz="2000" spc="-1" strike="noStrike" u="sng" baseline="-25000">
                <a:solidFill>
                  <a:srgbClr val="000000"/>
                </a:solidFill>
                <a:uFillTx/>
                <a:latin typeface="Tw Cen MT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8" name="Symbol zastępczy zawartości 4"/>
          <p:cNvSpPr/>
          <p:nvPr/>
        </p:nvSpPr>
        <p:spPr>
          <a:xfrm>
            <a:off x="214200" y="1600200"/>
            <a:ext cx="8715600" cy="19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900" spc="-1" strike="noStrike">
                <a:solidFill>
                  <a:srgbClr val="ff0000"/>
                </a:solidFill>
                <a:latin typeface="Tw Cen MT"/>
              </a:rPr>
              <a:t>Siły wewnętrzne – przypadki szczególn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9" name="Picture 2" descr=""/>
          <p:cNvPicPr/>
          <p:nvPr/>
        </p:nvPicPr>
        <p:blipFill>
          <a:blip r:embed="rId1"/>
          <a:stretch/>
        </p:blipFill>
        <p:spPr>
          <a:xfrm>
            <a:off x="5068800" y="2058840"/>
            <a:ext cx="3409920" cy="4478400"/>
          </a:xfrm>
          <a:prstGeom prst="rect">
            <a:avLst/>
          </a:prstGeom>
          <a:ln w="0">
            <a:noFill/>
          </a:ln>
        </p:spPr>
      </p:pic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1f497d"/>
                </a:solidFill>
                <a:latin typeface="Tw Cen MT"/>
              </a:rPr>
              <a:t>Proste zginanie belek, łuków lub ram</a:t>
            </a:r>
            <a:endParaRPr b="0" lang="en-US" sz="40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71" name="Symbol zastępczy stopki 2"/>
          <p:cNvSpPr/>
          <p:nvPr/>
        </p:nvSpPr>
        <p:spPr>
          <a:xfrm>
            <a:off x="0" y="6553080"/>
            <a:ext cx="9144000" cy="214560"/>
          </a:xfrm>
          <a:prstGeom prst="rect">
            <a:avLst/>
          </a:prstGeom>
          <a:solidFill>
            <a:srgbClr val="95b3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1f497d"/>
                </a:solidFill>
                <a:latin typeface="Tw Cen MT"/>
              </a:rPr>
              <a:t>Wytrzymałość materiałów - cz. 1, dr inż. Sylwester Samborski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2" name="Symbol zastępczy numeru slajdu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EFC75-1E3A-4EA6-B44E-886459A68E18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3" name="Prostokąt 12"/>
          <p:cNvSpPr/>
          <p:nvPr/>
        </p:nvSpPr>
        <p:spPr>
          <a:xfrm>
            <a:off x="214200" y="2143080"/>
            <a:ext cx="4500720" cy="47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Jeżeli siła tnąca (T) i </a:t>
            </a:r>
            <a:r>
              <a:rPr b="0" lang="pl-PL" sz="2000" spc="-1" strike="noStrike" u="sng">
                <a:solidFill>
                  <a:srgbClr val="000000"/>
                </a:solidFill>
                <a:uFillTx/>
                <a:latin typeface="Tw Cen MT"/>
              </a:rPr>
              <a:t>para sił o momencie M</a:t>
            </a:r>
            <a:r>
              <a:rPr b="0" lang="pl-PL" sz="2000" spc="-1" strike="noStrike" u="sng" baseline="-25000">
                <a:solidFill>
                  <a:srgbClr val="000000"/>
                </a:solidFill>
                <a:uFillTx/>
                <a:latin typeface="Tw Cen MT"/>
              </a:rPr>
              <a:t>g</a:t>
            </a: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 działają w jednej i tej samej płaszczyźnie, a płaszczyzna ta zawiera osie główne centralne bezwładności przekroju poprzecznego, to </a:t>
            </a:r>
            <a:r>
              <a:rPr b="1" lang="pl-PL" sz="2000" spc="-1" strike="noStrike">
                <a:solidFill>
                  <a:srgbClr val="00b0f0"/>
                </a:solidFill>
                <a:latin typeface="Tw Cen MT"/>
              </a:rPr>
              <a:t>zginanie</a:t>
            </a: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 takie nazywa się </a:t>
            </a:r>
            <a:r>
              <a:rPr b="1" lang="pl-PL" sz="2000" spc="-1" strike="noStrike">
                <a:solidFill>
                  <a:srgbClr val="00b0f0"/>
                </a:solidFill>
                <a:latin typeface="Tw Cen MT"/>
              </a:rPr>
              <a:t>płaskim</a:t>
            </a: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 lub </a:t>
            </a:r>
            <a:r>
              <a:rPr b="1" lang="pl-PL" sz="2000" spc="-1" strike="noStrike">
                <a:solidFill>
                  <a:srgbClr val="00b0f0"/>
                </a:solidFill>
                <a:latin typeface="Tw Cen MT"/>
              </a:rPr>
              <a:t>prostym</a:t>
            </a: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w myśl tej definicji obydwa poprzednie przypadki to przypadki tzw</a:t>
            </a:r>
            <a:r>
              <a:rPr b="1" lang="pl-PL" sz="2000" spc="-1" strike="noStrike">
                <a:solidFill>
                  <a:srgbClr val="00b0f0"/>
                </a:solidFill>
                <a:latin typeface="Tw Cen MT"/>
              </a:rPr>
              <a:t>. zginania ukośnego</a:t>
            </a: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, czyli zginania, w którym płaszczyzna działania pary sił nie pokrywa się z osią główną (odśrodkowy moment bezwładności przekroju (</a:t>
            </a:r>
            <a:r>
              <a:rPr b="0" i="1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yz</a:t>
            </a: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) nie równa się zero.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4" name="Symbol zastępczy zawartości 4"/>
          <p:cNvSpPr/>
          <p:nvPr/>
        </p:nvSpPr>
        <p:spPr>
          <a:xfrm>
            <a:off x="214200" y="1600200"/>
            <a:ext cx="8715600" cy="19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900" spc="-1" strike="noStrike">
                <a:solidFill>
                  <a:srgbClr val="ff0000"/>
                </a:solidFill>
                <a:latin typeface="Tw Cen MT"/>
              </a:rPr>
              <a:t>Siły wewnętrzne – przypadki szczególn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1f497d"/>
                </a:solidFill>
                <a:latin typeface="Tw Cen MT"/>
              </a:rPr>
              <a:t>Proste zginanie belek, łuków lub ram</a:t>
            </a:r>
            <a:endParaRPr b="0" lang="en-US" sz="40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76" name="Symbol zastępczy stopki 2"/>
          <p:cNvSpPr/>
          <p:nvPr/>
        </p:nvSpPr>
        <p:spPr>
          <a:xfrm>
            <a:off x="0" y="6553080"/>
            <a:ext cx="9144000" cy="214560"/>
          </a:xfrm>
          <a:prstGeom prst="rect">
            <a:avLst/>
          </a:prstGeom>
          <a:solidFill>
            <a:srgbClr val="95b3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1f497d"/>
                </a:solidFill>
                <a:latin typeface="Tw Cen MT"/>
              </a:rPr>
              <a:t>Wytrzymałość materiałów - cz. 1, dr inż. Sylwester Samborski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7" name="Symbol zastępczy numeru slajdu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9555D-9652-4CC7-A359-51F9AD7D8EA0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8" name="Prostokąt 12"/>
          <p:cNvSpPr/>
          <p:nvPr/>
        </p:nvSpPr>
        <p:spPr>
          <a:xfrm>
            <a:off x="214200" y="2143080"/>
            <a:ext cx="871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0000"/>
                </a:solidFill>
                <a:latin typeface="Tw Cen MT"/>
              </a:rPr>
              <a:t>Przykład</a:t>
            </a: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1" lang="pl-PL" sz="2000" spc="-1" strike="noStrike">
                <a:solidFill>
                  <a:srgbClr val="000000"/>
                </a:solidFill>
                <a:latin typeface="Tw Cen MT"/>
              </a:rPr>
              <a:t>płaskiego/prostego zginania</a:t>
            </a: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 przedstawia poniższy rysunek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9" name="Symbol zastępczy zawartości 4"/>
          <p:cNvSpPr/>
          <p:nvPr/>
        </p:nvSpPr>
        <p:spPr>
          <a:xfrm>
            <a:off x="214200" y="1600200"/>
            <a:ext cx="8715600" cy="19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900" spc="-1" strike="noStrike">
                <a:solidFill>
                  <a:srgbClr val="ff0000"/>
                </a:solidFill>
                <a:latin typeface="Tw Cen MT"/>
              </a:rPr>
              <a:t>Siły wewnętrzne – przypadki szczególn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580" name="Obraz 7" descr=""/>
          <p:cNvPicPr/>
          <p:nvPr/>
        </p:nvPicPr>
        <p:blipFill>
          <a:blip r:embed="rId1"/>
          <a:stretch/>
        </p:blipFill>
        <p:spPr>
          <a:xfrm>
            <a:off x="357120" y="2643120"/>
            <a:ext cx="8501040" cy="37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09120" y="272520"/>
            <a:ext cx="807732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1f497d"/>
                </a:solidFill>
                <a:latin typeface="Tw Cen MT"/>
              </a:rPr>
              <a:t>Proste zginanie belek, łuków lub ram</a:t>
            </a:r>
            <a:endParaRPr b="0" lang="en-US" sz="40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214200" y="1752120"/>
            <a:ext cx="2286000" cy="4343400"/>
          </a:xfrm>
          <a:prstGeom prst="rect">
            <a:avLst/>
          </a:prstGeom>
          <a:solidFill>
            <a:srgbClr val="c0504d"/>
          </a:solidFill>
          <a:ln cap="sq" w="50760">
            <a:solidFill>
              <a:srgbClr val="c0504d"/>
            </a:solidFill>
            <a:miter/>
          </a:ln>
        </p:spPr>
        <p:txBody>
          <a:bodyPr lIns="137160" rIns="137160" tIns="182880" bIns="91440" anchor="t">
            <a:normAutofit fontScale="93000"/>
          </a:bodyPr>
          <a:p>
            <a:pPr indent="0"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ffffff"/>
                </a:solidFill>
                <a:latin typeface="Tw Cen MT"/>
              </a:rPr>
              <a:t>Umowa dotycząca znaków sił wewnętrznych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ffff00"/>
                </a:solidFill>
                <a:latin typeface="Tw Cen MT"/>
              </a:rPr>
              <a:t>(przypomnienie)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indent="0" algn="ctr"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ffff00"/>
                </a:solidFill>
                <a:latin typeface="Tw Cen MT"/>
              </a:rPr>
              <a:t>!! umowa dotyczy zarówno prawej, jak i lewej części belki !!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3" name=""/>
          <p:cNvSpPr txBox="1"/>
          <p:nvPr/>
        </p:nvSpPr>
        <p:spPr>
          <a:xfrm>
            <a:off x="2600280" y="1752120"/>
            <a:ext cx="6400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900" spc="-1" strike="noStrike">
                <a:solidFill>
                  <a:srgbClr val="000000"/>
                </a:solidFill>
                <a:latin typeface="Tw Cen MT"/>
              </a:rPr>
              <a:t>Moment gnący jest dodatni, gdy belka wygina się do dołu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900" spc="-1" strike="noStrike">
                <a:solidFill>
                  <a:srgbClr val="000000"/>
                </a:solidFill>
                <a:latin typeface="Tw Cen MT"/>
              </a:rPr>
              <a:t>Siła tnąca jest dodatnia, gdy stara się obrócić część belki odciętą przekrojem w prawo (CW)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grpSp>
        <p:nvGrpSpPr>
          <p:cNvPr id="584" name="Grupa 32"/>
          <p:cNvGrpSpPr/>
          <p:nvPr/>
        </p:nvGrpSpPr>
        <p:grpSpPr>
          <a:xfrm>
            <a:off x="4479840" y="5357880"/>
            <a:ext cx="2664000" cy="1071360"/>
            <a:chOff x="4479840" y="5357880"/>
            <a:chExt cx="2664000" cy="1071360"/>
          </a:xfrm>
        </p:grpSpPr>
        <p:sp>
          <p:nvSpPr>
            <p:cNvPr id="585" name="Strzałka w górę 18"/>
            <p:cNvSpPr/>
            <p:nvPr/>
          </p:nvSpPr>
          <p:spPr>
            <a:xfrm>
              <a:off x="4979880" y="5357880"/>
              <a:ext cx="285480" cy="1071360"/>
            </a:xfrm>
            <a:prstGeom prst="upArrow">
              <a:avLst>
                <a:gd name="adj1" fmla="val 50000"/>
                <a:gd name="adj2" fmla="val 50038"/>
              </a:avLst>
            </a:prstGeom>
            <a:solidFill>
              <a:srgbClr val="f79646"/>
            </a:solidFill>
            <a:ln w="19080">
              <a:solidFill>
                <a:srgbClr val="b66d3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586" name="Strzałka w górę 19"/>
            <p:cNvSpPr/>
            <p:nvPr/>
          </p:nvSpPr>
          <p:spPr>
            <a:xfrm flipV="1">
              <a:off x="6337440" y="5357880"/>
              <a:ext cx="285480" cy="1071360"/>
            </a:xfrm>
            <a:prstGeom prst="upArrow">
              <a:avLst>
                <a:gd name="adj1" fmla="val 50000"/>
                <a:gd name="adj2" fmla="val 50038"/>
              </a:avLst>
            </a:prstGeom>
            <a:solidFill>
              <a:srgbClr val="f79646"/>
            </a:solidFill>
            <a:ln w="19080">
              <a:solidFill>
                <a:srgbClr val="b66d3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587" name="Łącznik prosty 21"/>
            <p:cNvSpPr/>
            <p:nvPr/>
          </p:nvSpPr>
          <p:spPr>
            <a:xfrm>
              <a:off x="5408640" y="5857920"/>
              <a:ext cx="785880" cy="1440"/>
            </a:xfrm>
            <a:prstGeom prst="line">
              <a:avLst/>
            </a:prstGeom>
            <a:ln w="10080">
              <a:solidFill>
                <a:srgbClr val="f79646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588" name="Text Box 2"/>
            <p:cNvSpPr/>
            <p:nvPr/>
          </p:nvSpPr>
          <p:spPr>
            <a:xfrm>
              <a:off x="4479840" y="5643360"/>
              <a:ext cx="663480" cy="53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32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T</a:t>
              </a:r>
              <a:endParaRPr b="0" lang="en-US" sz="32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589" name="Text Box 2"/>
            <p:cNvSpPr/>
            <p:nvPr/>
          </p:nvSpPr>
          <p:spPr>
            <a:xfrm>
              <a:off x="6480360" y="5643360"/>
              <a:ext cx="663480" cy="53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32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T</a:t>
              </a:r>
              <a:endParaRPr b="0" lang="en-US" sz="32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590" name="Plus 25"/>
            <p:cNvSpPr/>
            <p:nvPr/>
          </p:nvSpPr>
          <p:spPr>
            <a:xfrm>
              <a:off x="5551560" y="5613480"/>
              <a:ext cx="500040" cy="500040"/>
            </a:xfrm>
            <a:custGeom>
              <a:avLst/>
              <a:gdLst>
                <a:gd name="textAreaLeft" fmla="*/ 66240 w 500040"/>
                <a:gd name="textAreaRight" fmla="*/ 433800 w 500040"/>
                <a:gd name="textAreaTop" fmla="*/ 191160 h 500040"/>
                <a:gd name="textAreaBottom" fmla="*/ 308880 h 500040"/>
              </a:gdLst>
              <a:ahLst/>
              <a:rect l="textAreaLeft" t="textAreaTop" r="textAreaRight" b="textAreaBottom"/>
              <a:pathLst>
                <a:path w="500066" h="500066">
                  <a:moveTo>
                    <a:pt x="66284" y="191225"/>
                  </a:moveTo>
                  <a:lnTo>
                    <a:pt x="191225" y="191225"/>
                  </a:lnTo>
                  <a:lnTo>
                    <a:pt x="191225" y="66284"/>
                  </a:lnTo>
                  <a:lnTo>
                    <a:pt x="308841" y="66284"/>
                  </a:lnTo>
                  <a:lnTo>
                    <a:pt x="308841" y="191225"/>
                  </a:lnTo>
                  <a:lnTo>
                    <a:pt x="433782" y="191225"/>
                  </a:lnTo>
                  <a:lnTo>
                    <a:pt x="433782" y="308841"/>
                  </a:lnTo>
                  <a:lnTo>
                    <a:pt x="308841" y="308841"/>
                  </a:lnTo>
                  <a:lnTo>
                    <a:pt x="308841" y="433782"/>
                  </a:lnTo>
                  <a:lnTo>
                    <a:pt x="191225" y="433782"/>
                  </a:lnTo>
                  <a:lnTo>
                    <a:pt x="191225" y="308841"/>
                  </a:lnTo>
                  <a:lnTo>
                    <a:pt x="66284" y="308841"/>
                  </a:lnTo>
                  <a:close/>
                </a:path>
              </a:pathLst>
            </a:custGeom>
            <a:solidFill>
              <a:srgbClr val="f79646"/>
            </a:solidFill>
            <a:ln w="19080">
              <a:solidFill>
                <a:srgbClr val="b66d3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591" name="Prostokąt 26"/>
            <p:cNvSpPr/>
            <p:nvPr/>
          </p:nvSpPr>
          <p:spPr>
            <a:xfrm>
              <a:off x="5479920" y="5357880"/>
              <a:ext cx="642960" cy="1071360"/>
            </a:xfrm>
            <a:prstGeom prst="rect">
              <a:avLst/>
            </a:prstGeom>
            <a:noFill/>
            <a:ln w="1908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</p:grpSp>
      <p:grpSp>
        <p:nvGrpSpPr>
          <p:cNvPr id="592" name="Grupa 28"/>
          <p:cNvGrpSpPr/>
          <p:nvPr/>
        </p:nvGrpSpPr>
        <p:grpSpPr>
          <a:xfrm>
            <a:off x="3765600" y="1714680"/>
            <a:ext cx="4092480" cy="2000160"/>
            <a:chOff x="3765600" y="1714680"/>
            <a:chExt cx="4092480" cy="2000160"/>
          </a:xfrm>
        </p:grpSpPr>
        <p:grpSp>
          <p:nvGrpSpPr>
            <p:cNvPr id="593" name="Grupa 16"/>
            <p:cNvGrpSpPr/>
            <p:nvPr/>
          </p:nvGrpSpPr>
          <p:grpSpPr>
            <a:xfrm>
              <a:off x="3765600" y="1714680"/>
              <a:ext cx="4092480" cy="2000160"/>
              <a:chOff x="3765600" y="1714680"/>
              <a:chExt cx="4092480" cy="2000160"/>
            </a:xfrm>
          </p:grpSpPr>
          <p:grpSp>
            <p:nvGrpSpPr>
              <p:cNvPr id="594" name="Grupa 14"/>
              <p:cNvGrpSpPr/>
              <p:nvPr/>
            </p:nvGrpSpPr>
            <p:grpSpPr>
              <a:xfrm>
                <a:off x="4551120" y="1714680"/>
                <a:ext cx="2428920" cy="2000160"/>
                <a:chOff x="4551120" y="1714680"/>
                <a:chExt cx="2428920" cy="2000160"/>
              </a:xfrm>
            </p:grpSpPr>
            <p:sp>
              <p:nvSpPr>
                <p:cNvPr id="595" name="Łuk blokowy 4"/>
                <p:cNvSpPr/>
                <p:nvPr/>
              </p:nvSpPr>
              <p:spPr>
                <a:xfrm flipV="1">
                  <a:off x="4908240" y="1714680"/>
                  <a:ext cx="1785960" cy="2000160"/>
                </a:xfrm>
                <a:custGeom>
                  <a:avLst/>
                  <a:gdLst>
                    <a:gd name="textAreaLeft" fmla="*/ 228240 w 1785960"/>
                    <a:gd name="textAreaRight" fmla="*/ 1566720 w 1785960"/>
                    <a:gd name="textAreaTop" fmla="*/ 360 h 2000160"/>
                    <a:gd name="textAreaBottom" fmla="*/ 630000 h 2000160"/>
                  </a:gdLst>
                  <a:ahLst/>
                  <a:rect l="textAreaLeft" t="textAreaTop" r="textAreaRight" b="textAreaBottom"/>
                  <a:pathLst>
                    <a:path w="1785950" h="2000264">
                      <a:moveTo>
                        <a:pt x="228287" y="332257"/>
                      </a:moveTo>
                      <a:lnTo>
                        <a:pt x="228287" y="332257"/>
                      </a:lnTo>
                      <a:arcTo wR="892975" hR="1000132" stAng="-8091778" swAng="5435437"/>
                      <a:lnTo>
                        <a:pt x="1272760" y="629872"/>
                      </a:lnTo>
                      <a:lnTo>
                        <a:pt x="1272760" y="629872"/>
                      </a:lnTo>
                      <a:arcTo wR="486082" hR="593239" stAng="-2656346" swAng="-5435434"/>
                      <a:close/>
                    </a:path>
                  </a:pathLst>
                </a:custGeom>
                <a:solidFill>
                  <a:srgbClr val="ffffff"/>
                </a:solidFill>
                <a:ln w="19080">
                  <a:solidFill>
                    <a:srgbClr val="385d8a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w Cen MT"/>
                  </a:endParaRPr>
                </a:p>
              </p:txBody>
            </p:sp>
            <p:sp>
              <p:nvSpPr>
                <p:cNvPr id="596" name="Strzałka zakrzywiona w lewo 10"/>
                <p:cNvSpPr/>
                <p:nvPr/>
              </p:nvSpPr>
              <p:spPr>
                <a:xfrm flipV="1">
                  <a:off x="6622920" y="3000600"/>
                  <a:ext cx="357120" cy="642960"/>
                </a:xfrm>
                <a:custGeom>
                  <a:avLst/>
                  <a:gdLst>
                    <a:gd name="textAreaLeft" fmla="*/ 47880 w 357120"/>
                    <a:gd name="textAreaRight" fmla="*/ 309240 w 357120"/>
                    <a:gd name="textAreaTop" fmla="*/ 127080 h 642960"/>
                    <a:gd name="textAreaBottom" fmla="*/ 471240 h 6429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arcTo wR="21600" hR="8550" stAng="-5400000" swAng="5400000"/>
                      <a:lnTo>
                        <a:pt x="21600" y="11550"/>
                      </a:lnTo>
                      <a:arcTo wR="21600" hR="8550" stAng="0" swAng="3413035"/>
                      <a:lnTo>
                        <a:pt x="5400" y="21329"/>
                      </a:lnTo>
                      <a:lnTo>
                        <a:pt x="0" y="18600"/>
                      </a:lnTo>
                      <a:lnTo>
                        <a:pt x="5400" y="15329"/>
                      </a:lnTo>
                      <a:lnTo>
                        <a:pt x="5400" y="16829"/>
                      </a:lnTo>
                      <a:arcTo wR="21600" hR="8550" stAng="3413035" swAng="-3170942"/>
                      <a:lnTo>
                        <a:pt x="21265" y="10050"/>
                      </a:lnTo>
                      <a:arcTo wR="21600" hR="8550" stAng="-242092" swAng="-5157908"/>
                      <a:close/>
                    </a:path>
                    <a:path fill="darkenLess" w="21600" h="21600">
                      <a:moveTo>
                        <a:pt x="0" y="0"/>
                      </a:moveTo>
                      <a:arcTo wR="21600" hR="8550" stAng="-5400000" swAng="5400000"/>
                      <a:lnTo>
                        <a:pt x="21600" y="11550"/>
                      </a:lnTo>
                      <a:arcTo wR="21600" hR="8550" stAng="0" swAng="-242092"/>
                      <a:lnTo>
                        <a:pt x="21265" y="10050"/>
                      </a:lnTo>
                      <a:arcTo wR="21600" hR="8550" stAng="-242092" swAng="-5157908"/>
                      <a:close/>
                    </a:path>
                  </a:pathLst>
                </a:custGeom>
                <a:solidFill>
                  <a:srgbClr val="4f81bd"/>
                </a:solidFill>
                <a:ln w="19080">
                  <a:solidFill>
                    <a:srgbClr val="385d8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w Cen MT"/>
                  </a:endParaRPr>
                </a:p>
              </p:txBody>
            </p:sp>
            <p:sp>
              <p:nvSpPr>
                <p:cNvPr id="597" name="Strzałka zakrzywiona w lewo 12"/>
                <p:cNvSpPr/>
                <p:nvPr/>
              </p:nvSpPr>
              <p:spPr>
                <a:xfrm flipH="1" flipV="1">
                  <a:off x="4551120" y="3000600"/>
                  <a:ext cx="357120" cy="642960"/>
                </a:xfrm>
                <a:custGeom>
                  <a:avLst/>
                  <a:gdLst>
                    <a:gd name="textAreaLeft" fmla="*/ 47880 w 357120"/>
                    <a:gd name="textAreaRight" fmla="*/ 309240 w 357120"/>
                    <a:gd name="textAreaTop" fmla="*/ 127080 h 642960"/>
                    <a:gd name="textAreaBottom" fmla="*/ 471240 h 6429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arcTo wR="21600" hR="8550" stAng="-5400000" swAng="5400000"/>
                      <a:lnTo>
                        <a:pt x="21600" y="11550"/>
                      </a:lnTo>
                      <a:arcTo wR="21600" hR="8550" stAng="0" swAng="3413035"/>
                      <a:lnTo>
                        <a:pt x="5400" y="21329"/>
                      </a:lnTo>
                      <a:lnTo>
                        <a:pt x="0" y="18600"/>
                      </a:lnTo>
                      <a:lnTo>
                        <a:pt x="5400" y="15329"/>
                      </a:lnTo>
                      <a:lnTo>
                        <a:pt x="5400" y="16829"/>
                      </a:lnTo>
                      <a:arcTo wR="21600" hR="8550" stAng="3413035" swAng="-3170942"/>
                      <a:lnTo>
                        <a:pt x="21265" y="10050"/>
                      </a:lnTo>
                      <a:arcTo wR="21600" hR="8550" stAng="-242092" swAng="-5157908"/>
                      <a:close/>
                    </a:path>
                    <a:path fill="darkenLess" w="21600" h="21600">
                      <a:moveTo>
                        <a:pt x="0" y="0"/>
                      </a:moveTo>
                      <a:arcTo wR="21600" hR="8550" stAng="-5400000" swAng="5400000"/>
                      <a:lnTo>
                        <a:pt x="21600" y="11550"/>
                      </a:lnTo>
                      <a:arcTo wR="21600" hR="8550" stAng="0" swAng="-242092"/>
                      <a:lnTo>
                        <a:pt x="21265" y="10050"/>
                      </a:lnTo>
                      <a:arcTo wR="21600" hR="8550" stAng="-242092" swAng="-5157908"/>
                      <a:close/>
                    </a:path>
                  </a:pathLst>
                </a:custGeom>
                <a:solidFill>
                  <a:srgbClr val="4f81bd"/>
                </a:solidFill>
                <a:ln w="19080">
                  <a:solidFill>
                    <a:srgbClr val="385d8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w Cen MT"/>
                  </a:endParaRPr>
                </a:p>
              </p:txBody>
            </p:sp>
            <p:sp>
              <p:nvSpPr>
                <p:cNvPr id="598" name="Plus 13"/>
                <p:cNvSpPr/>
                <p:nvPr/>
              </p:nvSpPr>
              <p:spPr>
                <a:xfrm>
                  <a:off x="5551200" y="2643480"/>
                  <a:ext cx="500040" cy="500040"/>
                </a:xfrm>
                <a:custGeom>
                  <a:avLst/>
                  <a:gdLst>
                    <a:gd name="textAreaLeft" fmla="*/ 66240 w 500040"/>
                    <a:gd name="textAreaRight" fmla="*/ 433800 w 500040"/>
                    <a:gd name="textAreaTop" fmla="*/ 191160 h 500040"/>
                    <a:gd name="textAreaBottom" fmla="*/ 308880 h 500040"/>
                  </a:gdLst>
                  <a:ahLst/>
                  <a:rect l="textAreaLeft" t="textAreaTop" r="textAreaRight" b="textAreaBottom"/>
                  <a:pathLst>
                    <a:path w="500066" h="500066">
                      <a:moveTo>
                        <a:pt x="66284" y="191225"/>
                      </a:moveTo>
                      <a:lnTo>
                        <a:pt x="191225" y="191225"/>
                      </a:lnTo>
                      <a:lnTo>
                        <a:pt x="191225" y="66284"/>
                      </a:lnTo>
                      <a:lnTo>
                        <a:pt x="308841" y="66284"/>
                      </a:lnTo>
                      <a:lnTo>
                        <a:pt x="308841" y="191225"/>
                      </a:lnTo>
                      <a:lnTo>
                        <a:pt x="433782" y="191225"/>
                      </a:lnTo>
                      <a:lnTo>
                        <a:pt x="433782" y="308841"/>
                      </a:lnTo>
                      <a:lnTo>
                        <a:pt x="308841" y="308841"/>
                      </a:lnTo>
                      <a:lnTo>
                        <a:pt x="308841" y="433782"/>
                      </a:lnTo>
                      <a:lnTo>
                        <a:pt x="191225" y="433782"/>
                      </a:lnTo>
                      <a:lnTo>
                        <a:pt x="191225" y="308841"/>
                      </a:lnTo>
                      <a:lnTo>
                        <a:pt x="66284" y="308841"/>
                      </a:lnTo>
                      <a:close/>
                    </a:path>
                  </a:pathLst>
                </a:custGeom>
                <a:solidFill>
                  <a:srgbClr val="4f81bd"/>
                </a:solidFill>
                <a:ln w="19080">
                  <a:solidFill>
                    <a:srgbClr val="385d8a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w Cen MT"/>
                  </a:endParaRPr>
                </a:p>
              </p:txBody>
            </p:sp>
          </p:grpSp>
          <p:sp>
            <p:nvSpPr>
              <p:cNvPr id="599" name="Text Box 2"/>
              <p:cNvSpPr/>
              <p:nvPr/>
            </p:nvSpPr>
            <p:spPr>
              <a:xfrm>
                <a:off x="3765600" y="3071880"/>
                <a:ext cx="663480" cy="53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pl-PL" sz="32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M</a:t>
                </a:r>
                <a:r>
                  <a:rPr b="0" lang="pl-PL" sz="3200" spc="-1" strike="noStrike" baseline="-25000">
                    <a:solidFill>
                      <a:srgbClr val="000000"/>
                    </a:solidFill>
                    <a:latin typeface="Calibri"/>
                    <a:ea typeface="Arial"/>
                  </a:rPr>
                  <a:t>g</a:t>
                </a:r>
                <a:endParaRPr b="0" lang="en-US" sz="3200" spc="-1" strike="noStrike">
                  <a:solidFill>
                    <a:srgbClr val="000000"/>
                  </a:solidFill>
                  <a:latin typeface="Tw Cen MT"/>
                </a:endParaRPr>
              </a:p>
            </p:txBody>
          </p:sp>
          <p:sp>
            <p:nvSpPr>
              <p:cNvPr id="600" name="Text Box 2"/>
              <p:cNvSpPr/>
              <p:nvPr/>
            </p:nvSpPr>
            <p:spPr>
              <a:xfrm>
                <a:off x="7194600" y="3071880"/>
                <a:ext cx="663480" cy="53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pl-PL" sz="32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M</a:t>
                </a:r>
                <a:r>
                  <a:rPr b="0" lang="pl-PL" sz="3200" spc="-1" strike="noStrike" baseline="-25000">
                    <a:solidFill>
                      <a:srgbClr val="000000"/>
                    </a:solidFill>
                    <a:latin typeface="Calibri"/>
                    <a:ea typeface="Arial"/>
                  </a:rPr>
                  <a:t>g</a:t>
                </a:r>
                <a:endParaRPr b="0" lang="en-US" sz="3200" spc="-1" strike="noStrike">
                  <a:solidFill>
                    <a:srgbClr val="000000"/>
                  </a:solidFill>
                  <a:latin typeface="Tw Cen MT"/>
                </a:endParaRPr>
              </a:p>
            </p:txBody>
          </p:sp>
        </p:grpSp>
        <p:sp>
          <p:nvSpPr>
            <p:cNvPr id="601" name="Łuk 27"/>
            <p:cNvSpPr/>
            <p:nvPr/>
          </p:nvSpPr>
          <p:spPr>
            <a:xfrm flipV="1">
              <a:off x="5194440" y="2642760"/>
              <a:ext cx="1214280" cy="857160"/>
            </a:xfrm>
            <a:custGeom>
              <a:avLst/>
              <a:gdLst>
                <a:gd name="textAreaLeft" fmla="*/ 15480 w 1214280"/>
                <a:gd name="textAreaRight" fmla="*/ 1203840 w 1214280"/>
                <a:gd name="textAreaTop" fmla="*/ -360 h 857160"/>
                <a:gd name="textAreaBottom" fmla="*/ 348120 h 857160"/>
              </a:gdLst>
              <a:ahLst/>
              <a:rect l="textAreaLeft" t="textAreaTop" r="textAreaRight" b="textAreaBottom"/>
              <a:pathLst>
                <a:path stroke="0" w="1214446" h="857256">
                  <a:moveTo>
                    <a:pt x="15797" y="331496"/>
                  </a:moveTo>
                  <a:lnTo>
                    <a:pt x="15797" y="331496"/>
                  </a:lnTo>
                  <a:arcTo wR="607223" hR="428628" stAng="-10240402" swAng="9781976"/>
                  <a:lnTo>
                    <a:pt x="607223" y="428628"/>
                  </a:lnTo>
                  <a:close/>
                </a:path>
                <a:path fill="none" w="1214446" h="857256">
                  <a:moveTo>
                    <a:pt x="15797" y="331496"/>
                  </a:moveTo>
                  <a:lnTo>
                    <a:pt x="15797" y="331496"/>
                  </a:lnTo>
                  <a:arcTo wR="607223" hR="428628" stAng="-10240402" swAng="9781976"/>
                </a:path>
              </a:pathLst>
            </a:custGeom>
            <a:noFill/>
            <a:ln w="10080">
              <a:solidFill>
                <a:srgbClr val="4f81bd"/>
              </a:solidFill>
              <a:prstDash val="lgDash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</p:grpSp>
      <p:sp>
        <p:nvSpPr>
          <p:cNvPr id="602" name="Symbol zastępczy numeru slajdu 22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23910-70C8-4095-AC92-3D75D97BCC41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3" name="Symbol zastępczy stopki 2"/>
          <p:cNvSpPr/>
          <p:nvPr/>
        </p:nvSpPr>
        <p:spPr>
          <a:xfrm>
            <a:off x="0" y="6553080"/>
            <a:ext cx="9144000" cy="214560"/>
          </a:xfrm>
          <a:prstGeom prst="rect">
            <a:avLst/>
          </a:prstGeom>
          <a:solidFill>
            <a:srgbClr val="95b3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1f497d"/>
                </a:solidFill>
                <a:latin typeface="Tw Cen MT"/>
              </a:rPr>
              <a:t>Wytrzymałość materiałów - cz. 1, dr inż. Sylwester Samborski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09120" y="272520"/>
            <a:ext cx="807732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1f497d"/>
                </a:solidFill>
                <a:latin typeface="Tw Cen MT"/>
              </a:rPr>
              <a:t>Proste zginanie belek, łuków lub ram</a:t>
            </a:r>
            <a:endParaRPr b="0" lang="en-US" sz="40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285480" y="1752120"/>
            <a:ext cx="2500200" cy="4343400"/>
          </a:xfrm>
          <a:prstGeom prst="rect">
            <a:avLst/>
          </a:prstGeom>
          <a:solidFill>
            <a:srgbClr val="c0504d"/>
          </a:solidFill>
          <a:ln cap="sq" w="50760">
            <a:solidFill>
              <a:srgbClr val="c0504d"/>
            </a:solidFill>
            <a:miter/>
          </a:ln>
        </p:spPr>
        <p:txBody>
          <a:bodyPr lIns="137160" rIns="137160" tIns="182880" bIns="91440" anchor="t">
            <a:normAutofit fontScale="95000"/>
          </a:bodyPr>
          <a:p>
            <a:pPr indent="0"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w Cen MT"/>
              </a:rPr>
              <a:t>Umowa dotycząca znaków sił wewnętrznych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00"/>
                </a:solidFill>
                <a:latin typeface="Tw Cen MT"/>
              </a:rPr>
              <a:t>(przypomnienie)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w Cen MT"/>
              </a:rPr>
              <a:t>Wektor Ms pozornie „rozciąga” wał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6" name=""/>
          <p:cNvSpPr txBox="1"/>
          <p:nvPr/>
        </p:nvSpPr>
        <p:spPr>
          <a:xfrm>
            <a:off x="2886120" y="1785600"/>
            <a:ext cx="6400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900" spc="-1" strike="noStrike">
                <a:solidFill>
                  <a:srgbClr val="000000"/>
                </a:solidFill>
                <a:latin typeface="Tw Cen MT"/>
              </a:rPr>
              <a:t>Siła normalna jest dodatnia, gdy powoduje rozciąganie pręta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900" spc="-1" strike="noStrike">
                <a:solidFill>
                  <a:srgbClr val="000000"/>
                </a:solidFill>
                <a:latin typeface="Tw Cen MT"/>
              </a:rPr>
              <a:t>Moment skręcający jest dodatni, gdy wektor momentu jest zwrócony na zewnątrz wycinka wału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grpSp>
        <p:nvGrpSpPr>
          <p:cNvPr id="607" name="Grupa 39"/>
          <p:cNvGrpSpPr/>
          <p:nvPr/>
        </p:nvGrpSpPr>
        <p:grpSpPr>
          <a:xfrm>
            <a:off x="4214880" y="2714760"/>
            <a:ext cx="3071880" cy="1143000"/>
            <a:chOff x="4214880" y="2714760"/>
            <a:chExt cx="3071880" cy="1143000"/>
          </a:xfrm>
        </p:grpSpPr>
        <p:grpSp>
          <p:nvGrpSpPr>
            <p:cNvPr id="608" name="Grupa 29"/>
            <p:cNvGrpSpPr/>
            <p:nvPr/>
          </p:nvGrpSpPr>
          <p:grpSpPr>
            <a:xfrm>
              <a:off x="4214880" y="2714760"/>
              <a:ext cx="2806920" cy="1143000"/>
              <a:chOff x="4214880" y="2714760"/>
              <a:chExt cx="2806920" cy="1143000"/>
            </a:xfrm>
          </p:grpSpPr>
          <p:sp>
            <p:nvSpPr>
              <p:cNvPr id="609" name="Strzałka w górę 18"/>
              <p:cNvSpPr/>
              <p:nvPr/>
            </p:nvSpPr>
            <p:spPr>
              <a:xfrm rot="16200000">
                <a:off x="4608000" y="2750040"/>
                <a:ext cx="285480" cy="1071720"/>
              </a:xfrm>
              <a:prstGeom prst="upArrow">
                <a:avLst>
                  <a:gd name="adj1" fmla="val 50000"/>
                  <a:gd name="adj2" fmla="val 50055"/>
                </a:avLst>
              </a:prstGeom>
              <a:solidFill>
                <a:srgbClr val="4bacc6"/>
              </a:solidFill>
              <a:ln w="19080">
                <a:solidFill>
                  <a:srgbClr val="357d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w Cen MT"/>
                </a:endParaRPr>
              </a:p>
            </p:txBody>
          </p:sp>
          <p:sp>
            <p:nvSpPr>
              <p:cNvPr id="610" name="Łącznik prosty 21"/>
              <p:cNvSpPr/>
              <p:nvPr/>
            </p:nvSpPr>
            <p:spPr>
              <a:xfrm>
                <a:off x="5357880" y="3286080"/>
                <a:ext cx="785880" cy="1440"/>
              </a:xfrm>
              <a:prstGeom prst="line">
                <a:avLst/>
              </a:prstGeom>
              <a:ln w="10080">
                <a:solidFill>
                  <a:srgbClr val="4f81bd"/>
                </a:solidFill>
                <a:prstDash val="lg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w Cen MT"/>
                </a:endParaRPr>
              </a:p>
            </p:txBody>
          </p:sp>
          <p:sp>
            <p:nvSpPr>
              <p:cNvPr id="611" name="Text Box 2"/>
              <p:cNvSpPr/>
              <p:nvPr/>
            </p:nvSpPr>
            <p:spPr>
              <a:xfrm>
                <a:off x="4572000" y="2714760"/>
                <a:ext cx="663480" cy="53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pl-PL" sz="32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N</a:t>
                </a:r>
                <a:endParaRPr b="0" lang="en-US" sz="3200" spc="-1" strike="noStrike">
                  <a:solidFill>
                    <a:srgbClr val="000000"/>
                  </a:solidFill>
                  <a:latin typeface="Tw Cen MT"/>
                </a:endParaRPr>
              </a:p>
            </p:txBody>
          </p:sp>
          <p:sp>
            <p:nvSpPr>
              <p:cNvPr id="612" name="Text Box 2"/>
              <p:cNvSpPr/>
              <p:nvPr/>
            </p:nvSpPr>
            <p:spPr>
              <a:xfrm>
                <a:off x="6358320" y="2714760"/>
                <a:ext cx="663480" cy="53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pl-PL" sz="32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N</a:t>
                </a:r>
                <a:endParaRPr b="0" lang="en-US" sz="3200" spc="-1" strike="noStrike">
                  <a:solidFill>
                    <a:srgbClr val="000000"/>
                  </a:solidFill>
                  <a:latin typeface="Tw Cen MT"/>
                </a:endParaRPr>
              </a:p>
            </p:txBody>
          </p:sp>
          <p:sp>
            <p:nvSpPr>
              <p:cNvPr id="613" name="Plus 25"/>
              <p:cNvSpPr/>
              <p:nvPr/>
            </p:nvSpPr>
            <p:spPr>
              <a:xfrm>
                <a:off x="5500800" y="3042000"/>
                <a:ext cx="500040" cy="500040"/>
              </a:xfrm>
              <a:custGeom>
                <a:avLst/>
                <a:gdLst>
                  <a:gd name="textAreaLeft" fmla="*/ 66240 w 500040"/>
                  <a:gd name="textAreaRight" fmla="*/ 433800 w 500040"/>
                  <a:gd name="textAreaTop" fmla="*/ 191160 h 500040"/>
                  <a:gd name="textAreaBottom" fmla="*/ 308880 h 500040"/>
                </a:gdLst>
                <a:ahLst/>
                <a:rect l="textAreaLeft" t="textAreaTop" r="textAreaRight" b="textAreaBottom"/>
                <a:pathLst>
                  <a:path w="500066" h="500066">
                    <a:moveTo>
                      <a:pt x="66284" y="191225"/>
                    </a:moveTo>
                    <a:lnTo>
                      <a:pt x="191225" y="191225"/>
                    </a:lnTo>
                    <a:lnTo>
                      <a:pt x="191225" y="66284"/>
                    </a:lnTo>
                    <a:lnTo>
                      <a:pt x="308841" y="66284"/>
                    </a:lnTo>
                    <a:lnTo>
                      <a:pt x="308841" y="191225"/>
                    </a:lnTo>
                    <a:lnTo>
                      <a:pt x="433782" y="191225"/>
                    </a:lnTo>
                    <a:lnTo>
                      <a:pt x="433782" y="308841"/>
                    </a:lnTo>
                    <a:lnTo>
                      <a:pt x="308841" y="308841"/>
                    </a:lnTo>
                    <a:lnTo>
                      <a:pt x="308841" y="433782"/>
                    </a:lnTo>
                    <a:lnTo>
                      <a:pt x="191225" y="433782"/>
                    </a:lnTo>
                    <a:lnTo>
                      <a:pt x="191225" y="308841"/>
                    </a:lnTo>
                    <a:lnTo>
                      <a:pt x="66284" y="308841"/>
                    </a:lnTo>
                    <a:close/>
                  </a:path>
                </a:pathLst>
              </a:custGeom>
              <a:solidFill>
                <a:srgbClr val="4bacc6"/>
              </a:solidFill>
              <a:ln w="19080">
                <a:solidFill>
                  <a:srgbClr val="357d9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w Cen MT"/>
                </a:endParaRPr>
              </a:p>
            </p:txBody>
          </p:sp>
          <p:sp>
            <p:nvSpPr>
              <p:cNvPr id="614" name="Prostokąt 26"/>
              <p:cNvSpPr/>
              <p:nvPr/>
            </p:nvSpPr>
            <p:spPr>
              <a:xfrm>
                <a:off x="5429520" y="2786040"/>
                <a:ext cx="642960" cy="1071720"/>
              </a:xfrm>
              <a:prstGeom prst="rect">
                <a:avLst/>
              </a:prstGeom>
              <a:noFill/>
              <a:ln w="19080">
                <a:solidFill>
                  <a:srgbClr val="4bac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w Cen MT"/>
                </a:endParaRPr>
              </a:p>
            </p:txBody>
          </p:sp>
        </p:grpSp>
        <p:sp>
          <p:nvSpPr>
            <p:cNvPr id="615" name="Strzałka w górę 22"/>
            <p:cNvSpPr/>
            <p:nvPr/>
          </p:nvSpPr>
          <p:spPr>
            <a:xfrm flipH="1" rot="5400000">
              <a:off x="6608160" y="2750040"/>
              <a:ext cx="285480" cy="1071360"/>
            </a:xfrm>
            <a:prstGeom prst="upArrow">
              <a:avLst>
                <a:gd name="adj1" fmla="val 50000"/>
                <a:gd name="adj2" fmla="val 50038"/>
              </a:avLst>
            </a:prstGeom>
            <a:solidFill>
              <a:srgbClr val="4bacc6"/>
            </a:solidFill>
            <a:ln w="19080">
              <a:solidFill>
                <a:srgbClr val="357d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</p:grpSp>
      <p:grpSp>
        <p:nvGrpSpPr>
          <p:cNvPr id="616" name="Grupa 42"/>
          <p:cNvGrpSpPr/>
          <p:nvPr/>
        </p:nvGrpSpPr>
        <p:grpSpPr>
          <a:xfrm>
            <a:off x="4000680" y="5286240"/>
            <a:ext cx="3500280" cy="1143000"/>
            <a:chOff x="4000680" y="5286240"/>
            <a:chExt cx="3500280" cy="1143000"/>
          </a:xfrm>
        </p:grpSpPr>
        <p:sp>
          <p:nvSpPr>
            <p:cNvPr id="617" name="Strzałka w górę 41"/>
            <p:cNvSpPr/>
            <p:nvPr/>
          </p:nvSpPr>
          <p:spPr>
            <a:xfrm flipH="1" rot="5400000">
              <a:off x="6822360" y="5321520"/>
              <a:ext cx="285480" cy="1071360"/>
            </a:xfrm>
            <a:prstGeom prst="upArrow">
              <a:avLst>
                <a:gd name="adj1" fmla="val 50000"/>
                <a:gd name="adj2" fmla="val 50038"/>
              </a:avLst>
            </a:prstGeom>
            <a:solidFill>
              <a:srgbClr val="9bbb59"/>
            </a:solidFill>
            <a:ln w="19080">
              <a:solidFill>
                <a:srgbClr val="7189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618" name="Strzałka w górę 40"/>
            <p:cNvSpPr/>
            <p:nvPr/>
          </p:nvSpPr>
          <p:spPr>
            <a:xfrm rot="16200000">
              <a:off x="4393440" y="5321520"/>
              <a:ext cx="285480" cy="1071360"/>
            </a:xfrm>
            <a:prstGeom prst="upArrow">
              <a:avLst>
                <a:gd name="adj1" fmla="val 50000"/>
                <a:gd name="adj2" fmla="val 50038"/>
              </a:avLst>
            </a:prstGeom>
            <a:solidFill>
              <a:srgbClr val="9bbb59"/>
            </a:solidFill>
            <a:ln w="19080">
              <a:solidFill>
                <a:srgbClr val="7189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619" name="Strzałka w górę 32"/>
            <p:cNvSpPr/>
            <p:nvPr/>
          </p:nvSpPr>
          <p:spPr>
            <a:xfrm rot="16200000">
              <a:off x="4607640" y="5321520"/>
              <a:ext cx="285480" cy="1071360"/>
            </a:xfrm>
            <a:prstGeom prst="upArrow">
              <a:avLst>
                <a:gd name="adj1" fmla="val 50000"/>
                <a:gd name="adj2" fmla="val 50038"/>
              </a:avLst>
            </a:prstGeom>
            <a:solidFill>
              <a:srgbClr val="9bbb59"/>
            </a:solidFill>
            <a:ln w="19080">
              <a:solidFill>
                <a:srgbClr val="7189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620" name="Łącznik prosty 33"/>
            <p:cNvSpPr/>
            <p:nvPr/>
          </p:nvSpPr>
          <p:spPr>
            <a:xfrm>
              <a:off x="5357880" y="5857560"/>
              <a:ext cx="785520" cy="1440"/>
            </a:xfrm>
            <a:prstGeom prst="line">
              <a:avLst/>
            </a:prstGeom>
            <a:ln w="10080">
              <a:solidFill>
                <a:srgbClr val="9bbb59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621" name="Text Box 2"/>
            <p:cNvSpPr/>
            <p:nvPr/>
          </p:nvSpPr>
          <p:spPr>
            <a:xfrm>
              <a:off x="4429080" y="5286240"/>
              <a:ext cx="663480" cy="53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32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Ms</a:t>
              </a:r>
              <a:endParaRPr b="0" lang="en-US" sz="32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622" name="Text Box 2"/>
            <p:cNvSpPr/>
            <p:nvPr/>
          </p:nvSpPr>
          <p:spPr>
            <a:xfrm>
              <a:off x="6480360" y="5286240"/>
              <a:ext cx="663480" cy="53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32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Ms</a:t>
              </a:r>
              <a:endParaRPr b="0" lang="en-US" sz="32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623" name="Plus 36"/>
            <p:cNvSpPr/>
            <p:nvPr/>
          </p:nvSpPr>
          <p:spPr>
            <a:xfrm>
              <a:off x="5500800" y="5613480"/>
              <a:ext cx="500040" cy="500040"/>
            </a:xfrm>
            <a:custGeom>
              <a:avLst/>
              <a:gdLst>
                <a:gd name="textAreaLeft" fmla="*/ 66240 w 500040"/>
                <a:gd name="textAreaRight" fmla="*/ 433800 w 500040"/>
                <a:gd name="textAreaTop" fmla="*/ 191160 h 500040"/>
                <a:gd name="textAreaBottom" fmla="*/ 308880 h 500040"/>
              </a:gdLst>
              <a:ahLst/>
              <a:rect l="textAreaLeft" t="textAreaTop" r="textAreaRight" b="textAreaBottom"/>
              <a:pathLst>
                <a:path w="500066" h="500066">
                  <a:moveTo>
                    <a:pt x="66284" y="191225"/>
                  </a:moveTo>
                  <a:lnTo>
                    <a:pt x="191225" y="191225"/>
                  </a:lnTo>
                  <a:lnTo>
                    <a:pt x="191225" y="66284"/>
                  </a:lnTo>
                  <a:lnTo>
                    <a:pt x="308841" y="66284"/>
                  </a:lnTo>
                  <a:lnTo>
                    <a:pt x="308841" y="191225"/>
                  </a:lnTo>
                  <a:lnTo>
                    <a:pt x="433782" y="191225"/>
                  </a:lnTo>
                  <a:lnTo>
                    <a:pt x="433782" y="308841"/>
                  </a:lnTo>
                  <a:lnTo>
                    <a:pt x="308841" y="308841"/>
                  </a:lnTo>
                  <a:lnTo>
                    <a:pt x="308841" y="433782"/>
                  </a:lnTo>
                  <a:lnTo>
                    <a:pt x="191225" y="433782"/>
                  </a:lnTo>
                  <a:lnTo>
                    <a:pt x="191225" y="308841"/>
                  </a:lnTo>
                  <a:lnTo>
                    <a:pt x="66284" y="308841"/>
                  </a:lnTo>
                  <a:close/>
                </a:path>
              </a:pathLst>
            </a:custGeom>
            <a:solidFill>
              <a:srgbClr val="9bbb59"/>
            </a:solidFill>
            <a:ln w="19080">
              <a:solidFill>
                <a:srgbClr val="71893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624" name="Prostokąt 37"/>
            <p:cNvSpPr/>
            <p:nvPr/>
          </p:nvSpPr>
          <p:spPr>
            <a:xfrm>
              <a:off x="5429160" y="5357520"/>
              <a:ext cx="642960" cy="1071720"/>
            </a:xfrm>
            <a:prstGeom prst="rect">
              <a:avLst/>
            </a:prstGeom>
            <a:noFill/>
            <a:ln w="1908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625" name="Strzałka w górę 38"/>
            <p:cNvSpPr/>
            <p:nvPr/>
          </p:nvSpPr>
          <p:spPr>
            <a:xfrm flipH="1" rot="5400000">
              <a:off x="6607800" y="5321520"/>
              <a:ext cx="285480" cy="1071360"/>
            </a:xfrm>
            <a:prstGeom prst="upArrow">
              <a:avLst>
                <a:gd name="adj1" fmla="val 50000"/>
                <a:gd name="adj2" fmla="val 50038"/>
              </a:avLst>
            </a:prstGeom>
            <a:solidFill>
              <a:srgbClr val="9bbb59"/>
            </a:solidFill>
            <a:ln w="19080">
              <a:solidFill>
                <a:srgbClr val="7189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</p:grpSp>
      <p:sp>
        <p:nvSpPr>
          <p:cNvPr id="626" name="Symbol zastępczy numeru slajdu 27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75123-111D-4E74-B136-74F04A482118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7" name="Symbol zastępczy stopki 2"/>
          <p:cNvSpPr/>
          <p:nvPr/>
        </p:nvSpPr>
        <p:spPr>
          <a:xfrm>
            <a:off x="0" y="6553080"/>
            <a:ext cx="9144000" cy="214560"/>
          </a:xfrm>
          <a:prstGeom prst="rect">
            <a:avLst/>
          </a:prstGeom>
          <a:solidFill>
            <a:srgbClr val="95b3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1f497d"/>
                </a:solidFill>
                <a:latin typeface="Tw Cen MT"/>
              </a:rPr>
              <a:t>Wytrzymałość materiałów - cz. 1, dr inż. Sylwester Samborski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8" name="Prostokąt 30"/>
          <p:cNvSpPr/>
          <p:nvPr/>
        </p:nvSpPr>
        <p:spPr>
          <a:xfrm>
            <a:off x="0" y="3929040"/>
            <a:ext cx="9144000" cy="2571840"/>
          </a:xfrm>
          <a:prstGeom prst="rect">
            <a:avLst/>
          </a:prstGeom>
          <a:solidFill>
            <a:srgbClr val="4f81bd">
              <a:alpha val="56000"/>
            </a:srgbClr>
          </a:solidFill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9" name="Picture 4" descr=""/>
          <p:cNvPicPr/>
          <p:nvPr/>
        </p:nvPicPr>
        <p:blipFill>
          <a:blip r:embed="rId1"/>
          <a:stretch/>
        </p:blipFill>
        <p:spPr>
          <a:xfrm>
            <a:off x="5427720" y="3000240"/>
            <a:ext cx="3451320" cy="3462480"/>
          </a:xfrm>
          <a:prstGeom prst="rect">
            <a:avLst/>
          </a:prstGeom>
          <a:ln w="0">
            <a:noFill/>
          </a:ln>
        </p:spPr>
      </p:pic>
      <p:pic>
        <p:nvPicPr>
          <p:cNvPr id="630" name="Picture 3" descr=""/>
          <p:cNvPicPr/>
          <p:nvPr/>
        </p:nvPicPr>
        <p:blipFill>
          <a:blip r:embed="rId2"/>
          <a:stretch/>
        </p:blipFill>
        <p:spPr>
          <a:xfrm>
            <a:off x="1133640" y="4786200"/>
            <a:ext cx="1795320" cy="1629000"/>
          </a:xfrm>
          <a:prstGeom prst="rect">
            <a:avLst/>
          </a:prstGeom>
          <a:ln w="0">
            <a:noFill/>
          </a:ln>
        </p:spPr>
      </p:pic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1f497d"/>
                </a:solidFill>
                <a:latin typeface="Tw Cen MT"/>
              </a:rPr>
              <a:t>Proste zginanie belek, łuków lub ram</a:t>
            </a:r>
            <a:endParaRPr b="0" lang="en-US" sz="40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632" name="Symbol zastępczy stopki 2"/>
          <p:cNvSpPr/>
          <p:nvPr/>
        </p:nvSpPr>
        <p:spPr>
          <a:xfrm>
            <a:off x="0" y="6553080"/>
            <a:ext cx="9144000" cy="214560"/>
          </a:xfrm>
          <a:prstGeom prst="rect">
            <a:avLst/>
          </a:prstGeom>
          <a:solidFill>
            <a:srgbClr val="95b3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1f497d"/>
                </a:solidFill>
                <a:latin typeface="Tw Cen MT"/>
              </a:rPr>
              <a:t>Wytrzymałość materiałów - cz. 1, dr inż. Sylwester Samborski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3" name="Symbol zastępczy numeru slajdu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02A67-F68D-435E-A238-AFC60484204D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4" name="Prostokąt 12"/>
          <p:cNvSpPr/>
          <p:nvPr/>
        </p:nvSpPr>
        <p:spPr>
          <a:xfrm>
            <a:off x="214200" y="2143080"/>
            <a:ext cx="564372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b0f0"/>
                </a:solidFill>
                <a:latin typeface="Tw Cen MT"/>
              </a:rPr>
              <a:t>Płaszczyzna zginania</a:t>
            </a: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 – płaszczyzna, w której leżą siły zewnętrzne (czynne i bierne) powodujące </a:t>
            </a:r>
            <a:r>
              <a:rPr b="1" lang="pl-PL" sz="2000" spc="-1" strike="noStrike">
                <a:solidFill>
                  <a:srgbClr val="000000"/>
                </a:solidFill>
                <a:latin typeface="Tw Cen MT"/>
              </a:rPr>
              <a:t>płaskie</a:t>
            </a: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 zginanie (w przypadku zginania ukośnego oś pręta staje się krzywą przestrzenną!)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b0f0"/>
                </a:solidFill>
                <a:latin typeface="Tw Cen MT"/>
              </a:rPr>
              <a:t>Belka</a:t>
            </a: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 – pręt pracujący głównie na zginanie; </a:t>
            </a:r>
            <a:r>
              <a:rPr b="1" lang="pl-PL" sz="2000" spc="-1" strike="noStrike">
                <a:solidFill>
                  <a:srgbClr val="00b0f0"/>
                </a:solidFill>
                <a:latin typeface="Tw Cen MT"/>
              </a:rPr>
              <a:t>łuk</a:t>
            </a: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 – belka o osi zakrzywionej (przed obciążeniem); </a:t>
            </a:r>
            <a:r>
              <a:rPr b="1" lang="pl-PL" sz="2000" spc="-1" strike="noStrike">
                <a:solidFill>
                  <a:srgbClr val="00b0f0"/>
                </a:solidFill>
                <a:latin typeface="Tw Cen MT"/>
              </a:rPr>
              <a:t>rama</a:t>
            </a: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 – „belka o osi łamanej” (kąty naroży nie zmieniają się po obciążeniu) lub: układ belek sztywno połączonych ze sobą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5" name="Symbol zastępczy zawartości 4"/>
          <p:cNvSpPr/>
          <p:nvPr/>
        </p:nvSpPr>
        <p:spPr>
          <a:xfrm>
            <a:off x="214200" y="1600200"/>
            <a:ext cx="8715600" cy="19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900" spc="-1" strike="noStrike">
                <a:solidFill>
                  <a:srgbClr val="ff0000"/>
                </a:solidFill>
                <a:latin typeface="Tw Cen MT"/>
              </a:rPr>
              <a:t>Użyteczne definicje i twierdzenia dotyczące zginania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6" name="Picture 2" descr=""/>
          <p:cNvPicPr/>
          <p:nvPr/>
        </p:nvPicPr>
        <p:blipFill>
          <a:blip r:embed="rId1"/>
          <a:stretch/>
        </p:blipFill>
        <p:spPr>
          <a:xfrm>
            <a:off x="857160" y="4071960"/>
            <a:ext cx="7239240" cy="1998720"/>
          </a:xfrm>
          <a:prstGeom prst="rect">
            <a:avLst/>
          </a:prstGeom>
          <a:ln w="0">
            <a:noFill/>
          </a:ln>
        </p:spPr>
      </p:pic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1f497d"/>
                </a:solidFill>
                <a:latin typeface="Tw Cen MT"/>
              </a:rPr>
              <a:t>Proste zginanie belek, łuków lub ram</a:t>
            </a:r>
            <a:endParaRPr b="0" lang="en-US" sz="40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638" name="Symbol zastępczy stopki 2"/>
          <p:cNvSpPr/>
          <p:nvPr/>
        </p:nvSpPr>
        <p:spPr>
          <a:xfrm>
            <a:off x="0" y="6553080"/>
            <a:ext cx="9144000" cy="214560"/>
          </a:xfrm>
          <a:prstGeom prst="rect">
            <a:avLst/>
          </a:prstGeom>
          <a:solidFill>
            <a:srgbClr val="95b3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1f497d"/>
                </a:solidFill>
                <a:latin typeface="Tw Cen MT"/>
              </a:rPr>
              <a:t>Wytrzymałość materiałów - cz. 1, dr inż. Sylwester Samborski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9" name="Symbol zastępczy numeru slajdu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40F2C-732A-4DB9-91B8-10401955B07E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0" name="Prostokąt 12"/>
          <p:cNvSpPr/>
          <p:nvPr/>
        </p:nvSpPr>
        <p:spPr>
          <a:xfrm>
            <a:off x="214200" y="2143080"/>
            <a:ext cx="87156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b0f0"/>
                </a:solidFill>
                <a:latin typeface="Tw Cen MT"/>
              </a:rPr>
              <a:t>Zginanie nierównomierne</a:t>
            </a: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 ma miejsce, gdy </a:t>
            </a:r>
            <a:r>
              <a:rPr b="1" lang="pl-PL" sz="2000" spc="-1" strike="noStrike">
                <a:solidFill>
                  <a:srgbClr val="000000"/>
                </a:solidFill>
                <a:latin typeface="Tw Cen MT"/>
              </a:rPr>
              <a:t>moment gnący nie jest stały</a:t>
            </a: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 wzdłuż osi belki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b0f0"/>
                </a:solidFill>
                <a:latin typeface="Tw Cen MT"/>
              </a:rPr>
              <a:t>Czyste zginanie</a:t>
            </a: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 (rys. poniżej) zachodzi wtedy, gdy w danym przedziale długości belki moment gnący jest stały, tzn. gdy siła tnąca równa się zero (</a:t>
            </a:r>
            <a:r>
              <a:rPr b="1" lang="pl-PL" sz="2000" spc="-1" strike="noStrike">
                <a:solidFill>
                  <a:srgbClr val="000000"/>
                </a:solidFill>
                <a:latin typeface="Tw Cen MT"/>
              </a:rPr>
              <a:t>T=0</a:t>
            </a: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1" name="Symbol zastępczy zawartości 4"/>
          <p:cNvSpPr/>
          <p:nvPr/>
        </p:nvSpPr>
        <p:spPr>
          <a:xfrm>
            <a:off x="214200" y="1600200"/>
            <a:ext cx="8715600" cy="19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900" spc="-1" strike="noStrike">
                <a:solidFill>
                  <a:srgbClr val="ff0000"/>
                </a:solidFill>
                <a:latin typeface="Tw Cen MT"/>
              </a:rPr>
              <a:t>Użyteczne definicje i twierdzenia dotyczące zginania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2" name="Picture 2" descr=""/>
          <p:cNvPicPr/>
          <p:nvPr/>
        </p:nvPicPr>
        <p:blipFill>
          <a:blip r:embed="rId1"/>
          <a:stretch/>
        </p:blipFill>
        <p:spPr>
          <a:xfrm>
            <a:off x="392040" y="3255840"/>
            <a:ext cx="8542440" cy="3159360"/>
          </a:xfrm>
          <a:prstGeom prst="rect">
            <a:avLst/>
          </a:prstGeom>
          <a:ln w="0">
            <a:noFill/>
          </a:ln>
        </p:spPr>
      </p:pic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1f497d"/>
                </a:solidFill>
                <a:latin typeface="Tw Cen MT"/>
              </a:rPr>
              <a:t>Proste zginanie belek, łuków lub ram</a:t>
            </a:r>
            <a:endParaRPr b="0" lang="en-US" sz="40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644" name="Symbol zastępczy stopki 2"/>
          <p:cNvSpPr/>
          <p:nvPr/>
        </p:nvSpPr>
        <p:spPr>
          <a:xfrm>
            <a:off x="0" y="6553080"/>
            <a:ext cx="9144000" cy="214560"/>
          </a:xfrm>
          <a:prstGeom prst="rect">
            <a:avLst/>
          </a:prstGeom>
          <a:solidFill>
            <a:srgbClr val="95b3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1f497d"/>
                </a:solidFill>
                <a:latin typeface="Tw Cen MT"/>
              </a:rPr>
              <a:t>Wytrzymałość materiałów - cz. 1, dr inż. Sylwester Samborski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5" name="Symbol zastępczy numeru slajdu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1F745-AB8F-4883-924A-3C1F0B39188E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6" name="Prostokąt 12"/>
          <p:cNvSpPr/>
          <p:nvPr/>
        </p:nvSpPr>
        <p:spPr>
          <a:xfrm>
            <a:off x="214200" y="2143080"/>
            <a:ext cx="871560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Na długości </a:t>
            </a:r>
            <a:r>
              <a:rPr b="0" i="1" lang="pl-PL" sz="2000" spc="-1" strike="noStrike">
                <a:solidFill>
                  <a:srgbClr val="000000"/>
                </a:solidFill>
                <a:latin typeface="Tw Cen MT"/>
              </a:rPr>
              <a:t>dx</a:t>
            </a: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 belki zginanej następuje  znikomo mały przyrost (zmiana) siły tnącej (</a:t>
            </a:r>
            <a:r>
              <a:rPr b="0" i="1" lang="pl-PL" sz="2000" spc="-1" strike="noStrike">
                <a:solidFill>
                  <a:srgbClr val="000000"/>
                </a:solidFill>
                <a:latin typeface="Tw Cen MT"/>
              </a:rPr>
              <a:t>dT</a:t>
            </a: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) i momentu gnącego (</a:t>
            </a:r>
            <a:r>
              <a:rPr b="0" i="1" lang="pl-PL" sz="2000" spc="-1" strike="noStrike">
                <a:solidFill>
                  <a:srgbClr val="000000"/>
                </a:solidFill>
                <a:latin typeface="Tw Cen MT"/>
              </a:rPr>
              <a:t>dM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w Cen MT"/>
              </a:rPr>
              <a:t>g</a:t>
            </a: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7" name="Symbol zastępczy zawartości 4"/>
          <p:cNvSpPr/>
          <p:nvPr/>
        </p:nvSpPr>
        <p:spPr>
          <a:xfrm>
            <a:off x="214200" y="1600200"/>
            <a:ext cx="8715600" cy="19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900" spc="-1" strike="noStrike">
                <a:solidFill>
                  <a:srgbClr val="ff0000"/>
                </a:solidFill>
                <a:latin typeface="Tw Cen MT"/>
              </a:rPr>
              <a:t>Związki między siłami wewnętrznymi w belce zginanej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1f497d"/>
                </a:solidFill>
                <a:latin typeface="Tw Cen MT"/>
              </a:rPr>
              <a:t>Proste zginanie belek, łuków lub ram</a:t>
            </a:r>
            <a:endParaRPr b="0" lang="en-US" sz="40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649" name="Symbol zastępczy stopki 2"/>
          <p:cNvSpPr/>
          <p:nvPr/>
        </p:nvSpPr>
        <p:spPr>
          <a:xfrm>
            <a:off x="0" y="6553080"/>
            <a:ext cx="9144000" cy="214560"/>
          </a:xfrm>
          <a:prstGeom prst="rect">
            <a:avLst/>
          </a:prstGeom>
          <a:solidFill>
            <a:srgbClr val="95b3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1f497d"/>
                </a:solidFill>
                <a:latin typeface="Tw Cen MT"/>
              </a:rPr>
              <a:t>Wytrzymałość materiałów - cz. 1, dr inż. Sylwester Samborski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0" name="Symbol zastępczy numeru slajdu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5A25F-B46A-4573-B991-2146BEFDAF3B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1" name="Prostokąt 12"/>
          <p:cNvSpPr/>
          <p:nvPr/>
        </p:nvSpPr>
        <p:spPr>
          <a:xfrm>
            <a:off x="214200" y="2143080"/>
            <a:ext cx="3643560" cy="409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Równania równowagi wycinka belki o długości </a:t>
            </a:r>
            <a:r>
              <a:rPr b="0" i="1" lang="pl-PL" sz="2000" spc="-1" strike="noStrike">
                <a:solidFill>
                  <a:srgbClr val="000000"/>
                </a:solidFill>
                <a:latin typeface="Tw Cen MT"/>
              </a:rPr>
              <a:t>dx</a:t>
            </a: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przy czym </a:t>
            </a:r>
            <a:r>
              <a:rPr b="0" i="1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=</a:t>
            </a:r>
            <a:r>
              <a:rPr b="0" i="1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2" name="Symbol zastępczy zawartości 4"/>
          <p:cNvSpPr/>
          <p:nvPr/>
        </p:nvSpPr>
        <p:spPr>
          <a:xfrm>
            <a:off x="214200" y="1600200"/>
            <a:ext cx="8715600" cy="19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900" spc="-1" strike="noStrike">
                <a:solidFill>
                  <a:srgbClr val="ff0000"/>
                </a:solidFill>
                <a:latin typeface="Tw Cen MT"/>
              </a:rPr>
              <a:t>Związki między siłami wewnętrznymi w belce zginanej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653" name="Picture 2" descr=""/>
          <p:cNvPicPr/>
          <p:nvPr/>
        </p:nvPicPr>
        <p:blipFill>
          <a:blip r:embed="rId1"/>
          <a:stretch/>
        </p:blipFill>
        <p:spPr>
          <a:xfrm>
            <a:off x="3762360" y="2255760"/>
            <a:ext cx="5257800" cy="4238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54" name="Object 3"/>
          <p:cNvGraphicFramePr/>
          <p:nvPr/>
        </p:nvGraphicFramePr>
        <p:xfrm>
          <a:off x="74520" y="2928960"/>
          <a:ext cx="4281480" cy="2592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55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4520" y="2928960"/>
                    <a:ext cx="4281480" cy="259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09120" y="272520"/>
            <a:ext cx="807732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1f497d"/>
                </a:solidFill>
                <a:latin typeface="Tw Cen MT"/>
              </a:rPr>
              <a:t>Proste zginanie belek, łuków lub ram</a:t>
            </a:r>
            <a:endParaRPr b="0" lang="en-US" sz="40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285840" y="1752120"/>
            <a:ext cx="2357280" cy="4343400"/>
          </a:xfrm>
          <a:prstGeom prst="rect">
            <a:avLst/>
          </a:prstGeom>
          <a:solidFill>
            <a:srgbClr val="c0504d"/>
          </a:solidFill>
          <a:ln cap="sq" w="50760">
            <a:solidFill>
              <a:srgbClr val="c0504d"/>
            </a:solidFill>
            <a:miter/>
          </a:ln>
        </p:spPr>
        <p:txBody>
          <a:bodyPr lIns="137160" rIns="137160" tIns="182880" bIns="91440" anchor="t">
            <a:normAutofit fontScale="90000"/>
          </a:bodyPr>
          <a:p>
            <a:pPr indent="0"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w Cen MT"/>
              </a:rPr>
              <a:t>Siły zewnętrzne to siły skupione, momenty oraz obciążenia ciągłe o stałym lub zmiennym natężeniu.  Obok </a:t>
            </a:r>
            <a:r>
              <a:rPr b="0" lang="pl-PL" sz="2400" spc="-1" strike="noStrike">
                <a:solidFill>
                  <a:srgbClr val="ffff00"/>
                </a:solidFill>
                <a:latin typeface="Tw Cen MT"/>
              </a:rPr>
              <a:t>sił czynnych </a:t>
            </a:r>
            <a:r>
              <a:rPr b="0" lang="pl-PL" sz="2400" spc="-1" strike="noStrike">
                <a:solidFill>
                  <a:srgbClr val="ffffff"/>
                </a:solidFill>
                <a:latin typeface="Tw Cen MT"/>
              </a:rPr>
              <a:t>występują </a:t>
            </a:r>
            <a:r>
              <a:rPr b="0" lang="pl-PL" sz="2400" spc="-1" strike="noStrike">
                <a:solidFill>
                  <a:srgbClr val="ffff00"/>
                </a:solidFill>
                <a:latin typeface="Tw Cen MT"/>
              </a:rPr>
              <a:t>siły bierne</a:t>
            </a:r>
            <a:r>
              <a:rPr b="0" lang="pl-PL" sz="2400" spc="-1" strike="noStrike">
                <a:solidFill>
                  <a:srgbClr val="ffffff"/>
                </a:solidFill>
                <a:latin typeface="Tw Cen MT"/>
              </a:rPr>
              <a:t>, czyli </a:t>
            </a:r>
            <a:r>
              <a:rPr b="0" lang="pl-PL" sz="2400" spc="-1" strike="noStrike">
                <a:solidFill>
                  <a:srgbClr val="ff0000"/>
                </a:solidFill>
                <a:latin typeface="Tw Cen MT"/>
              </a:rPr>
              <a:t>reakcje więzów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508" name="Diagram 4" descr=""/>
          <p:cNvPicPr/>
          <p:nvPr/>
        </p:nvPicPr>
        <p:blipFill>
          <a:blip r:embed="rId1"/>
          <a:stretch/>
        </p:blipFill>
        <p:spPr>
          <a:xfrm>
            <a:off x="2567160" y="1633680"/>
            <a:ext cx="6107040" cy="2243160"/>
          </a:xfrm>
          <a:prstGeom prst="rect">
            <a:avLst/>
          </a:prstGeom>
          <a:ln w="0">
            <a:noFill/>
          </a:ln>
        </p:spPr>
      </p:pic>
      <p:pic>
        <p:nvPicPr>
          <p:cNvPr id="509" name="Obraz 6" descr=""/>
          <p:cNvPicPr/>
          <p:nvPr/>
        </p:nvPicPr>
        <p:blipFill>
          <a:blip r:embed="rId2"/>
          <a:srcRect l="0" t="0" r="42576" b="39925"/>
          <a:stretch/>
        </p:blipFill>
        <p:spPr>
          <a:xfrm>
            <a:off x="2703600" y="3772080"/>
            <a:ext cx="6500880" cy="3071520"/>
          </a:xfrm>
          <a:prstGeom prst="rect">
            <a:avLst/>
          </a:prstGeom>
          <a:ln w="0">
            <a:noFill/>
          </a:ln>
        </p:spPr>
      </p:pic>
      <p:sp>
        <p:nvSpPr>
          <p:cNvPr id="510" name="Symbol zastępczy stopki 2"/>
          <p:cNvSpPr/>
          <p:nvPr/>
        </p:nvSpPr>
        <p:spPr>
          <a:xfrm>
            <a:off x="0" y="6553080"/>
            <a:ext cx="9144000" cy="214560"/>
          </a:xfrm>
          <a:prstGeom prst="rect">
            <a:avLst/>
          </a:prstGeom>
          <a:solidFill>
            <a:srgbClr val="95b3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1f497d"/>
                </a:solidFill>
                <a:latin typeface="Tw Cen MT"/>
              </a:rPr>
              <a:t>Wytrzymałość materiałów - cz. 1, dr inż. Sylwester Samborski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1" name="Symbol zastępczy numeru slajdu 7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D196B-E28B-4782-9604-783FDCD5E16F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1f497d"/>
                </a:solidFill>
                <a:latin typeface="Tw Cen MT"/>
              </a:rPr>
              <a:t>Proste zginanie belek, łuków lub ram</a:t>
            </a:r>
            <a:endParaRPr b="0" lang="en-US" sz="40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657" name="Symbol zastępczy stopki 2"/>
          <p:cNvSpPr/>
          <p:nvPr/>
        </p:nvSpPr>
        <p:spPr>
          <a:xfrm>
            <a:off x="0" y="6553080"/>
            <a:ext cx="9144000" cy="214560"/>
          </a:xfrm>
          <a:prstGeom prst="rect">
            <a:avLst/>
          </a:prstGeom>
          <a:solidFill>
            <a:srgbClr val="95b3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1f497d"/>
                </a:solidFill>
                <a:latin typeface="Tw Cen MT"/>
              </a:rPr>
              <a:t>Wytrzymałość materiałów - cz. 1, dr inż. Sylwester Samborski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8" name="Symbol zastępczy numeru slajdu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67B35-4230-445A-AED9-D82DAE436649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9" name="Prostokąt 12"/>
          <p:cNvSpPr/>
          <p:nvPr/>
        </p:nvSpPr>
        <p:spPr>
          <a:xfrm>
            <a:off x="214200" y="2143080"/>
            <a:ext cx="8715600" cy="47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Z pierwszego równania wynika zależność: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b0f0"/>
                </a:solidFill>
                <a:latin typeface="Tw Cen MT"/>
              </a:rPr>
              <a:t>Tw. 1.</a:t>
            </a: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: </a:t>
            </a:r>
            <a:r>
              <a:rPr b="1" lang="pl-PL" sz="2000" spc="-1" strike="noStrike">
                <a:solidFill>
                  <a:srgbClr val="000000"/>
                </a:solidFill>
                <a:latin typeface="Tw Cen MT"/>
              </a:rPr>
              <a:t>Natężenie</a:t>
            </a: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i="1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[N/m] </a:t>
            </a:r>
            <a:r>
              <a:rPr b="1" lang="pl-PL" sz="2000" spc="-1" strike="noStrike">
                <a:solidFill>
                  <a:srgbClr val="000000"/>
                </a:solidFill>
                <a:latin typeface="Tw Cen MT"/>
              </a:rPr>
              <a:t>obciążenia ciągłego</a:t>
            </a: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 jest równe </a:t>
            </a:r>
            <a:r>
              <a:rPr b="1" lang="pl-PL" sz="2000" spc="-1" strike="noStrike">
                <a:solidFill>
                  <a:srgbClr val="000000"/>
                </a:solidFill>
                <a:latin typeface="Tw Cen MT"/>
              </a:rPr>
              <a:t>pochodnej siły tnącej</a:t>
            </a: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 (</a:t>
            </a:r>
            <a:r>
              <a:rPr b="0" i="1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) względem współrzędnej </a:t>
            </a:r>
            <a:r>
              <a:rPr b="0" i="1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 („po długości belki”), wziętej ze znakiem minus; znak ten wynika z przyjętej umowy, dotyczącej znaków sił tnących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Z drugiego równania, pomijając małe wyższego rzędu, otrzymuje się: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b0f0"/>
                </a:solidFill>
                <a:latin typeface="Tw Cen MT"/>
              </a:rPr>
              <a:t>Tw. 2.</a:t>
            </a: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: </a:t>
            </a:r>
            <a:r>
              <a:rPr b="1" lang="pl-PL" sz="2000" spc="-1" strike="noStrike">
                <a:solidFill>
                  <a:srgbClr val="000000"/>
                </a:solidFill>
                <a:latin typeface="Tw Cen MT"/>
              </a:rPr>
              <a:t>Siła tnąca</a:t>
            </a: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 (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) w danym przekroju belki jest równa </a:t>
            </a:r>
            <a:r>
              <a:rPr b="1" lang="pl-PL" sz="2000" spc="-1" strike="noStrike">
                <a:solidFill>
                  <a:srgbClr val="000000"/>
                </a:solidFill>
                <a:latin typeface="Tw Cen MT"/>
              </a:rPr>
              <a:t>pochodnej momentu gnącego</a:t>
            </a: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 (</a:t>
            </a:r>
            <a:r>
              <a:rPr b="0" i="1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) występującego w tym przekroju, względem współrzędnej </a:t>
            </a:r>
            <a:r>
              <a:rPr b="0" i="1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0" name="Symbol zastępczy zawartości 4"/>
          <p:cNvSpPr/>
          <p:nvPr/>
        </p:nvSpPr>
        <p:spPr>
          <a:xfrm>
            <a:off x="214200" y="1600200"/>
            <a:ext cx="8715600" cy="19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900" spc="-1" strike="noStrike">
                <a:solidFill>
                  <a:srgbClr val="ff0000"/>
                </a:solidFill>
                <a:latin typeface="Tw Cen MT"/>
              </a:rPr>
              <a:t>Związki między siłami wewnętrznymi w belce zginanej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graphicFrame>
        <p:nvGraphicFramePr>
          <p:cNvPr id="661" name="Object 3"/>
          <p:cNvGraphicFramePr/>
          <p:nvPr/>
        </p:nvGraphicFramePr>
        <p:xfrm>
          <a:off x="3571920" y="2571840"/>
          <a:ext cx="1322280" cy="80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71920" y="2571840"/>
                    <a:ext cx="1322280" cy="80316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663" name="Object 3"/>
          <p:cNvGraphicFramePr/>
          <p:nvPr/>
        </p:nvGraphicFramePr>
        <p:xfrm>
          <a:off x="3624120" y="4672080"/>
          <a:ext cx="1217880" cy="855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64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24120" y="4672080"/>
                    <a:ext cx="1217880" cy="85572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1f497d"/>
                </a:solidFill>
                <a:latin typeface="Tw Cen MT"/>
              </a:rPr>
              <a:t>Proste zginanie belek, łuków lub ram</a:t>
            </a:r>
            <a:endParaRPr b="0" lang="en-US" sz="40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666" name="Symbol zastępczy stopki 2"/>
          <p:cNvSpPr/>
          <p:nvPr/>
        </p:nvSpPr>
        <p:spPr>
          <a:xfrm>
            <a:off x="0" y="6553080"/>
            <a:ext cx="9144000" cy="214560"/>
          </a:xfrm>
          <a:prstGeom prst="rect">
            <a:avLst/>
          </a:prstGeom>
          <a:solidFill>
            <a:srgbClr val="95b3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1f497d"/>
                </a:solidFill>
                <a:latin typeface="Tw Cen MT"/>
              </a:rPr>
              <a:t>Wytrzymałość materiałów - cz. 1, dr inż. Sylwester Samborski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7" name="Symbol zastępczy numeru slajdu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5B153-59E4-4154-9C6A-62187E687A4D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8" name="Prostokąt 12"/>
          <p:cNvSpPr/>
          <p:nvPr/>
        </p:nvSpPr>
        <p:spPr>
          <a:xfrm>
            <a:off x="214200" y="2143080"/>
            <a:ext cx="89298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b0f0"/>
                </a:solidFill>
                <a:latin typeface="Tw Cen MT"/>
              </a:rPr>
              <a:t>Wykresy sił wewnętrznych </a:t>
            </a: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przy zginaniu to wykresy sił tnących </a:t>
            </a:r>
            <a:r>
              <a:rPr b="1" lang="pl-PL" sz="2000" spc="-1" strike="noStrike">
                <a:solidFill>
                  <a:srgbClr val="000000"/>
                </a:solidFill>
                <a:latin typeface="Tw Cen MT"/>
              </a:rPr>
              <a:t>i momentów gnących</a:t>
            </a: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. Są one </a:t>
            </a:r>
            <a:r>
              <a:rPr b="0" lang="pl-PL" sz="2000" spc="-1" strike="noStrike" u="sng">
                <a:solidFill>
                  <a:srgbClr val="000000"/>
                </a:solidFill>
                <a:uFillTx/>
                <a:latin typeface="Tw Cen MT"/>
              </a:rPr>
              <a:t>niezbędnym etapem </a:t>
            </a: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w toku obliczeń wytrzymałościowych „na zginanie”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b0f0"/>
                </a:solidFill>
                <a:latin typeface="Tw Cen MT"/>
              </a:rPr>
              <a:t>Przykład 1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b0f0"/>
                </a:solidFill>
                <a:latin typeface="Tw Cen MT"/>
              </a:rPr>
              <a:t>Przykład 2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9" name="Symbol zastępczy zawartości 4"/>
          <p:cNvSpPr/>
          <p:nvPr/>
        </p:nvSpPr>
        <p:spPr>
          <a:xfrm>
            <a:off x="214200" y="1600200"/>
            <a:ext cx="8715600" cy="19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900" spc="-1" strike="noStrike">
                <a:solidFill>
                  <a:srgbClr val="ff0000"/>
                </a:solidFill>
                <a:latin typeface="Tw Cen MT"/>
              </a:rPr>
              <a:t>Wykresy sił wewnętrznych w zagadnieniach zginania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09120" y="272520"/>
            <a:ext cx="807732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1f497d"/>
                </a:solidFill>
                <a:latin typeface="Tw Cen MT"/>
              </a:rPr>
              <a:t>Proste zginanie belek, łuków lub ram</a:t>
            </a:r>
            <a:endParaRPr b="0" lang="en-US" sz="40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285480" y="1752120"/>
            <a:ext cx="2500200" cy="4343400"/>
          </a:xfrm>
          <a:prstGeom prst="rect">
            <a:avLst/>
          </a:prstGeom>
          <a:solidFill>
            <a:srgbClr val="c0504d"/>
          </a:solidFill>
          <a:ln cap="sq" w="50760">
            <a:solidFill>
              <a:srgbClr val="c0504d"/>
            </a:solidFill>
            <a:miter/>
          </a:ln>
        </p:spPr>
        <p:txBody>
          <a:bodyPr lIns="137160" rIns="137160" tIns="182880" bIns="91440" anchor="t">
            <a:normAutofit/>
          </a:bodyPr>
          <a:p>
            <a:pPr indent="0"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w Cen MT"/>
              </a:rPr>
              <a:t>Siły wewnętrzne (tzw. wysiłek przekroju) dzielą się na siły </a:t>
            </a:r>
            <a:r>
              <a:rPr b="0" lang="pl-PL" sz="2400" spc="-1" strike="noStrike">
                <a:solidFill>
                  <a:srgbClr val="ffff00"/>
                </a:solidFill>
                <a:latin typeface="Tw Cen MT"/>
              </a:rPr>
              <a:t>normalne</a:t>
            </a:r>
            <a:r>
              <a:rPr b="0" lang="pl-PL" sz="2400" spc="-1" strike="noStrike">
                <a:solidFill>
                  <a:srgbClr val="ffffff"/>
                </a:solidFill>
                <a:latin typeface="Tw Cen MT"/>
              </a:rPr>
              <a:t>, poprzeczne (</a:t>
            </a:r>
            <a:r>
              <a:rPr b="0" lang="pl-PL" sz="2400" spc="-1" strike="noStrike">
                <a:solidFill>
                  <a:srgbClr val="ffff00"/>
                </a:solidFill>
                <a:latin typeface="Tw Cen MT"/>
              </a:rPr>
              <a:t>tnące</a:t>
            </a:r>
            <a:r>
              <a:rPr b="0" lang="pl-PL" sz="2400" spc="-1" strike="noStrike">
                <a:solidFill>
                  <a:srgbClr val="ffffff"/>
                </a:solidFill>
                <a:latin typeface="Tw Cen MT"/>
              </a:rPr>
              <a:t>) oraz </a:t>
            </a:r>
            <a:r>
              <a:rPr b="0" lang="pl-PL" sz="2400" spc="-1" strike="noStrike">
                <a:solidFill>
                  <a:srgbClr val="ffff00"/>
                </a:solidFill>
                <a:latin typeface="Tw Cen MT"/>
              </a:rPr>
              <a:t>momenty</a:t>
            </a:r>
            <a:r>
              <a:rPr b="0" lang="pl-PL" sz="2400" spc="-1" strike="noStrike">
                <a:solidFill>
                  <a:srgbClr val="ffffff"/>
                </a:solidFill>
                <a:latin typeface="Tw Cen MT"/>
              </a:rPr>
              <a:t>: skręcające lub gnące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514" name="Diagram 4" descr=""/>
          <p:cNvPicPr/>
          <p:nvPr/>
        </p:nvPicPr>
        <p:blipFill>
          <a:blip r:embed="rId1"/>
          <a:stretch/>
        </p:blipFill>
        <p:spPr>
          <a:xfrm>
            <a:off x="2852640" y="1700280"/>
            <a:ext cx="6108840" cy="4097160"/>
          </a:xfrm>
          <a:prstGeom prst="rect">
            <a:avLst/>
          </a:prstGeom>
          <a:ln w="0">
            <a:noFill/>
          </a:ln>
        </p:spPr>
      </p:pic>
      <p:pic>
        <p:nvPicPr>
          <p:cNvPr id="515" name="Picture 49" descr=""/>
          <p:cNvPicPr/>
          <p:nvPr/>
        </p:nvPicPr>
        <p:blipFill>
          <a:blip r:embed="rId2"/>
          <a:srcRect l="0" t="0" r="0" b="30958"/>
          <a:stretch/>
        </p:blipFill>
        <p:spPr>
          <a:xfrm>
            <a:off x="3214800" y="3533760"/>
            <a:ext cx="3417840" cy="2928960"/>
          </a:xfrm>
          <a:prstGeom prst="rect">
            <a:avLst/>
          </a:prstGeom>
          <a:ln w="0">
            <a:noFill/>
          </a:ln>
        </p:spPr>
      </p:pic>
      <p:sp>
        <p:nvSpPr>
          <p:cNvPr id="516" name="Symbol zastępczy numeru slajdu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F5CD8-B39F-49FB-A02B-1EECF4BF9A3F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7" name="Symbol zastępczy stopki 2"/>
          <p:cNvSpPr/>
          <p:nvPr/>
        </p:nvSpPr>
        <p:spPr>
          <a:xfrm>
            <a:off x="0" y="6553080"/>
            <a:ext cx="9144000" cy="214560"/>
          </a:xfrm>
          <a:prstGeom prst="rect">
            <a:avLst/>
          </a:prstGeom>
          <a:solidFill>
            <a:srgbClr val="95b3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1f497d"/>
                </a:solidFill>
                <a:latin typeface="Tw Cen MT"/>
              </a:rPr>
              <a:t>Wytrzymałość materiałów - cz. 1, dr inż. Sylwester Samborski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8" name="Picture 6" descr=""/>
          <p:cNvPicPr/>
          <p:nvPr/>
        </p:nvPicPr>
        <p:blipFill>
          <a:blip r:embed="rId1"/>
          <a:stretch/>
        </p:blipFill>
        <p:spPr>
          <a:xfrm>
            <a:off x="5000760" y="1612800"/>
            <a:ext cx="4143240" cy="4900680"/>
          </a:xfrm>
          <a:prstGeom prst="rect">
            <a:avLst/>
          </a:prstGeom>
          <a:ln w="0">
            <a:noFill/>
          </a:ln>
        </p:spPr>
      </p:pic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1f497d"/>
                </a:solidFill>
                <a:latin typeface="Tw Cen MT"/>
              </a:rPr>
              <a:t>Proste zginanie belek, łuków lub ram</a:t>
            </a:r>
            <a:endParaRPr b="0" lang="en-US" sz="40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20" name="Symbol zastępczy stopki 2"/>
          <p:cNvSpPr/>
          <p:nvPr/>
        </p:nvSpPr>
        <p:spPr>
          <a:xfrm>
            <a:off x="0" y="6553080"/>
            <a:ext cx="9144000" cy="214560"/>
          </a:xfrm>
          <a:prstGeom prst="rect">
            <a:avLst/>
          </a:prstGeom>
          <a:solidFill>
            <a:srgbClr val="95b3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1f497d"/>
                </a:solidFill>
                <a:latin typeface="Tw Cen MT"/>
              </a:rPr>
              <a:t>Wytrzymałość materiałów - cz. 1, dr inż. Sylwester Samborski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1" name="Symbol zastępczy numeru slajdu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89542-9979-49B6-99BC-AA9E0A7BF068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2" name="Prostokąt 12"/>
          <p:cNvSpPr/>
          <p:nvPr/>
        </p:nvSpPr>
        <p:spPr>
          <a:xfrm>
            <a:off x="71280" y="2071800"/>
            <a:ext cx="514368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Dowolny przestrzenny układ sił, obciążających dany element konstrukcyjny, można zredukować do </a:t>
            </a:r>
            <a:r>
              <a:rPr b="0" lang="pl-PL" sz="2000" spc="-1" strike="noStrike">
                <a:solidFill>
                  <a:srgbClr val="0000cc"/>
                </a:solidFill>
                <a:latin typeface="Tw Cen MT"/>
              </a:rPr>
              <a:t>wektora głównego (W) </a:t>
            </a: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i </a:t>
            </a:r>
            <a:r>
              <a:rPr b="0" lang="pl-PL" sz="2000" spc="-1" strike="noStrike">
                <a:solidFill>
                  <a:srgbClr val="953735"/>
                </a:solidFill>
                <a:latin typeface="Tw Cen MT"/>
              </a:rPr>
              <a:t>momentu głównego (M) </a:t>
            </a: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w środku geometrycznym („śr. ciężkości”) przekroju (pkt. </a:t>
            </a:r>
            <a:r>
              <a:rPr b="1" lang="pl-PL" sz="2000" spc="-1" strike="noStrike">
                <a:solidFill>
                  <a:srgbClr val="ffff00"/>
                </a:solidFill>
                <a:latin typeface="Tw Cen MT"/>
              </a:rPr>
              <a:t>C</a:t>
            </a: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Wynika to z faktu, iż siły zewnętrzne (czynne i bierne) powodują powstawanie w przekrojach elementu (pręta, belki, wału) pewnego układu sił wewnętrznych, które można zastąpić wektorem głównym W i momentem głównym M, przyłożonymi w środku geometrycznym przekroju; siły wewnętrzne oznaczają oddziaływanie odrzuconej części elementu na część rozważaną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3" name="Symbol zastępczy zawartości 4"/>
          <p:cNvSpPr/>
          <p:nvPr/>
        </p:nvSpPr>
        <p:spPr>
          <a:xfrm>
            <a:off x="214200" y="1600200"/>
            <a:ext cx="8715600" cy="19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900" spc="-1" strike="noStrike">
                <a:solidFill>
                  <a:srgbClr val="ff0000"/>
                </a:solidFill>
                <a:latin typeface="Tw Cen MT"/>
              </a:rPr>
              <a:t>Siły wewnętrzn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4" name="Picture 2" descr=""/>
          <p:cNvPicPr/>
          <p:nvPr/>
        </p:nvPicPr>
        <p:blipFill>
          <a:blip r:embed="rId1"/>
          <a:stretch/>
        </p:blipFill>
        <p:spPr>
          <a:xfrm>
            <a:off x="5143680" y="1571760"/>
            <a:ext cx="3686040" cy="4971960"/>
          </a:xfrm>
          <a:prstGeom prst="rect">
            <a:avLst/>
          </a:prstGeom>
          <a:ln w="0">
            <a:noFill/>
          </a:ln>
        </p:spPr>
      </p:pic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1f497d"/>
                </a:solidFill>
                <a:latin typeface="Tw Cen MT"/>
              </a:rPr>
              <a:t>Proste zginanie belek, łuków lub ram</a:t>
            </a:r>
            <a:endParaRPr b="0" lang="en-US" sz="40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26" name="Symbol zastępczy stopki 2"/>
          <p:cNvSpPr/>
          <p:nvPr/>
        </p:nvSpPr>
        <p:spPr>
          <a:xfrm>
            <a:off x="0" y="6553080"/>
            <a:ext cx="9144000" cy="214560"/>
          </a:xfrm>
          <a:prstGeom prst="rect">
            <a:avLst/>
          </a:prstGeom>
          <a:solidFill>
            <a:srgbClr val="95b3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1f497d"/>
                </a:solidFill>
                <a:latin typeface="Tw Cen MT"/>
              </a:rPr>
              <a:t>Wytrzymałość materiałów - cz. 1, dr inż. Sylwester Samborski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7" name="Symbol zastępczy numeru slajdu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13F7D-2BBA-4007-A44E-D1EF8D985E0A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8" name="Prostokąt 12"/>
          <p:cNvSpPr/>
          <p:nvPr/>
        </p:nvSpPr>
        <p:spPr>
          <a:xfrm>
            <a:off x="500040" y="3429000"/>
            <a:ext cx="40006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cc"/>
                </a:solidFill>
                <a:latin typeface="Tw Cen MT"/>
              </a:rPr>
              <a:t>Wektor główny</a:t>
            </a: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 („wypadkową”) </a:t>
            </a:r>
            <a:r>
              <a:rPr b="0" lang="pl-PL" sz="2000" spc="-1" strike="noStrike">
                <a:solidFill>
                  <a:srgbClr val="0000cc"/>
                </a:solidFill>
                <a:latin typeface="Tw Cen MT"/>
              </a:rPr>
              <a:t>W</a:t>
            </a: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 można rozłożyć na dwie wzajemnie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</a:t>
            </a: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 składowe: </a:t>
            </a:r>
            <a:r>
              <a:rPr b="1" lang="pl-PL" sz="2000" spc="-1" strike="noStrike">
                <a:solidFill>
                  <a:srgbClr val="000000"/>
                </a:solidFill>
                <a:latin typeface="Tw Cen MT"/>
              </a:rPr>
              <a:t>normalną N</a:t>
            </a: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 i </a:t>
            </a:r>
            <a:r>
              <a:rPr b="1" lang="pl-PL" sz="2000" spc="-1" strike="noStrike">
                <a:solidFill>
                  <a:srgbClr val="00b0f0"/>
                </a:solidFill>
                <a:latin typeface="Tw Cen MT"/>
              </a:rPr>
              <a:t>styczną T</a:t>
            </a: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9" name="Symbol zastępczy zawartości 4"/>
          <p:cNvSpPr/>
          <p:nvPr/>
        </p:nvSpPr>
        <p:spPr>
          <a:xfrm>
            <a:off x="214200" y="1600200"/>
            <a:ext cx="8715600" cy="19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900" spc="-1" strike="noStrike">
                <a:solidFill>
                  <a:srgbClr val="ff0000"/>
                </a:solidFill>
                <a:latin typeface="Tw Cen MT"/>
              </a:rPr>
              <a:t>Siły wewnętrzn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0" name="Picture 2" descr=""/>
          <p:cNvPicPr/>
          <p:nvPr/>
        </p:nvPicPr>
        <p:blipFill>
          <a:blip r:embed="rId1"/>
          <a:stretch/>
        </p:blipFill>
        <p:spPr>
          <a:xfrm>
            <a:off x="4714920" y="1595520"/>
            <a:ext cx="3687840" cy="4941720"/>
          </a:xfrm>
          <a:prstGeom prst="rect">
            <a:avLst/>
          </a:prstGeom>
          <a:ln w="0">
            <a:noFill/>
          </a:ln>
        </p:spPr>
      </p:pic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1f497d"/>
                </a:solidFill>
                <a:latin typeface="Tw Cen MT"/>
              </a:rPr>
              <a:t>Proste zginanie belek, łuków lub ram</a:t>
            </a:r>
            <a:endParaRPr b="0" lang="en-US" sz="40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32" name="Symbol zastępczy stopki 2"/>
          <p:cNvSpPr/>
          <p:nvPr/>
        </p:nvSpPr>
        <p:spPr>
          <a:xfrm>
            <a:off x="0" y="6553080"/>
            <a:ext cx="9144000" cy="214560"/>
          </a:xfrm>
          <a:prstGeom prst="rect">
            <a:avLst/>
          </a:prstGeom>
          <a:solidFill>
            <a:srgbClr val="95b3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1f497d"/>
                </a:solidFill>
                <a:latin typeface="Tw Cen MT"/>
              </a:rPr>
              <a:t>Wytrzymałość materiałów - cz. 1, dr inż. Sylwester Samborski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3" name="Symbol zastępczy numeru slajdu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A282E-C229-4251-AB4F-CD8FE4D4B046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4" name="Prostokąt 12"/>
          <p:cNvSpPr/>
          <p:nvPr/>
        </p:nvSpPr>
        <p:spPr>
          <a:xfrm>
            <a:off x="428760" y="3214800"/>
            <a:ext cx="4071960" cy="13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Wektor </a:t>
            </a:r>
            <a:r>
              <a:rPr b="0" lang="pl-PL" sz="2000" spc="-1" strike="noStrike">
                <a:solidFill>
                  <a:srgbClr val="c00000"/>
                </a:solidFill>
                <a:latin typeface="Tw Cen MT"/>
              </a:rPr>
              <a:t>momentu głównego M </a:t>
            </a: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można rozłożyć na składową </a:t>
            </a:r>
            <a:r>
              <a:rPr b="0" lang="pl-PL" sz="2000" spc="-1" strike="noStrike">
                <a:solidFill>
                  <a:srgbClr val="00b050"/>
                </a:solidFill>
                <a:latin typeface="Tw Cen MT"/>
              </a:rPr>
              <a:t>styczną</a:t>
            </a: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 do przekroju (</a:t>
            </a:r>
            <a:r>
              <a:rPr b="0" lang="pl-PL" sz="2000" spc="-1" strike="noStrike">
                <a:solidFill>
                  <a:srgbClr val="00b050"/>
                </a:solidFill>
                <a:latin typeface="Tw Cen MT"/>
              </a:rPr>
              <a:t>M</a:t>
            </a:r>
            <a:r>
              <a:rPr b="0" lang="pl-PL" sz="2000" spc="-1" strike="noStrike" baseline="-25000">
                <a:solidFill>
                  <a:srgbClr val="00b050"/>
                </a:solidFill>
                <a:latin typeface="Tw Cen MT"/>
              </a:rPr>
              <a:t>g</a:t>
            </a: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) i </a:t>
            </a:r>
            <a:r>
              <a:rPr b="0" lang="pl-PL" sz="2000" spc="-1" strike="noStrike">
                <a:solidFill>
                  <a:srgbClr val="ff0000"/>
                </a:solidFill>
                <a:latin typeface="Tw Cen MT"/>
              </a:rPr>
              <a:t>normalną</a:t>
            </a: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 (</a:t>
            </a:r>
            <a:r>
              <a:rPr b="0" lang="pl-PL" sz="2000" spc="-1" strike="noStrike">
                <a:solidFill>
                  <a:srgbClr val="ff0000"/>
                </a:solidFill>
                <a:latin typeface="Tw Cen MT"/>
              </a:rPr>
              <a:t>M</a:t>
            </a:r>
            <a:r>
              <a:rPr b="0" lang="pl-PL" sz="2000" spc="-1" strike="noStrike" baseline="-25000">
                <a:solidFill>
                  <a:srgbClr val="ff0000"/>
                </a:solidFill>
                <a:latin typeface="Tw Cen MT"/>
              </a:rPr>
              <a:t>s</a:t>
            </a: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5" name="Symbol zastępczy zawartości 4"/>
          <p:cNvSpPr/>
          <p:nvPr/>
        </p:nvSpPr>
        <p:spPr>
          <a:xfrm>
            <a:off x="214200" y="1600200"/>
            <a:ext cx="8715600" cy="19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900" spc="-1" strike="noStrike">
                <a:solidFill>
                  <a:srgbClr val="ff0000"/>
                </a:solidFill>
                <a:latin typeface="Tw Cen MT"/>
              </a:rPr>
              <a:t>Siły wewnętrzn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1f497d"/>
                </a:solidFill>
                <a:latin typeface="Tw Cen MT"/>
              </a:rPr>
              <a:t>Proste zginanie belek, łuków lub ram</a:t>
            </a:r>
            <a:endParaRPr b="0" lang="en-US" sz="40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37" name="Symbol zastępczy stopki 2"/>
          <p:cNvSpPr/>
          <p:nvPr/>
        </p:nvSpPr>
        <p:spPr>
          <a:xfrm>
            <a:off x="0" y="6553080"/>
            <a:ext cx="9144000" cy="214560"/>
          </a:xfrm>
          <a:prstGeom prst="rect">
            <a:avLst/>
          </a:prstGeom>
          <a:solidFill>
            <a:srgbClr val="95b3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1f497d"/>
                </a:solidFill>
                <a:latin typeface="Tw Cen MT"/>
              </a:rPr>
              <a:t>Wytrzymałość materiałów - cz. 1, dr inż. Sylwester Samborski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8" name="Symbol zastępczy numeru slajdu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209F4-D31D-40C0-BF09-B4714E1E329D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9" name="Prostokąt 12"/>
          <p:cNvSpPr/>
          <p:nvPr/>
        </p:nvSpPr>
        <p:spPr>
          <a:xfrm>
            <a:off x="214200" y="2143080"/>
            <a:ext cx="871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Zastosowano więc </a:t>
            </a:r>
            <a:r>
              <a:rPr b="1" lang="pl-PL" sz="2000" spc="-1" strike="noStrike">
                <a:solidFill>
                  <a:srgbClr val="000000"/>
                </a:solidFill>
                <a:latin typeface="Tw Cen MT"/>
              </a:rPr>
              <a:t>zasadę superpozycji</a:t>
            </a: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, zgodnie z rysunkiem poniżej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0" name="Symbol zastępczy zawartości 4"/>
          <p:cNvSpPr/>
          <p:nvPr/>
        </p:nvSpPr>
        <p:spPr>
          <a:xfrm>
            <a:off x="214200" y="1600200"/>
            <a:ext cx="8715600" cy="19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900" spc="-1" strike="noStrike">
                <a:solidFill>
                  <a:srgbClr val="ff0000"/>
                </a:solidFill>
                <a:latin typeface="Tw Cen MT"/>
              </a:rPr>
              <a:t>Siły wewnętrzn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grpSp>
        <p:nvGrpSpPr>
          <p:cNvPr id="541" name="Grupa 16"/>
          <p:cNvGrpSpPr/>
          <p:nvPr/>
        </p:nvGrpSpPr>
        <p:grpSpPr>
          <a:xfrm>
            <a:off x="71280" y="2857680"/>
            <a:ext cx="8944200" cy="3125520"/>
            <a:chOff x="71280" y="2857680"/>
            <a:chExt cx="8944200" cy="3125520"/>
          </a:xfrm>
        </p:grpSpPr>
        <p:pic>
          <p:nvPicPr>
            <p:cNvPr id="542" name="Picture 6" descr=""/>
            <p:cNvPicPr/>
            <p:nvPr/>
          </p:nvPicPr>
          <p:blipFill>
            <a:blip r:embed="rId1"/>
            <a:stretch/>
          </p:blipFill>
          <p:spPr>
            <a:xfrm>
              <a:off x="71280" y="2857680"/>
              <a:ext cx="2643120" cy="3125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3" name="Picture 2" descr=""/>
            <p:cNvPicPr/>
            <p:nvPr/>
          </p:nvPicPr>
          <p:blipFill>
            <a:blip r:embed="rId2"/>
            <a:stretch/>
          </p:blipFill>
          <p:spPr>
            <a:xfrm>
              <a:off x="3642840" y="2869200"/>
              <a:ext cx="2255760" cy="304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4" name="Równa się 10"/>
            <p:cNvSpPr/>
            <p:nvPr/>
          </p:nvSpPr>
          <p:spPr>
            <a:xfrm>
              <a:off x="2830680" y="4253040"/>
              <a:ext cx="642600" cy="642600"/>
            </a:xfrm>
            <a:custGeom>
              <a:avLst/>
              <a:gdLst>
                <a:gd name="textAreaLeft" fmla="*/ 84960 w 642600"/>
                <a:gd name="textAreaRight" fmla="*/ 557640 w 642600"/>
                <a:gd name="textAreaTop" fmla="*/ 132120 h 642600"/>
                <a:gd name="textAreaBottom" fmla="*/ 510480 h 642600"/>
              </a:gdLst>
              <a:ahLst/>
              <a:rect l="textAreaLeft" t="textAreaTop" r="textAreaRight" b="textAreaBottom"/>
              <a:pathLst>
                <a:path w="642942" h="642942">
                  <a:moveTo>
                    <a:pt x="85222" y="132446"/>
                  </a:moveTo>
                  <a:lnTo>
                    <a:pt x="557720" y="132446"/>
                  </a:lnTo>
                  <a:lnTo>
                    <a:pt x="557720" y="283666"/>
                  </a:lnTo>
                  <a:lnTo>
                    <a:pt x="85222" y="283666"/>
                  </a:lnTo>
                  <a:close/>
                  <a:moveTo>
                    <a:pt x="85222" y="359276"/>
                  </a:moveTo>
                  <a:lnTo>
                    <a:pt x="557720" y="359276"/>
                  </a:lnTo>
                  <a:lnTo>
                    <a:pt x="557720" y="510496"/>
                  </a:lnTo>
                  <a:lnTo>
                    <a:pt x="85222" y="510496"/>
                  </a:lnTo>
                  <a:close/>
                </a:path>
              </a:pathLst>
            </a:custGeom>
            <a:solidFill>
              <a:srgbClr val="4f81bd"/>
            </a:solidFill>
            <a:ln w="19080">
              <a:solidFill>
                <a:srgbClr val="385d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545" name="Plus 11"/>
            <p:cNvSpPr/>
            <p:nvPr/>
          </p:nvSpPr>
          <p:spPr>
            <a:xfrm>
              <a:off x="6086880" y="4241520"/>
              <a:ext cx="642600" cy="571320"/>
            </a:xfrm>
            <a:custGeom>
              <a:avLst/>
              <a:gdLst>
                <a:gd name="textAreaLeft" fmla="*/ 84960 w 642600"/>
                <a:gd name="textAreaRight" fmla="*/ 557640 w 642600"/>
                <a:gd name="textAreaTop" fmla="*/ 218520 h 571320"/>
                <a:gd name="textAreaBottom" fmla="*/ 352800 h 571320"/>
              </a:gdLst>
              <a:ahLst/>
              <a:rect l="textAreaLeft" t="textAreaTop" r="textAreaRight" b="textAreaBottom"/>
              <a:pathLst>
                <a:path w="642942" h="571504">
                  <a:moveTo>
                    <a:pt x="85222" y="218543"/>
                  </a:moveTo>
                  <a:lnTo>
                    <a:pt x="254262" y="218543"/>
                  </a:lnTo>
                  <a:lnTo>
                    <a:pt x="254262" y="75753"/>
                  </a:lnTo>
                  <a:lnTo>
                    <a:pt x="388680" y="75753"/>
                  </a:lnTo>
                  <a:lnTo>
                    <a:pt x="388680" y="218543"/>
                  </a:lnTo>
                  <a:lnTo>
                    <a:pt x="557720" y="218543"/>
                  </a:lnTo>
                  <a:lnTo>
                    <a:pt x="557720" y="352961"/>
                  </a:lnTo>
                  <a:lnTo>
                    <a:pt x="388680" y="352961"/>
                  </a:lnTo>
                  <a:lnTo>
                    <a:pt x="388680" y="495751"/>
                  </a:lnTo>
                  <a:lnTo>
                    <a:pt x="254262" y="495751"/>
                  </a:lnTo>
                  <a:lnTo>
                    <a:pt x="254262" y="352961"/>
                  </a:lnTo>
                  <a:lnTo>
                    <a:pt x="85222" y="352961"/>
                  </a:lnTo>
                  <a:close/>
                </a:path>
              </a:pathLst>
            </a:custGeom>
            <a:solidFill>
              <a:srgbClr val="4f81bd"/>
            </a:solidFill>
            <a:ln w="19080">
              <a:solidFill>
                <a:srgbClr val="385d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pic>
          <p:nvPicPr>
            <p:cNvPr id="546" name="Picture 2" descr=""/>
            <p:cNvPicPr/>
            <p:nvPr/>
          </p:nvPicPr>
          <p:blipFill>
            <a:blip r:embed="rId3"/>
            <a:stretch/>
          </p:blipFill>
          <p:spPr>
            <a:xfrm>
              <a:off x="6872400" y="3057120"/>
              <a:ext cx="2143080" cy="28720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09120" y="272520"/>
            <a:ext cx="807732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1f497d"/>
                </a:solidFill>
                <a:latin typeface="Tw Cen MT"/>
              </a:rPr>
              <a:t>Proste zginanie belek, łuków lub ram</a:t>
            </a:r>
            <a:endParaRPr b="0" lang="en-US" sz="40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214200" y="1752120"/>
            <a:ext cx="2286000" cy="4343400"/>
          </a:xfrm>
          <a:prstGeom prst="rect">
            <a:avLst/>
          </a:prstGeom>
          <a:solidFill>
            <a:srgbClr val="c0504d"/>
          </a:solidFill>
          <a:ln cap="sq" w="50760">
            <a:solidFill>
              <a:srgbClr val="c0504d"/>
            </a:solidFill>
            <a:miter/>
          </a:ln>
        </p:spPr>
        <p:txBody>
          <a:bodyPr lIns="137160" rIns="137160" tIns="182880" bIns="91440" anchor="t">
            <a:normAutofit/>
          </a:bodyPr>
          <a:p>
            <a:pPr indent="0"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w Cen MT"/>
              </a:rPr>
              <a:t>Definicje sił wewnętrznych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00"/>
                </a:solidFill>
                <a:latin typeface="Tw Cen MT"/>
              </a:rPr>
              <a:t>(przypomnienie)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2529000" y="1752120"/>
            <a:ext cx="6400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283680" indent="-283680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900" spc="-1" strike="noStrike">
                <a:solidFill>
                  <a:srgbClr val="000000"/>
                </a:solidFill>
                <a:latin typeface="Tw Cen MT"/>
              </a:rPr>
              <a:t>Siłą</a:t>
            </a:r>
            <a:r>
              <a:rPr b="0" lang="pl-PL" sz="2900" spc="-1" strike="noStrike">
                <a:solidFill>
                  <a:srgbClr val="ff0000"/>
                </a:solidFill>
                <a:latin typeface="Tw Cen MT"/>
              </a:rPr>
              <a:t> </a:t>
            </a:r>
            <a:r>
              <a:rPr b="0" lang="pl-PL" sz="2900" spc="-1" strike="noStrike">
                <a:solidFill>
                  <a:srgbClr val="000000"/>
                </a:solidFill>
                <a:latin typeface="Tw Cen MT"/>
              </a:rPr>
              <a:t>(wewnętrzną)</a:t>
            </a:r>
            <a:r>
              <a:rPr b="0" lang="pl-PL" sz="2900" spc="-1" strike="noStrike">
                <a:solidFill>
                  <a:srgbClr val="ff0000"/>
                </a:solidFill>
                <a:latin typeface="Tw Cen MT"/>
              </a:rPr>
              <a:t> </a:t>
            </a:r>
            <a:r>
              <a:rPr b="1" lang="pl-PL" sz="2900" spc="-1" strike="noStrike">
                <a:solidFill>
                  <a:srgbClr val="000000"/>
                </a:solidFill>
                <a:latin typeface="Tw Cen MT"/>
              </a:rPr>
              <a:t>normalną (N)</a:t>
            </a:r>
            <a:r>
              <a:rPr b="0" lang="pl-PL" sz="2900" spc="-1" strike="noStrike">
                <a:solidFill>
                  <a:srgbClr val="ff0000"/>
                </a:solidFill>
                <a:latin typeface="Tw Cen MT"/>
              </a:rPr>
              <a:t> </a:t>
            </a:r>
            <a:r>
              <a:rPr b="0" lang="pl-PL" sz="2900" spc="-1" strike="noStrike">
                <a:solidFill>
                  <a:srgbClr val="000000"/>
                </a:solidFill>
                <a:latin typeface="Tw Cen MT"/>
              </a:rPr>
              <a:t>w danym przekroju elementu (pręta) nazywa się sumę rzutów wszystkich sił działających po jednej stronie przekroju na kierunek normalny do tego przekroju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83680" indent="-283680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900" spc="-1" strike="noStrike">
                <a:solidFill>
                  <a:srgbClr val="00b0f0"/>
                </a:solidFill>
                <a:latin typeface="Tw Cen MT"/>
              </a:rPr>
              <a:t>Siłą tnącą (poprzeczną) (T) </a:t>
            </a:r>
            <a:r>
              <a:rPr b="0" lang="pl-PL" sz="2900" spc="-1" strike="noStrike">
                <a:solidFill>
                  <a:srgbClr val="000000"/>
                </a:solidFill>
                <a:latin typeface="Tw Cen MT"/>
              </a:rPr>
              <a:t>w danym przekroju elementu (belki) nazywa się sumę rzutów wszystkich sił działających po jednej stronie przekroju na kierunek styczny do tego przekroju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83680" indent="-283680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0" name="Symbol zastępczy numeru slajdu 4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210EA-7BFF-496D-AFAF-D856A75D6A0B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1" name="Symbol zastępczy stopki 2"/>
          <p:cNvSpPr/>
          <p:nvPr/>
        </p:nvSpPr>
        <p:spPr>
          <a:xfrm>
            <a:off x="0" y="6553080"/>
            <a:ext cx="9144000" cy="214560"/>
          </a:xfrm>
          <a:prstGeom prst="rect">
            <a:avLst/>
          </a:prstGeom>
          <a:solidFill>
            <a:srgbClr val="95b3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1f497d"/>
                </a:solidFill>
                <a:latin typeface="Tw Cen MT"/>
              </a:rPr>
              <a:t>Wytrzymałość materiałów - cz. 1, dr inż. Sylwester Samborski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09120" y="272520"/>
            <a:ext cx="807732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1f497d"/>
                </a:solidFill>
                <a:latin typeface="Tw Cen MT"/>
              </a:rPr>
              <a:t>Proste zginanie belek, łuków lub ram</a:t>
            </a:r>
            <a:endParaRPr b="0" lang="en-US" sz="40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214200" y="1752120"/>
            <a:ext cx="2286000" cy="4343400"/>
          </a:xfrm>
          <a:prstGeom prst="rect">
            <a:avLst/>
          </a:prstGeom>
          <a:solidFill>
            <a:srgbClr val="c0504d"/>
          </a:solidFill>
          <a:ln cap="sq" w="50760">
            <a:solidFill>
              <a:srgbClr val="c0504d"/>
            </a:solidFill>
            <a:miter/>
          </a:ln>
        </p:spPr>
        <p:txBody>
          <a:bodyPr lIns="137160" rIns="137160" tIns="182880" bIns="91440" anchor="t">
            <a:normAutofit/>
          </a:bodyPr>
          <a:p>
            <a:pPr indent="0"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w Cen MT"/>
              </a:rPr>
              <a:t>Definicje sił wewnętrznych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00"/>
                </a:solidFill>
                <a:latin typeface="Tw Cen MT"/>
              </a:rPr>
              <a:t>(przypomnienie)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2529000" y="1752120"/>
            <a:ext cx="6400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286920" indent="-286920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00b050"/>
                </a:solidFill>
                <a:latin typeface="Tw Cen MT"/>
              </a:rPr>
              <a:t>Momentem gnącym (M</a:t>
            </a:r>
            <a:r>
              <a:rPr b="0" lang="pl-PL" sz="2700" spc="-1" strike="noStrike" baseline="-25000">
                <a:solidFill>
                  <a:srgbClr val="00b050"/>
                </a:solidFill>
                <a:latin typeface="Tw Cen MT"/>
              </a:rPr>
              <a:t>g</a:t>
            </a:r>
            <a:r>
              <a:rPr b="0" lang="pl-PL" sz="2700" spc="-1" strike="noStrike">
                <a:solidFill>
                  <a:srgbClr val="00b050"/>
                </a:solidFill>
                <a:latin typeface="Tw Cen MT"/>
              </a:rPr>
              <a:t>)</a:t>
            </a:r>
            <a:r>
              <a:rPr b="0" lang="pl-PL" sz="2700" spc="-1" strike="noStrike">
                <a:solidFill>
                  <a:srgbClr val="ff0000"/>
                </a:solidFill>
                <a:latin typeface="Tw Cen MT"/>
              </a:rPr>
              <a:t> </a:t>
            </a:r>
            <a:r>
              <a:rPr b="0" lang="pl-PL" sz="2700" spc="-1" strike="noStrike">
                <a:solidFill>
                  <a:srgbClr val="000000"/>
                </a:solidFill>
                <a:latin typeface="Tw Cen MT"/>
              </a:rPr>
              <a:t>w danym przekroju poprzecznym elementu (belki) nazywa się </a:t>
            </a:r>
            <a:r>
              <a:rPr b="0" lang="pl-PL" sz="2700" spc="-1" strike="noStrike" u="sng">
                <a:solidFill>
                  <a:srgbClr val="000000"/>
                </a:solidFill>
                <a:uFillTx/>
                <a:latin typeface="Tw Cen MT"/>
              </a:rPr>
              <a:t>składową styczną </a:t>
            </a:r>
            <a:r>
              <a:rPr b="0" lang="pl-PL" sz="2700" spc="-1" strike="noStrike">
                <a:solidFill>
                  <a:srgbClr val="000000"/>
                </a:solidFill>
                <a:latin typeface="Tw Cen MT"/>
              </a:rPr>
              <a:t>wektora momentu wszystkich sił działających po jednej stronie tego przekroju, względem jego środka ciężkości/śr. geometrycznego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286920" indent="-286920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ff0000"/>
                </a:solidFill>
                <a:latin typeface="Tw Cen MT"/>
              </a:rPr>
              <a:t>Momentem skręcającym (M</a:t>
            </a:r>
            <a:r>
              <a:rPr b="0" lang="pl-PL" sz="2700" spc="-1" strike="noStrike" baseline="-25000">
                <a:solidFill>
                  <a:srgbClr val="ff0000"/>
                </a:solidFill>
                <a:latin typeface="Tw Cen MT"/>
              </a:rPr>
              <a:t>s</a:t>
            </a:r>
            <a:r>
              <a:rPr b="0" lang="pl-PL" sz="2700" spc="-1" strike="noStrike">
                <a:solidFill>
                  <a:srgbClr val="ff0000"/>
                </a:solidFill>
                <a:latin typeface="Tw Cen MT"/>
              </a:rPr>
              <a:t>) </a:t>
            </a:r>
            <a:r>
              <a:rPr b="0" lang="pl-PL" sz="2700" spc="-1" strike="noStrike">
                <a:solidFill>
                  <a:srgbClr val="000000"/>
                </a:solidFill>
                <a:latin typeface="Tw Cen MT"/>
              </a:rPr>
              <a:t>w danym przekroju poprzecznym elementu (wału) nazywa się </a:t>
            </a:r>
            <a:r>
              <a:rPr b="0" lang="pl-PL" sz="2700" spc="-1" strike="noStrike" u="sng">
                <a:solidFill>
                  <a:srgbClr val="000000"/>
                </a:solidFill>
                <a:uFillTx/>
                <a:latin typeface="Tw Cen MT"/>
              </a:rPr>
              <a:t>składową normalną</a:t>
            </a:r>
            <a:r>
              <a:rPr b="0" lang="pl-PL" sz="2700" spc="-1" strike="noStrike">
                <a:solidFill>
                  <a:srgbClr val="000000"/>
                </a:solidFill>
                <a:latin typeface="Tw Cen MT"/>
              </a:rPr>
              <a:t> wektora momentu wszystkich sił działających po jednej stronie tego przekroju, względem jego środka ciężkości/śr. geometrycznego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5" name="Symbol zastępczy numeru slajdu 4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F1027-E11D-4703-9357-118F0A8CA2E6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6" name="Symbol zastępczy stopki 2"/>
          <p:cNvSpPr/>
          <p:nvPr/>
        </p:nvSpPr>
        <p:spPr>
          <a:xfrm>
            <a:off x="0" y="6553080"/>
            <a:ext cx="9144000" cy="214560"/>
          </a:xfrm>
          <a:prstGeom prst="rect">
            <a:avLst/>
          </a:prstGeom>
          <a:solidFill>
            <a:srgbClr val="95b3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1f497d"/>
                </a:solidFill>
                <a:latin typeface="Tw Cen MT"/>
              </a:rPr>
              <a:t>Wytrzymałość materiałów - cz. 1, dr inż. Sylwester Samborski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6T07:14:40Z</dcterms:created>
  <dc:creator/>
  <dc:description/>
  <dc:language>en-US</dc:language>
  <cp:lastModifiedBy/>
  <dcterms:modified xsi:type="dcterms:W3CDTF">2011-10-05T15:21:20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lpwstr>1045</vt:lpwstr>
  </property>
  <property fmtid="{D5CDD505-2E9C-101B-9397-08002B2CF9AE}" pid="3" name="_TemplateID">
    <vt:lpwstr>TC101671251045</vt:lpwstr>
  </property>
</Properties>
</file>