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8.png" ContentType="image/png"/>
  <Override PartName="/ppt/media/image31.wmf" ContentType="image/x-wmf"/>
  <Override PartName="/ppt/media/image1.png" ContentType="image/png"/>
  <Override PartName="/ppt/media/image29.wmf" ContentType="image/x-wmf"/>
  <Override PartName="/ppt/media/image5.png" ContentType="image/png"/>
  <Override PartName="/ppt/media/image35.png" ContentType="image/png"/>
  <Override PartName="/ppt/media/image10.wmf" ContentType="image/x-wmf"/>
  <Override PartName="/ppt/media/image25.png" ContentType="image/png"/>
  <Override PartName="/ppt/media/image33.png" ContentType="image/png"/>
  <Override PartName="/ppt/media/image37.png" ContentType="image/png"/>
  <Override PartName="/ppt/media/image40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5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6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5B8A-4091-4A99-AB08-6C280F23E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4B4-32EB-41A1-BA62-5ACA26CA8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ymbol zastępczy numeru slajdu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9C79-51E2-4636-9FA9-C71403416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F8E-5316-43BF-9CCA-7560D1EA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87E-19B1-488F-AB87-C5DAA4ED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55955-9060-4EAC-9AF9-A4BA8C88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EA9BE-A248-4068-B237-081F45FA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094C8-CFE4-48D8-A0EB-355800B8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F7DE9-74FB-4D9C-B7D4-25305D7E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3DABF-20FC-414E-9DED-FD3DE63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E0E48-C18B-4E70-A77B-27C95D55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D39BA-E990-48E3-92EB-762B9CBD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99AB9-868C-4371-B58D-EC5722B9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D1796-61FE-4A3D-82F7-27AC0712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48913C-E046-4003-81E1-3CB9C73A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9A0-70F8-4A35-98C8-1CE20AF4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B0E45B-C54F-49D6-9B43-5D1443C6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AB8309-2495-4D67-9753-E5F0AB0F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78C09C-F579-4EC1-81CC-4E702089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5E88A3-2404-4BF3-9C19-05BFB170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0CE42F-AE47-4DBE-9ED7-96915202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5D498A-A24B-4211-98EC-281EDACC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E3D9D5-9989-4AB7-A441-D7FE52CA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810866-DB06-4566-8451-EEB4AB11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839E34-9BC4-41BE-8C52-A5682159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EABB3C-62CE-4E4A-807F-F737EFD1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F7A-7619-4BB0-927C-F07F080E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269338-8F24-4E51-BF91-F10353BA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51CD1-20BD-479B-9F54-3BE9D3CF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8FD4F-71E4-4795-9693-5D5B9A74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758AF-DCCF-4A3F-B344-54D0DC8D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FD6A2-852A-46CA-9B71-477E683A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2F735-50DC-44B6-9879-A7591D7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235A4-016E-4186-A600-948A24C5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752A2-C0F8-4A31-B1F3-BC23CAEE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BA6C2-3B68-4077-87E5-3FB3140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4849F-9CC7-4045-B940-EE022859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86DC-3F7D-49B5-9D31-2418B9DC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B4334-E9AD-48DD-9F6C-77A4C861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0E9B8-A4EE-4CCD-A599-BCA54A78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FFCA8-2F9D-46AF-80C6-AEB346DC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832-75D3-4CD9-A505-15CA3519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1BBB-AEE4-49CC-90FB-9F6E010C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2BE2-17CA-48FD-AFC2-84CD130A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6E94-DB4F-4ACE-AD75-2AE2B9A4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CE18-2BC1-4EFA-BDE1-C2C0D24D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CE38-3025-4319-B889-43BAFA02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EC1-4E93-42D2-9624-CC25BA17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A2D2-EE10-46AB-BA95-28638AF1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2F77-DC04-497A-A7E6-7C9BCB0D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F12E-7C26-45A4-9D80-7F5D236B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BF40-6ECA-410F-8C2F-1EAB0957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745-9FC7-4510-9742-F1EAFED9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541F-1CE7-41E6-B9C2-F8463F59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57BC-0938-43BE-9B6C-569BFAD2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020F-B9C6-4FA7-B9E6-8E601375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87BD-047A-495F-AB72-DCF1DE09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6F4C-9178-44F9-9617-3F5F0D30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BBB-CD42-4C38-8D84-CAE54546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939B-2CAE-45D1-BA37-9C43D308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F1A1-D6F6-4F33-82F9-27F0A0D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EF28-8143-4ECB-B1E4-494250D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C805-6483-430F-B17B-E6309CF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9286-D55F-4A90-94EE-FBC91CC0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F9F4-1494-422F-875A-F272DB52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6827-D910-484A-BDCC-7F7D045B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C00F5-BB15-400F-ADF0-EA8BF948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00BBDA-0B7C-4D3B-873F-40D78BCF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97EB9-C1A9-4A0B-8E9C-B74624D9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A4A-948F-4EB3-8841-BE8F635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AD114-04FE-4989-8C7E-C74E83C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6B938-1CFD-4AD6-936B-57682E2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2F301-CFF1-4662-98C4-3C70966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541E4-B73D-4E83-A200-F1842744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9138E-CFA7-46C2-8101-2D7A9A75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C17BE-CE66-48F9-AE7F-E4888A5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FCC5A-79CA-431B-8B1B-365EAD70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C69A4-77DB-4E52-8426-5695DED5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2E060-1940-4A6B-B5C3-E1C26FCB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F9B0E-0E85-41F8-A5EF-4235D357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ACB-80E2-4631-8D22-881D9B02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36ADA-B514-46E2-B618-E548CE69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9834E-5D3F-45C1-BAB2-76530837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AC89F-C069-4DA1-8EE6-D4C7C5B0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F093E-14EB-406E-AE8D-5B9F6F67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2A54E-2315-4E4C-8F98-54B6CC7F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401CC-EED7-4FE7-B559-96851122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9D8B6-AAD6-44DF-A9A5-2907493E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FC67F-6E8B-49E4-B631-8AE31FD5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CBE02-B548-444F-B385-EC4FA27F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A40FA-99FC-4B06-B647-A17AFCBA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B59-200A-42C8-A9E8-5DE5CF1B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1FA7B-4EFB-4FB0-B4FA-F8FC5260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B0A97-63CA-45C9-84DA-C6FBAE6C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0BC4A-2944-423A-B5B2-FEDBAC84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F3E65-4DA4-4C9A-837E-4C07C571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76EC2-1906-48D1-97EE-68D36571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91C20-3C72-4A7C-951B-E6619A0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BE82F-2998-4DF8-8CA8-10AA6092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0BFC1-BD85-4140-9432-ACEB139F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FE230-EEC8-433C-91C3-64D4C5A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6FD01-4887-4AEC-9FC1-F6B4164A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E40-42D7-438F-99F0-B1D67B49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4E839-21A4-40B4-85CF-56D52F8A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74EA8-942A-41F9-A388-0C528DCA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5AF0D-E8AB-44AA-9AFA-FA181A96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FE0BB-6963-428C-8D16-6933A6CF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387C-E292-429E-8B26-BF34F473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FA2C-575F-4132-8BF5-0AA2A583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893A9-BED1-425D-AEF1-8AB1E596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F6F0D-F20D-415D-8DD8-8C15D4EA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C0DFE-6B47-4557-802F-96DC266D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B69AA-EA00-4F04-9B11-64A24F7D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DFA-F78D-4857-9027-4B53D1D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3AEFC-8919-4BA4-9E93-66F51EA3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2E725-6A4A-470B-87EE-2D9A9E1B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A5CAE-48A0-4137-9EE7-D92290D0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4398F-644B-4BFE-95C9-CA0A0721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FAFB-C3FE-4962-9B95-317DAA38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6840E-88C0-4126-83A5-7553EB4C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86DB4-260A-45F2-8FCC-3F002AC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C88CA-66DF-4EBB-AA23-AA1CBB7A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E4CB0-BFED-4656-B6A2-305270B2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57814-3B9B-4F7E-9E09-B40604C9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B3A-1B27-4DC8-B236-1CDDD3FB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83CD0-D2B6-42E9-87BE-314CC41F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EE7E5-C327-4759-AC1F-AD4BD34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505E-B7B3-4C1F-AB0B-A6E0C74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1A1F5-075E-43F8-88DC-4B63BAC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4C53-71C9-46E9-9D8A-3B416D5E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D2E6-116C-48C9-93A9-9C22B908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3FB44-2564-4865-AC27-B59E6528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D921B-CD5A-4D36-B8D1-ED2C3574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64152-2CD8-40A0-9F8B-6C06686C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A525E-A642-4999-AD93-B03D6C98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864B-B3EB-4B65-AB4D-DEE6082EDE9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8D602E0-E56F-4902-B641-488DFD8C851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2C3F-431B-4A8D-A99E-539C48FDFEE3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37A1-43F0-4609-931F-56E45FB0693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E973CD5-59F3-4090-A7BF-EEB85D4F1CA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B830-F1FA-4AD5-B341-AD5BF88C9B7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AE4F-0D33-4425-8165-7B42306B7D8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61AED2F-6B51-4211-8DA6-7C95FA5A0AF1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FA61-B379-4A5A-8504-B4136F194F68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E124-C315-4C0B-A9C4-5CCA49FB3584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CD441D5-F6A7-48C8-A4C8-407879032E6F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54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eece1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6547-FD28-4CE2-9B21-6DF8EFC01EC5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BFF5-EB03-4BEE-803E-092754B99CA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15399C9-8AB8-4F41-8D17-A5D1FF0F096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E812-B62A-4CC3-A200-3A0C681FF2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A34D-4A80-4A22-A78B-DBBE6875576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D2D5151-9AF4-47B2-BAE4-BCBF1134660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8E8E-2842-4839-A8C9-5BADD1FFA16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5B49-3851-4B68-A735-A77EA50B94B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815245C-FA58-4C25-8C55-534D183B4C6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6038-2836-46E3-BA73-9793D69E2C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274B-9370-4B7D-A0B8-31603132F9F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96C6795-2EB3-4BD1-AE77-EE70875A5A5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F3A7-F6A8-475D-B210-025A07030A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27E0-33F3-4824-A31D-1D7504B96A9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800A49E-CBDE-4A40-A7CA-E9B09DFA543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8AD7-F9FD-4834-9945-D37BBA8EDF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5021-4623-466B-BA80-80DD55286B8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EA37036-03D4-4724-B67A-F54F0E40EC1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CC46-2949-42B0-8A35-D5F7E2A19E1A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7942-F628-47A2-81D6-EB4B5F852C8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EC14831-8DA6-4B8C-8087-54A2D8C23B7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8:5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imes New Roman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1B29-6E47-4B64-BF6F-E24A856C86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eece1"/>
                </a:solidFill>
                <a:latin typeface="Tw Cen MT"/>
              </a:rPr>
              <a:t>WYTRZYMAŁOŚĆ MATERIAŁÓW - CZ. 1</a:t>
            </a:r>
            <a:br>
              <a:rPr sz="32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WYKŁADY DLA STUDENTÓW</a:t>
            </a:r>
            <a:br>
              <a:rPr sz="2400"/>
            </a:br>
            <a:r>
              <a:rPr b="0" lang="pl-PL" sz="2400" spc="-1" strike="noStrike">
                <a:solidFill>
                  <a:srgbClr val="eeece1"/>
                </a:solidFill>
                <a:latin typeface="Tw Cen MT"/>
              </a:rPr>
              <a:t>STUDIÓW DZIENNYCH, MIBM</a:t>
            </a:r>
            <a:endParaRPr b="0" lang="en-US" sz="2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Opracował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Dr inż. Sylwester Samborski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8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41E8-45E4-4E50-8811-423B9948E08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Prostokąt 12"/>
          <p:cNvSpPr/>
          <p:nvPr/>
        </p:nvSpPr>
        <p:spPr>
          <a:xfrm>
            <a:off x="214200" y="325908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zakresie liniowej sprężystości związki te wyraża uogólnione prawo Hooke’a, zapisane wzorem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dla kierunków głównych. Podobne zależności można uzyskać rozpatrując ogólny stan naprężenia w dowolnym (nie głównym) układzie odniesienia i stosując zasadę superpozycji (por. Komorzycki, Teter (2000)). Dodatkowo podaje się zależności na kąty odkształcenia postacioweg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Symbol zastępczy zawartości 4"/>
          <p:cNvSpPr/>
          <p:nvPr/>
        </p:nvSpPr>
        <p:spPr>
          <a:xfrm>
            <a:off x="214200" y="1600200"/>
            <a:ext cx="44290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Związki między składowymi tensora stanu odkształcenia a składowymi tensora stanu naprężeni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82" name="Object 5"/>
          <p:cNvGraphicFramePr/>
          <p:nvPr/>
        </p:nvGraphicFramePr>
        <p:xfrm>
          <a:off x="4714920" y="1643040"/>
          <a:ext cx="384156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1643040"/>
                    <a:ext cx="3841560" cy="476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4" name="Prostokąt 9"/>
          <p:cNvSpPr/>
          <p:nvPr/>
        </p:nvSpPr>
        <p:spPr>
          <a:xfrm>
            <a:off x="8567640" y="3786120"/>
            <a:ext cx="5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8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123B-42DF-4815-B735-4866624ED3B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Prostokąt 12"/>
          <p:cNvSpPr/>
          <p:nvPr/>
        </p:nvSpPr>
        <p:spPr>
          <a:xfrm>
            <a:off x="214200" y="3259080"/>
            <a:ext cx="5000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zekształcając równania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, z pominięciem członów dotyczących rozszerzalności cieplnej, otrzymuje się wyrażenia na naprężenia, w których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ielkośc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noszą nazwę stałych Lame’g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Symbol zastępczy zawartości 4"/>
          <p:cNvSpPr/>
          <p:nvPr/>
        </p:nvSpPr>
        <p:spPr>
          <a:xfrm>
            <a:off x="214200" y="1600200"/>
            <a:ext cx="44290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w Cen MT"/>
              </a:rPr>
              <a:t>Związki między składowymi tensora stanu odkształcenia a składowymi tensora stanu naprężeni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90" name="Object 5"/>
          <p:cNvGraphicFramePr/>
          <p:nvPr/>
        </p:nvGraphicFramePr>
        <p:xfrm>
          <a:off x="5572080" y="2035080"/>
          <a:ext cx="2428920" cy="34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2035080"/>
                    <a:ext cx="2428920" cy="3459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2" name="Object 3"/>
          <p:cNvGraphicFramePr/>
          <p:nvPr/>
        </p:nvGraphicFramePr>
        <p:xfrm>
          <a:off x="428760" y="4572000"/>
          <a:ext cx="4209840" cy="13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760" y="4572000"/>
                    <a:ext cx="420984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B211-B9C8-4C4B-A158-20BC2EC01BA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rostokąt 12"/>
          <p:cNvSpPr/>
          <p:nvPr/>
        </p:nvSpPr>
        <p:spPr>
          <a:xfrm>
            <a:off x="214200" y="2571840"/>
            <a:ext cx="8715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dawane dotychczas zależności opisywały materiały izotropowe, tzn. odznaczające się takimi samymi właściwościami sprężystymi we wszystkich kierunkach. W przypadku materiałów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anizotropowych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a więc o właściwościach zależnych od obranego kierunku </a:t>
            </a: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związki konstytutywne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(zależności między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 wyrażają się następując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lub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gdzie C i S oznaczają odpowiednio tensor sztywności i podatności. Są to tensory czwartego rzędu, posiadające w ogólnym przypadku 3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81 składowych. Liczba tych składowych redukuje się do 36 na mocy równości podanych przez Cauchy’ego, gdyż wtedy tensory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mają tylko po 6 różnych składowych (są symetryczne).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tensora stanu odkształcenia a składowymi tensora stanu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99" name="Object 5"/>
          <p:cNvGraphicFramePr/>
          <p:nvPr/>
        </p:nvGraphicFramePr>
        <p:xfrm>
          <a:off x="1608120" y="4237200"/>
          <a:ext cx="1944720" cy="73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4237200"/>
                    <a:ext cx="1944720" cy="739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1" name="Object 5"/>
          <p:cNvGraphicFramePr/>
          <p:nvPr/>
        </p:nvGraphicFramePr>
        <p:xfrm>
          <a:off x="5391000" y="4237200"/>
          <a:ext cx="1851120" cy="73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4237200"/>
                    <a:ext cx="1851120" cy="739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04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23E9-1016-40EA-8EC7-3132A026F4B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rostokąt 12"/>
          <p:cNvSpPr/>
          <p:nvPr/>
        </p:nvSpPr>
        <p:spPr>
          <a:xfrm>
            <a:off x="214200" y="257184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Słuszne są wówczas zależności macierzow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tensora stanu odkształcenia a składowymi tensora stanu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8" name="Object 5"/>
          <p:cNvGraphicFramePr/>
          <p:nvPr/>
        </p:nvGraphicFramePr>
        <p:xfrm>
          <a:off x="555480" y="3000240"/>
          <a:ext cx="810432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000240"/>
                    <a:ext cx="8104320" cy="3389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30A4-672D-46C3-AD57-86578F6FAC7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rostokąt 12"/>
          <p:cNvSpPr/>
          <p:nvPr/>
        </p:nvSpPr>
        <p:spPr>
          <a:xfrm>
            <a:off x="214200" y="257184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a takż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tensora stanu odkształcenia a składowymi tensora stanu napręż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15" name="Object 5"/>
          <p:cNvGraphicFramePr/>
          <p:nvPr/>
        </p:nvGraphicFramePr>
        <p:xfrm>
          <a:off x="571680" y="3000240"/>
          <a:ext cx="807228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000240"/>
                    <a:ext cx="8072280" cy="3389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2500200" y="2500200"/>
            <a:ext cx="3773520" cy="3799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19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B284-6AFE-4203-86EC-9EDC79AC4A0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rostokąt 12"/>
          <p:cNvSpPr/>
          <p:nvPr/>
        </p:nvSpPr>
        <p:spPr>
          <a:xfrm>
            <a:off x="214200" y="214308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la płyty przedstawionej na rysunku wyznaczyć naprężenia w przekroju określonym kątem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3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zykład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/>
          <a:srcRect l="0" t="0" r="10620" b="10919"/>
          <a:stretch/>
        </p:blipFill>
        <p:spPr>
          <a:xfrm>
            <a:off x="123840" y="1973160"/>
            <a:ext cx="4263840" cy="454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"/>
          <p:cNvPicPr/>
          <p:nvPr/>
        </p:nvPicPr>
        <p:blipFill>
          <a:blip r:embed="rId2"/>
          <a:srcRect l="0" t="0" r="11526" b="0"/>
          <a:stretch/>
        </p:blipFill>
        <p:spPr>
          <a:xfrm>
            <a:off x="4327560" y="1574640"/>
            <a:ext cx="4714920" cy="485964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6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8E10-37DE-4F1A-882F-A206ECA77F4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zykład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4357800" y="2720880"/>
            <a:ext cx="4535280" cy="37404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C89F-DB2C-482F-9E22-8FCF4596D01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rostokąt 12"/>
          <p:cNvSpPr/>
          <p:nvPr/>
        </p:nvSpPr>
        <p:spPr>
          <a:xfrm>
            <a:off x="214200" y="2143080"/>
            <a:ext cx="8715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Rozwiązanie sposobem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analitycznym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3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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80MPa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20MP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zykład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35" name="Object 2"/>
          <p:cNvGraphicFramePr/>
          <p:nvPr/>
        </p:nvGraphicFramePr>
        <p:xfrm>
          <a:off x="117360" y="3000240"/>
          <a:ext cx="4562640" cy="27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3000240"/>
                    <a:ext cx="456264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4357800" y="2720880"/>
            <a:ext cx="4535280" cy="374040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39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BBF9-E345-4111-AFB8-706E8A520DE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rostokąt 12"/>
          <p:cNvSpPr/>
          <p:nvPr/>
        </p:nvSpPr>
        <p:spPr>
          <a:xfrm>
            <a:off x="214200" y="2143080"/>
            <a:ext cx="871560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Rozwiązanie sposobem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wykreślnym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3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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80MPa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20MP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Środek koła Mohr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omień koła Mohr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Kąt środkow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Kolejny slajd przedstawia odpowiednie koło Mohra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będące rozwiązaniem wykreślnym przykładu 1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zykład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43" name="Object 2"/>
          <p:cNvGraphicFramePr/>
          <p:nvPr/>
        </p:nvGraphicFramePr>
        <p:xfrm>
          <a:off x="365040" y="3071880"/>
          <a:ext cx="4678560" cy="72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040" y="3071880"/>
                    <a:ext cx="46785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3"/>
          <p:cNvGraphicFramePr/>
          <p:nvPr/>
        </p:nvGraphicFramePr>
        <p:xfrm>
          <a:off x="324000" y="3987720"/>
          <a:ext cx="4748040" cy="72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987720"/>
                    <a:ext cx="47480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4"/>
          <p:cNvGraphicFramePr/>
          <p:nvPr/>
        </p:nvGraphicFramePr>
        <p:xfrm>
          <a:off x="368280" y="4929120"/>
          <a:ext cx="166068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8280" y="4929120"/>
                    <a:ext cx="1660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3146400" y="1571760"/>
            <a:ext cx="5869080" cy="49165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1673-FEBC-47BB-AA88-4A72AFE6929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rostokąt 12"/>
          <p:cNvSpPr/>
          <p:nvPr/>
        </p:nvSpPr>
        <p:spPr>
          <a:xfrm>
            <a:off x="214200" y="2143080"/>
            <a:ext cx="264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Rozwiązanie sposobem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wykreślnym – koło Mohr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zykład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4000680" y="2571840"/>
            <a:ext cx="4957560" cy="39290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AD71-713C-44DA-998A-580BE2CF583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rostokąt 12"/>
          <p:cNvSpPr/>
          <p:nvPr/>
        </p:nvSpPr>
        <p:spPr>
          <a:xfrm>
            <a:off x="214200" y="2511360"/>
            <a:ext cx="428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ektor przemieszczenia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b,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jak wiadomo, wyraża się wzorem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Symbol zastępczy zawartości 4"/>
          <p:cNvSpPr/>
          <p:nvPr/>
        </p:nvSpPr>
        <p:spPr>
          <a:xfrm>
            <a:off x="214200" y="1600200"/>
            <a:ext cx="857268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wektora przemieszczenia a składowymi tensora stanu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2" name="Object 2"/>
          <p:cNvGraphicFramePr/>
          <p:nvPr/>
        </p:nvGraphicFramePr>
        <p:xfrm>
          <a:off x="857160" y="3325680"/>
          <a:ext cx="207504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3325680"/>
                    <a:ext cx="20750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Prostokąt 9"/>
          <p:cNvSpPr/>
          <p:nvPr/>
        </p:nvSpPr>
        <p:spPr>
          <a:xfrm>
            <a:off x="214200" y="3814920"/>
            <a:ext cx="451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Składowe tensora stanu odkształcenia przedstawia macier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5" name="Object 6"/>
          <p:cNvGraphicFramePr/>
          <p:nvPr/>
        </p:nvGraphicFramePr>
        <p:xfrm>
          <a:off x="214200" y="4500720"/>
          <a:ext cx="3818160" cy="169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200" y="4500720"/>
                    <a:ext cx="381816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3759120" y="1928880"/>
            <a:ext cx="5135760" cy="49291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57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4D8F-C1B7-48FB-B24E-E93088851DB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rostokąt 12"/>
          <p:cNvSpPr/>
          <p:nvPr/>
        </p:nvSpPr>
        <p:spPr>
          <a:xfrm>
            <a:off x="214200" y="2643120"/>
            <a:ext cx="3857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Dane są naprężenia działające na ściankach elementu prostopadłościennego przedstawionego na rysunku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80MPa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20MPa i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xy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|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=26MPa. Znaleźć wartości naprężeń głównych oraz ich kierunk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zykład 2 (zagadnienie odwrotne do przykładu 1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3841920" y="2500200"/>
            <a:ext cx="5302080" cy="40878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3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D242-F9CD-4DA1-9621-DDB58549AF1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zykład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rostokąt 8"/>
          <p:cNvSpPr/>
          <p:nvPr/>
        </p:nvSpPr>
        <p:spPr>
          <a:xfrm>
            <a:off x="214200" y="214308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Rozwiązanie sposobem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analitycznym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67" name="Object 7"/>
          <p:cNvGraphicFramePr/>
          <p:nvPr/>
        </p:nvGraphicFramePr>
        <p:xfrm>
          <a:off x="176040" y="2571840"/>
          <a:ext cx="4610160" cy="37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2571840"/>
                    <a:ext cx="461016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"/>
          <p:cNvPicPr/>
          <p:nvPr/>
        </p:nvPicPr>
        <p:blipFill>
          <a:blip r:embed="rId1"/>
          <a:srcRect l="4327" t="5409" r="8077" b="0"/>
          <a:stretch/>
        </p:blipFill>
        <p:spPr>
          <a:xfrm>
            <a:off x="3357720" y="1571760"/>
            <a:ext cx="5786280" cy="499896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7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30A6-1E57-4E86-B2B4-C50565BDC5C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zykład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rostokąt 8"/>
          <p:cNvSpPr/>
          <p:nvPr/>
        </p:nvSpPr>
        <p:spPr>
          <a:xfrm>
            <a:off x="214200" y="214308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Rozwiązanie sposobem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analitycznym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75" name="Object 3"/>
          <p:cNvGraphicFramePr/>
          <p:nvPr/>
        </p:nvGraphicFramePr>
        <p:xfrm>
          <a:off x="285840" y="2571840"/>
          <a:ext cx="2214360" cy="20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571840"/>
                    <a:ext cx="221436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5" descr=""/>
          <p:cNvPicPr/>
          <p:nvPr/>
        </p:nvPicPr>
        <p:blipFill>
          <a:blip r:embed="rId1"/>
          <a:stretch/>
        </p:blipFill>
        <p:spPr>
          <a:xfrm>
            <a:off x="3192480" y="1574640"/>
            <a:ext cx="5869080" cy="491652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79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41CD-686A-4AC8-B4B3-1803624257A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rostokąt 12"/>
          <p:cNvSpPr/>
          <p:nvPr/>
        </p:nvSpPr>
        <p:spPr>
          <a:xfrm>
            <a:off x="214200" y="2143080"/>
            <a:ext cx="30718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b0f0"/>
                </a:solidFill>
                <a:latin typeface="Tw Cen MT"/>
              </a:rPr>
              <a:t>Rozwiązanie sposobem </a:t>
            </a:r>
            <a:r>
              <a:rPr b="1" lang="pl-PL" sz="2000" spc="-1" strike="noStrike">
                <a:solidFill>
                  <a:srgbClr val="00b0f0"/>
                </a:solidFill>
                <a:latin typeface="Tw Cen MT"/>
              </a:rPr>
              <a:t>wykreślnym – koło Mohr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Środek koł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romień koł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Symbol zastępczy zawartości 4"/>
          <p:cNvSpPr/>
          <p:nvPr/>
        </p:nvSpPr>
        <p:spPr>
          <a:xfrm>
            <a:off x="214200" y="1600200"/>
            <a:ext cx="8715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Przykład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83" name="Object 7"/>
          <p:cNvGraphicFramePr/>
          <p:nvPr/>
        </p:nvGraphicFramePr>
        <p:xfrm>
          <a:off x="120600" y="3278160"/>
          <a:ext cx="295596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00" y="3278160"/>
                    <a:ext cx="2955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4"/>
          <p:cNvGraphicFramePr/>
          <p:nvPr/>
        </p:nvGraphicFramePr>
        <p:xfrm>
          <a:off x="52560" y="4673520"/>
          <a:ext cx="3213000" cy="143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60" y="4673520"/>
                    <a:ext cx="321300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4643280" y="2643120"/>
            <a:ext cx="4416480" cy="36529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9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AF79-ABE3-47EA-B808-7EC6B8BEB37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rostokąt 12"/>
          <p:cNvSpPr/>
          <p:nvPr/>
        </p:nvSpPr>
        <p:spPr>
          <a:xfrm>
            <a:off x="214200" y="2511360"/>
            <a:ext cx="45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Ustalenie szukanych związków przeprowadza się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rozpatrując zagadnienie płaski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a następnie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dokonując uogólnienia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trzymanych zależności na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przestrzeń trójwymiarow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Rozpatrzmy (znany) układ trzech punktó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0AB na płaszczyźnie xy. Odcinki 0A i 0B są początkowo równoległe do odpowiednich osi x i y układu odniesienia, a więc są przed odkształceniem wzajem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. Przeanalizujemy szczegółowo zmianę położenia odcinków wskutek odkształcenia ciał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Symbol zastępczy zawartości 4"/>
          <p:cNvSpPr/>
          <p:nvPr/>
        </p:nvSpPr>
        <p:spPr>
          <a:xfrm>
            <a:off x="214200" y="1600200"/>
            <a:ext cx="857268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wektora przemieszczenia a składowymi tensora stanu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3917880" y="2643120"/>
            <a:ext cx="5102280" cy="3654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5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D4A0-E812-410F-B2ED-89D28944E9F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rostokąt 12"/>
          <p:cNvSpPr/>
          <p:nvPr/>
        </p:nvSpPr>
        <p:spPr>
          <a:xfrm>
            <a:off x="214200" y="2511360"/>
            <a:ext cx="45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Ustalenie szukanych związków przeprowadza się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rozpatrując zagadnienie płaskie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, a następnie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dokonując uogólnienia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trzymanych zależności na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przestrzeń trójwymiarową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Rozpatrzmy (znany) układ trzech punktó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0AB na płaszczyźnie xy. Odcinki 0A i 0B są początkowo równoległe do odpowiednich osi x i y układu odniesienia, a więc są przed odkształceniem wzajem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. Przeanalizujemy szczegółowo zmianę położenia odcinków wskutek odkształcenia ciał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Symbol zastępczy zawartości 4"/>
          <p:cNvSpPr/>
          <p:nvPr/>
        </p:nvSpPr>
        <p:spPr>
          <a:xfrm>
            <a:off x="214200" y="1600200"/>
            <a:ext cx="857268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wektora przemieszczenia a składowymi tensora stanu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0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E7BE-45CD-4086-ACA3-D50A80E97DD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6948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4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0591-F3CC-48AF-85FB-77FD56A13F8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rostokąt 12"/>
          <p:cNvSpPr/>
          <p:nvPr/>
        </p:nvSpPr>
        <p:spPr>
          <a:xfrm>
            <a:off x="214200" y="2643120"/>
            <a:ext cx="87156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ydłużenie odcinka dx wynosi            , a zatem liniowe odkształcenie względ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w punkcie 0 w kierunku osi x równe będzie, z definicji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Analogicznie do powyższego, jeśli wydłużenie odcinka dy wynosi             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to liniowe odkształcenie względne w punkcie 0 w kierunku osi 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dane wyżej wzory są użyteczne, jeżeli znane są funkcje                       oraz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Symbol zastępczy zawartości 4"/>
          <p:cNvSpPr/>
          <p:nvPr/>
        </p:nvSpPr>
        <p:spPr>
          <a:xfrm>
            <a:off x="214200" y="1600200"/>
            <a:ext cx="857268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wektora przemieszczenia a składowymi tensora stanu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38" name="Object 2"/>
          <p:cNvGraphicFramePr/>
          <p:nvPr/>
        </p:nvGraphicFramePr>
        <p:xfrm>
          <a:off x="3571920" y="2500200"/>
          <a:ext cx="69696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2500200"/>
                    <a:ext cx="6969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3"/>
          <p:cNvGraphicFramePr/>
          <p:nvPr/>
        </p:nvGraphicFramePr>
        <p:xfrm>
          <a:off x="5943600" y="2975040"/>
          <a:ext cx="184320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975040"/>
                    <a:ext cx="1843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4"/>
          <p:cNvGraphicFramePr/>
          <p:nvPr/>
        </p:nvGraphicFramePr>
        <p:xfrm>
          <a:off x="6989760" y="4027320"/>
          <a:ext cx="720720" cy="74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89760" y="4027320"/>
                    <a:ext cx="72072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5"/>
          <p:cNvGraphicFramePr/>
          <p:nvPr/>
        </p:nvGraphicFramePr>
        <p:xfrm>
          <a:off x="6791400" y="4772160"/>
          <a:ext cx="1908000" cy="110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91400" y="4772160"/>
                    <a:ext cx="190800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6"/>
          <p:cNvGraphicFramePr/>
          <p:nvPr/>
        </p:nvGraphicFramePr>
        <p:xfrm>
          <a:off x="6159600" y="5865840"/>
          <a:ext cx="148428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9600" y="5865840"/>
                    <a:ext cx="1484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7"/>
          <p:cNvGraphicFramePr/>
          <p:nvPr/>
        </p:nvGraphicFramePr>
        <p:xfrm>
          <a:off x="334800" y="6129360"/>
          <a:ext cx="1505160" cy="44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800" y="6129360"/>
                    <a:ext cx="1505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4378-A248-4548-9FB3-D1D09F5DE89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rostokąt 12"/>
          <p:cNvSpPr/>
          <p:nvPr/>
        </p:nvSpPr>
        <p:spPr>
          <a:xfrm>
            <a:off x="214200" y="2643120"/>
            <a:ext cx="8715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Suma kątów obrotu  prostopadłych przed odkształceniem odcinków 0A i 0B wynos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. Kąty te są bardzo małe, więc można je zdefiniować w sposób przybliżony, jako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Kąt odkształcenia postaciowego w płaszczyźnie osi xy będzie równ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Symbol zastępczy zawartości 4"/>
          <p:cNvSpPr/>
          <p:nvPr/>
        </p:nvSpPr>
        <p:spPr>
          <a:xfrm>
            <a:off x="214200" y="1600200"/>
            <a:ext cx="857268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wektora przemieszczenia a składowymi tensora stanu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5" name="Object 8"/>
          <p:cNvGraphicFramePr/>
          <p:nvPr/>
        </p:nvGraphicFramePr>
        <p:xfrm>
          <a:off x="285840" y="2940120"/>
          <a:ext cx="119052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940120"/>
                    <a:ext cx="119052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9"/>
          <p:cNvGraphicFramePr/>
          <p:nvPr/>
        </p:nvGraphicFramePr>
        <p:xfrm>
          <a:off x="2286000" y="3286080"/>
          <a:ext cx="3973680" cy="11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86080"/>
                    <a:ext cx="39736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10"/>
          <p:cNvGraphicFramePr/>
          <p:nvPr/>
        </p:nvGraphicFramePr>
        <p:xfrm>
          <a:off x="3571920" y="4929120"/>
          <a:ext cx="1571760" cy="74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4929120"/>
                    <a:ext cx="15717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62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144D-04E5-4459-8186-5C710C2EEC9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rostokąt 12"/>
          <p:cNvSpPr/>
          <p:nvPr/>
        </p:nvSpPr>
        <p:spPr>
          <a:xfrm>
            <a:off x="214200" y="264312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zostałe związki między składowymi wektora przemieszczenia a składowymi tensora stanu odkształcenia można wyprowadzić w sposób analogiczny do powyższych rozważań, rozpatrując odpowiednio płaszczyzny xy oraz yz. Otrzymuje się wówczas następujące zależności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oraz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Symbol zastępczy zawartości 4"/>
          <p:cNvSpPr/>
          <p:nvPr/>
        </p:nvSpPr>
        <p:spPr>
          <a:xfrm>
            <a:off x="214200" y="1571760"/>
            <a:ext cx="857268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wektora przemieszczenia a składowymi tensora stanu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6" name="Object 10"/>
          <p:cNvGraphicFramePr/>
          <p:nvPr/>
        </p:nvGraphicFramePr>
        <p:xfrm>
          <a:off x="1812960" y="4030560"/>
          <a:ext cx="9208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4030560"/>
                    <a:ext cx="9208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5"/>
          <p:cNvGraphicFramePr/>
          <p:nvPr/>
        </p:nvGraphicFramePr>
        <p:xfrm>
          <a:off x="3887640" y="3997440"/>
          <a:ext cx="3899160" cy="78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7640" y="3997440"/>
                    <a:ext cx="389916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Tw Cen MT"/>
              </a:rPr>
              <a:t>Analiza stanu naprężenia i stanu odkształcenia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1" name="Symbol zastępczy stopki 2"/>
          <p:cNvSpPr/>
          <p:nvPr/>
        </p:nvSpPr>
        <p:spPr>
          <a:xfrm>
            <a:off x="0" y="6553080"/>
            <a:ext cx="9144000" cy="214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Tw Cen MT"/>
              </a:rPr>
              <a:t>Wytrzymałość materiałów - cz. 1, dr inż. Sylwester Samborski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85A6-945D-4A0C-8498-3DBCF5B17BF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rostokąt 12"/>
          <p:cNvSpPr/>
          <p:nvPr/>
        </p:nvSpPr>
        <p:spPr>
          <a:xfrm>
            <a:off x="214200" y="396252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Podsumowując, otrzymano następujące zależności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Symbol zastępczy zawartości 4"/>
          <p:cNvSpPr/>
          <p:nvPr/>
        </p:nvSpPr>
        <p:spPr>
          <a:xfrm>
            <a:off x="214200" y="1600200"/>
            <a:ext cx="59295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0000"/>
                </a:solidFill>
                <a:latin typeface="Tw Cen MT"/>
              </a:rPr>
              <a:t>Związki między składowymi wektora przemieszczenia a składowymi tensora stanu odkształce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75" name="Object 10"/>
          <p:cNvGraphicFramePr/>
          <p:nvPr/>
        </p:nvGraphicFramePr>
        <p:xfrm>
          <a:off x="6429240" y="1857240"/>
          <a:ext cx="2178360" cy="45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240" y="1857240"/>
                    <a:ext cx="217836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14:40Z</dcterms:created>
  <dc:creator/>
  <dc:description/>
  <dc:language>en-US</dc:language>
  <cp:lastModifiedBy/>
  <dcterms:modified xsi:type="dcterms:W3CDTF">2011-10-05T15:23:5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5</vt:lpwstr>
  </property>
  <property fmtid="{D5CDD505-2E9C-101B-9397-08002B2CF9AE}" pid="3" name="_TemplateID">
    <vt:lpwstr>TC101671251045</vt:lpwstr>
  </property>
</Properties>
</file>