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18.wmf" ContentType="image/x-wmf"/>
  <Override PartName="/ppt/media/image1.png" ContentType="image/png"/>
  <Override PartName="/ppt/media/image15.wmf" ContentType="image/x-wmf"/>
  <Override PartName="/ppt/media/image14.png" ContentType="image/png"/>
  <Override PartName="/ppt/media/image13.wmf" ContentType="image/x-wmf"/>
  <Override PartName="/ppt/media/image2.png" ContentType="image/png"/>
  <Override PartName="/ppt/media/image4.png" ContentType="image/png"/>
  <Override PartName="/ppt/media/image6.png" ContentType="image/png"/>
  <Override PartName="/ppt/media/image10.png" ContentType="image/png"/>
  <Override PartName="/ppt/media/image5.wmf" ContentType="image/x-wmf"/>
  <Override PartName="/ppt/media/image16.wmf" ContentType="image/x-wmf"/>
  <Override PartName="/ppt/media/image8.png" ContentType="image/png"/>
  <Override PartName="/ppt/media/image9.png" ContentType="image/png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dt" idx="34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4000" cy="375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ftr" idx="35"/>
          </p:nvPr>
        </p:nvSpPr>
        <p:spPr>
          <a:xfrm>
            <a:off x="-36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 type="sldNum" idx="36"/>
          </p:nvPr>
        </p:nvSpPr>
        <p:spPr>
          <a:xfrm>
            <a:off x="388440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DEDA-14A4-4478-9B45-25F0D79DA8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DE21-EAB7-43BC-8C5F-36962549FD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12D4-7666-4163-A161-48F931648C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9899-248D-439A-84EA-E22D22467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8583-D60C-4D31-976C-3CEE9BFF0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C864-A016-4870-AE5F-91BA3B645A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FDD4-14B1-4B34-B6E8-29BB249771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5275-5B60-4BB6-8010-CAFC24311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3E91-0FAF-4406-9293-82AE6B1D8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5257-9B19-46E5-9DDD-06DFE12DA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110E-72FB-4617-899C-247E53F9B9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346F-15D0-4748-B6A5-CD6F76FD0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691D-0F35-4984-9A60-869024FD2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D4BB-6193-41DE-A092-11FAA5C78E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0B24-5230-4471-8374-EBE20D217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FEF9-F431-4B38-B4D0-694CABEE19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7152-4E9A-47C1-A9F4-8AF990B8DE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FF9B-85FF-42D6-BAB2-6D02799A24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76E7-0946-4EBD-818B-287B692BB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5E22-51BD-43CA-91E2-1FE7909B7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52DD-47C5-425C-9F25-C10E060276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3415-6C5B-4CEC-AFA6-AA5712032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F775-812D-436E-A728-BC6997D56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327A-2D7B-44B3-BC57-D98F3B3FD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760C-B415-4E00-81E8-20C773C21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21DE-D5ED-4B54-A405-AACE414DD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EAD4-B670-46CB-B94D-FF3FB1E42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CEBC-B947-42F5-ABD2-0414EE01F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FC3C-DC6A-43D1-B684-DC732B24A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F823-9D77-426C-9F64-698DBB76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889-3CB2-49DF-B7B8-5B93FFC8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871B4-5BFC-4CBD-AAC2-D04F54C4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50396-3CC8-4921-BAC6-8B4828D8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F19AD-654D-4AA4-B3E6-8C8BFCDB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457C8-7CAB-49B2-B0C7-52D39AEE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763A0-4EE2-47EA-9D19-06198DB6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57F43-1970-4D15-BE90-20D9041C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BA55C-AF4F-4904-BEB4-734A98CF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2E93A-AEEF-492B-BC88-2BAD8BA3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2E233-9D65-44C7-B020-FAE9E04D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265033-0A3F-48CA-A1EE-5130E5BF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8DA5-1EE5-4D88-AECD-1BF47204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4453E8-0AC4-4CB1-B1CA-E64A9204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5530C2-C6B3-4C68-8950-BC778D5B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A828DB-937A-41EC-B780-88AEA0F0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13303D-F5E6-4484-8CAE-BC9582E9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9F1C02-E351-4EF4-BB2B-DE313308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3E7944-3B92-4B83-9CAD-E83A3F80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B333D1-95E3-46A5-A98F-63E16336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E293A3-3AEB-4245-8833-7CF3AA3C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6699CE-F832-408F-A8CC-CB8B42DE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43C9F1-3022-40FE-903B-86E3F148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A812-D51C-48E7-986C-1DCE5BE1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3DF1AE-62D3-4C49-8CC5-0F14B7C9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0A979-29BE-43BC-A424-038EBA3B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D48FB-C89F-446C-9B50-1D7A4821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989C2-E64C-4F85-AB78-627701F7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7D64B-8265-41DC-B136-509E2788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92955-C209-4028-8240-4B7263D2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4E81F-210F-4D23-9EAB-DE3A64E5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CF0C5-B714-4FE8-B745-3D65FDE4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F1995-3897-49D8-8DE4-65EC8617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35EF0-C6A9-4DE5-86D9-3A8F646D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1F14-1324-4F1C-8BC5-37C7F169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6B05A-60AB-42E2-86C4-03F02E8A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002F7-9A6D-4B1D-B138-4DE178C1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37772-CB2C-4836-B768-134EB397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B9B2-ACA8-4524-BB1A-E9E5E6F2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707F-B46E-446B-BECF-9EBAD470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988D-47B3-4598-939B-B5396D14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7F7E-A969-4849-B081-91F25AEC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0E2F-F0F7-4DAE-B3FF-BF5323E4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49C8-3AFF-46B4-AED3-BB3DC780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3906-5FAA-4173-B11C-399BAAA6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320E-8FC9-49B1-8B1D-47A1C245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C43F-E3E4-4C92-8CE5-4B131C3B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9A21-0F22-414F-8C85-2072729D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6491-52AE-4EA0-9FBA-32E468FD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6369-27B5-4D00-BC2B-FA641815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BBC85-77D5-4969-AFDB-565398DB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342C7-A32B-40B1-AE19-40FDF692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DFA83-D606-49CD-9119-D27E005B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E5F57-3697-4CE6-9C1D-F8AD4130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2A607-0046-4202-BA05-E1D38A3D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77B8-7118-4848-9F00-D6F28502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96BE5-FC92-484F-809D-45B2D741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5A059-AAC5-4436-A72D-A23716C8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E7B8C-8DA0-44D4-9C9B-3E7F065E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73EEE-8BFA-4DF9-A911-EB4F748D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DD5E8-FBD8-463A-9FFF-522498BD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835F6-A742-45B0-8553-0A8587CA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BE720-A641-415E-B177-785C4CB3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74611A-632F-47A0-BA17-EB542DA4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5C0ABB-AF63-440D-B117-5D3A31DF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285EA6-D5BF-40CE-824A-0564576E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9199-F9CC-479C-ADA7-E76ADB34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F75FDF-CE83-4E49-A64A-A13E064C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135276-1576-4643-AFE3-FFFA5A56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F9F26E-4DAE-4093-8681-35D70E20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8568F9-94C8-446A-9535-49BB6770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5F7F54-25D0-43B0-B883-AB26FC27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028A26-2AF0-4A51-B061-E60A6CDB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37A874-BD9E-4DA4-8137-149AD8DE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E28F19-79F9-4F66-843F-5A0CA8DA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947CD4-C082-4923-873C-F1884093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80C284-A126-4D00-8BB2-B2468FC9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2CBE-5017-4EA1-A69D-1CCA461C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DEC28D-4337-4959-8D1F-056A8299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BC4BE4-35EF-44F3-8294-4B5F73AA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E96A6C-D91D-4698-A23E-266389B0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6E8B5B-F7E0-4A5D-B54F-997E5570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848370-BD4D-425D-A528-A0AA015F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39BA07-6B3C-4A27-83EF-CC10E44A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848016-AA10-4B36-B53E-FA811DDB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9F1416-740B-423B-AE2E-B24EA6A2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BA1559-1672-45C3-98AB-9778E99A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355855-6679-4EAD-8272-46D1CD39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08C0-0DAE-429B-B6D7-636A2CDD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74B609-7F25-4803-89FA-F8FD005A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0AB23D-12F9-4B5B-A130-79B0F9DE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A70E10-03F6-432D-88F9-281D672B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52F43B-8216-4871-BB81-2430F138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AC6491-B206-43CC-9A1D-A1CF66A5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A1451A-ACDA-46AF-93C6-DEBCB6D3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178722-58CE-41CA-A453-881E471E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CA48B3-B24E-4367-8F1C-68F4AD19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D3A3FF-11E9-436A-BCD2-C10ECCD0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AF7809-86B7-43FE-B820-107C592E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E5D2-9EE5-4D47-8ADE-30619A79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B58FCF-D30B-498A-8188-FA316A41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C4D4B6-EAAC-4686-BA22-F8EBDF3E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6A0F9A-5F8B-4703-B6BE-C7F0F9D83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E10F8-8589-4F91-A12A-A52E97FF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033C4-C83D-41BF-A711-80B05131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A64BF-6DB2-46F1-8353-F8514CF6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34336-A794-4089-BEA6-3BD6A489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F8DFC-037D-4942-B6C0-D8CDBC57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02F9A-EFD2-4B6D-BE79-7AFA3853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C859E-4366-448C-9660-9779D34F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D013-8740-4FD3-A5F3-BFA776FF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201DE-CE29-4644-9125-A3B4AB66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415E5-E6A4-48F8-B248-4A84A29F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0E279-2025-4104-AE56-71C75959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303AF-6587-4B08-8506-B6E3416F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3F462-F322-409C-A42B-829FC60E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89464-A7D8-4BB3-880D-65704D21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52EC0-1585-4981-AD52-3E9FF975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7F560-1631-4857-A820-CEC6C7FF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BC345-F376-40FD-92D3-53E3CF78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C99DE-DE4A-45F7-9DDE-CFA4FEA4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5ADB-03FD-44EA-AEB8-48A02FAE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9A754-B6B6-43AC-B6C7-BCC778EE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9C9DE-60FD-4AC8-B6C7-FA436730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78012-27E8-48BB-9F33-BFC79476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612D7-4C55-423B-83BB-FA69047D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4CC81-CA68-46AB-BCE4-E9E952B6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B50EC-3C3A-406A-944C-81084577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5A7F8-764C-4666-8BEB-89879F6B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DF125-A9B3-4678-857C-2F475930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B2AA6-BD80-44BC-9567-721BCCF3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0F358-E9AA-4EFB-B1E1-BA9B0EBA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D428-9B4A-4731-B66F-E15DB89C9703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BE34B76A-7314-4F3B-940B-D5FB6C1C23F0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99FE-E2CC-403C-ABF8-2EBDBDD74FA3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A51B-C64B-4E9D-981F-C060C5CC1639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EC0576D6-635E-4C97-B363-14BFD7DE8F02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F89C-2799-465A-BFD5-3BD73DE46BFD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7CE4-6951-4041-9228-7D9AB36C6CAA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D7537334-6C46-48BE-89F1-4F3B257C8BE3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47DC-AAF3-4FFE-B8FF-F259523BAEB7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3D79-2652-429B-8162-7317AD790971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538ECDDC-0164-4BF6-AB87-69BF64821637}" type="datetime10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8:56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A563-9D8D-41AC-8364-B2BDABD9ECBD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AAA7-BB91-46BB-B40F-A099779FECC2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6D58E8CC-977F-4317-98C9-D14FDE940BA6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17FB-3BEF-4D7B-ADB5-A75219D9464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0F49-BBCD-4048-97CC-E97F276743D5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7B2813D1-3E47-4BA6-91D5-D89E0C5B1170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4A12-5F96-421D-96BF-C49F7FE00142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EFCB-2FCE-45F7-A6F2-FE2624ABC122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7CB985B0-56D2-40DA-929C-27A91B05B1B4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06BB-547F-4EB3-A87B-F4A60BE7EA9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09FB-706F-4CA5-A7E5-71EF548C9E02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C5F1E343-153E-4022-AEC9-AA252AD15BEB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C364-F82A-4170-B678-340BBC25832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6BC0-9A3D-433B-B931-530E664CC748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9E472CE1-3CE5-4383-9071-C04A3407F1F0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A8EA-CE07-4634-AC73-B792ADB534A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C92A-D4A8-4344-8B46-663A618AA598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24AB2117-7830-4CFE-96A2-3D4A3F696D44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5CDF-5F00-4C77-B1F2-A4AF143B47BD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9C04-9507-4E9C-84E5-FB653FB3836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1F62545F-BBDE-400A-BAB1-A35319A47BCC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3812-A581-4B52-93AE-0E392AF9F64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amborski.pollub.pl/" TargetMode="External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eece1"/>
                </a:solidFill>
                <a:latin typeface="Tw Cen MT"/>
              </a:rPr>
              <a:t>WYTRZYMAŁOŚĆ MATERIAŁÓW - CZ. 1</a:t>
            </a:r>
            <a:br>
              <a:rPr sz="3200"/>
            </a:br>
            <a:r>
              <a:rPr b="0" lang="pl-PL" sz="2400" spc="-1" strike="noStrike">
                <a:solidFill>
                  <a:srgbClr val="eeece1"/>
                </a:solidFill>
                <a:latin typeface="Tw Cen MT"/>
              </a:rPr>
              <a:t>WYKŁADY DLA STUDENTÓW</a:t>
            </a:r>
            <a:br>
              <a:rPr sz="2400"/>
            </a:br>
            <a:r>
              <a:rPr b="0" lang="pl-PL" sz="2400" spc="-1" strike="noStrike">
                <a:solidFill>
                  <a:srgbClr val="eeece1"/>
                </a:solidFill>
                <a:latin typeface="Tw Cen MT"/>
              </a:rPr>
              <a:t>STUDIÓW DZIENNYCH, MIBM</a:t>
            </a:r>
            <a:endParaRPr b="0" lang="en-US" sz="2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w Cen MT"/>
              </a:rPr>
              <a:t>Opracował: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w Cen MT"/>
              </a:rPr>
              <a:t>Dr inż. Sylwester Samborski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Wprowadze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192384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Podstawowe pojęcia, założenia i uproszczeni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Uproszczenia dotyczą właściwości materiału i opisu kształtu ciała, a także sposobu działania obciążenia; mają one na celu uzyskanie tzw. </a:t>
            </a: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schematu obliczeniowego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,  w którym zachowane zostaną tylko najważniejsze cechy obiektu rzeczywiste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5" name="Diagram 6" descr=""/>
          <p:cNvPicPr/>
          <p:nvPr/>
        </p:nvPicPr>
        <p:blipFill>
          <a:blip r:embed="rId1"/>
          <a:stretch/>
        </p:blipFill>
        <p:spPr>
          <a:xfrm>
            <a:off x="633240" y="4919760"/>
            <a:ext cx="804096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Wprowadze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192384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Podstawowe pojęcia, założenia i uproszczeni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W wielu statycznych zagadnieniach wytrzymałości materiałów przyjmuje się, że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siły zewnętrzne narastają od zera do maksimum w sposób ciągły i powolny,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poszczególne oddziaływania są wzajemnie niezależne (umożliwia to stosowanie zasady superpozycji),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w zakresie małych odkształceń elementy są liniowo sprężyste,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obowiązuje zasada zesztywnienia, tzn. nie uwzględnia się przemieszczeń punktów przyłożenia sił,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Wprowadze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192384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Podstawowe pojęcia, założenia i uproszczeni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856880" y="1752120"/>
            <a:ext cx="7286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odkształcenia zanikają po usunięciu obciążenia (doskonała sprężystość),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poprzeczne przekroje prętów (początkowo płaskie) pozostają płaskie po obciążeniu (</a:t>
            </a:r>
            <a:r>
              <a:rPr b="0" lang="pl-PL" sz="2600" spc="-1" strike="noStrike">
                <a:solidFill>
                  <a:srgbClr val="ff0000"/>
                </a:solidFill>
                <a:latin typeface="Tw Cen MT"/>
              </a:rPr>
              <a:t>hipoteza Bernoulliego</a:t>
            </a: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),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sposób przyłożenia obciążenia ma wpływ na rozkład naprężeń tylko w niewielkim obszarze(zob. </a:t>
            </a:r>
            <a:r>
              <a:rPr b="0" lang="pl-PL" sz="2600" spc="-1" strike="noStrike">
                <a:solidFill>
                  <a:srgbClr val="ff0000"/>
                </a:solidFill>
                <a:latin typeface="Tw Cen MT"/>
              </a:rPr>
              <a:t>zasada Barré de Saint-Venanta</a:t>
            </a: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Wprowadze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192384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 fontScale="91000"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Tw Cen MT"/>
              </a:rPr>
              <a:t>Modele obiektów rzeczywistych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Tw Cen MT"/>
              </a:rPr>
              <a:t>Elementy konstrukcyjne dzieli się ze względu na kształt, sposób pracy itp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Tw Cen MT"/>
              </a:rPr>
              <a:t>Elementy o stałych przekrojach noszą nazwę elementów </a:t>
            </a:r>
            <a:r>
              <a:rPr b="0" lang="pl-PL" sz="1700" spc="-1" strike="noStrike">
                <a:solidFill>
                  <a:srgbClr val="ffff00"/>
                </a:solidFill>
                <a:latin typeface="Tw Cen MT"/>
              </a:rPr>
              <a:t>pryzmatycznych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Tw Cen MT"/>
              </a:rPr>
              <a:t>Elementy różnego rodzaju mogą być łączone w zespoły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44" name="Symbol zastępczy zawartości 5" descr=""/>
          <p:cNvPicPr/>
          <p:nvPr/>
        </p:nvPicPr>
        <p:blipFill>
          <a:blip r:embed="rId1"/>
          <a:stretch/>
        </p:blipFill>
        <p:spPr>
          <a:xfrm>
            <a:off x="2279520" y="2206800"/>
            <a:ext cx="6559560" cy="34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Wprowadze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192384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 fontScale="93000"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Tw Cen MT"/>
              </a:rPr>
              <a:t>Modele obiektów rzeczywistych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Tw Cen MT"/>
              </a:rPr>
              <a:t>Elementy konstrukcyjne dzieli się ze względu na kształt, sposób pracy itp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Tw Cen MT"/>
              </a:rPr>
              <a:t>Elementy o stałych przekrojach noszą nazwę pryzmatycznych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Tw Cen MT"/>
              </a:rPr>
              <a:t>Elementy różnego rodzaju mogą być łączone w zespoły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47" name="Symbol zastępczy zawartości 5" descr=""/>
          <p:cNvPicPr/>
          <p:nvPr/>
        </p:nvPicPr>
        <p:blipFill>
          <a:blip r:embed="rId1"/>
          <a:stretch/>
        </p:blipFill>
        <p:spPr>
          <a:xfrm>
            <a:off x="2316240" y="1743120"/>
            <a:ext cx="6595920" cy="44384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5" descr=""/>
          <p:cNvPicPr/>
          <p:nvPr/>
        </p:nvPicPr>
        <p:blipFill>
          <a:blip r:embed="rId2"/>
          <a:stretch/>
        </p:blipFill>
        <p:spPr>
          <a:xfrm>
            <a:off x="2357280" y="5214960"/>
            <a:ext cx="50724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Wprowadze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192384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 fontScale="93000"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Tw Cen MT"/>
              </a:rPr>
              <a:t>Modele obiektów rzeczywistych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Tw Cen MT"/>
              </a:rPr>
              <a:t>Elementy konstrukcyjne dzieli się ze względu na kształt, sposób pracy itp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Tw Cen MT"/>
              </a:rPr>
              <a:t>Elementy o stałych przekrojach noszą nazwę pryzmatycznych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Tw Cen MT"/>
              </a:rPr>
              <a:t>Elementy różnego rodzaju mogą być łączone w zespoły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51" name="Symbol zastępczy zawartości 5" descr=""/>
          <p:cNvPicPr/>
          <p:nvPr/>
        </p:nvPicPr>
        <p:blipFill>
          <a:blip r:embed="rId1"/>
          <a:stretch/>
        </p:blipFill>
        <p:spPr>
          <a:xfrm>
            <a:off x="2352600" y="1743120"/>
            <a:ext cx="6462720" cy="27003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" descr=""/>
          <p:cNvPicPr/>
          <p:nvPr/>
        </p:nvPicPr>
        <p:blipFill>
          <a:blip r:embed="rId2"/>
          <a:stretch/>
        </p:blipFill>
        <p:spPr>
          <a:xfrm rot="19634400">
            <a:off x="3736800" y="4052520"/>
            <a:ext cx="34372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Wprowadze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192384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 fontScale="93000"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Tw Cen MT"/>
              </a:rPr>
              <a:t>Modele obiektów rzeczywistych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Tw Cen MT"/>
              </a:rPr>
              <a:t>Elementy konstrukcyjne dzieli się ze względu na kształt, sposób pracy itp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Tw Cen MT"/>
              </a:rPr>
              <a:t>Elementy o stałych przekrojach noszą nazwę pryzmatycznych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Tw Cen MT"/>
              </a:rPr>
              <a:t>Elementy różnego rodzaju mogą być łączone w zespoły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55" name="Symbol zastępczy zawartości 5" descr=""/>
          <p:cNvPicPr/>
          <p:nvPr/>
        </p:nvPicPr>
        <p:blipFill>
          <a:blip r:embed="rId1"/>
          <a:stretch/>
        </p:blipFill>
        <p:spPr>
          <a:xfrm>
            <a:off x="2341440" y="1743120"/>
            <a:ext cx="6570720" cy="1920960"/>
          </a:xfrm>
          <a:prstGeom prst="rect">
            <a:avLst/>
          </a:prstGeom>
          <a:ln w="0">
            <a:noFill/>
          </a:ln>
        </p:spPr>
      </p:pic>
      <p:sp>
        <p:nvSpPr>
          <p:cNvPr id="556" name="Puszka 4"/>
          <p:cNvSpPr/>
          <p:nvPr/>
        </p:nvSpPr>
        <p:spPr>
          <a:xfrm rot="2758800">
            <a:off x="4025520" y="4083120"/>
            <a:ext cx="1903320" cy="2071800"/>
          </a:xfrm>
          <a:prstGeom prst="can">
            <a:avLst>
              <a:gd name="adj" fmla="val 22962"/>
            </a:avLst>
          </a:prstGeom>
          <a:solidFill>
            <a:srgbClr val="f2f2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Wprowadze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192384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Rodzaje sił działających na  elementy konstrukcyjn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59" name="Diagram 4" descr=""/>
          <p:cNvPicPr/>
          <p:nvPr/>
        </p:nvPicPr>
        <p:blipFill>
          <a:blip r:embed="rId1"/>
          <a:stretch/>
        </p:blipFill>
        <p:spPr>
          <a:xfrm>
            <a:off x="2219400" y="1731960"/>
            <a:ext cx="642456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Wprowadze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192384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Siły zewnętrzne to siły skupione, momenty oraz obciążenie ciągłe o stałym lub zmiennym natężeniu.  Obok </a:t>
            </a:r>
            <a:r>
              <a:rPr b="0" lang="pl-PL" sz="1800" spc="-1" strike="noStrike">
                <a:solidFill>
                  <a:srgbClr val="ffff00"/>
                </a:solidFill>
                <a:latin typeface="Tw Cen MT"/>
              </a:rPr>
              <a:t>sił czynnych </a:t>
            </a: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występują </a:t>
            </a:r>
            <a:r>
              <a:rPr b="0" lang="pl-PL" sz="1800" spc="-1" strike="noStrike">
                <a:solidFill>
                  <a:srgbClr val="ffff00"/>
                </a:solidFill>
                <a:latin typeface="Tw Cen MT"/>
              </a:rPr>
              <a:t>siły bierne</a:t>
            </a: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, czyli </a:t>
            </a:r>
            <a:r>
              <a:rPr b="0" lang="pl-PL" sz="1800" spc="-1" strike="noStrike">
                <a:solidFill>
                  <a:srgbClr val="ff0000"/>
                </a:solidFill>
                <a:latin typeface="Tw Cen MT"/>
              </a:rPr>
              <a:t>reakcje więzów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62" name="Diagram 4" descr=""/>
          <p:cNvPicPr/>
          <p:nvPr/>
        </p:nvPicPr>
        <p:blipFill>
          <a:blip r:embed="rId1"/>
          <a:stretch/>
        </p:blipFill>
        <p:spPr>
          <a:xfrm>
            <a:off x="2567160" y="1633680"/>
            <a:ext cx="6107040" cy="2243160"/>
          </a:xfrm>
          <a:prstGeom prst="rect">
            <a:avLst/>
          </a:prstGeom>
          <a:ln w="0">
            <a:noFill/>
          </a:ln>
        </p:spPr>
      </p:pic>
      <p:pic>
        <p:nvPicPr>
          <p:cNvPr id="563" name="Obraz 6" descr=""/>
          <p:cNvPicPr/>
          <p:nvPr/>
        </p:nvPicPr>
        <p:blipFill>
          <a:blip r:embed="rId2"/>
          <a:srcRect l="0" t="0" r="42576" b="39925"/>
          <a:stretch/>
        </p:blipFill>
        <p:spPr>
          <a:xfrm>
            <a:off x="2928960" y="4000680"/>
            <a:ext cx="5572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Wprowadze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192384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Siły wewnętrzne (tzw. wysiłek przekroju) dzielą się na siły </a:t>
            </a:r>
            <a:r>
              <a:rPr b="0" lang="pl-PL" sz="1800" spc="-1" strike="noStrike">
                <a:solidFill>
                  <a:srgbClr val="ffff00"/>
                </a:solidFill>
                <a:latin typeface="Tw Cen MT"/>
              </a:rPr>
              <a:t>normalne</a:t>
            </a: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, poprzeczne (</a:t>
            </a:r>
            <a:r>
              <a:rPr b="0" lang="pl-PL" sz="1800" spc="-1" strike="noStrike">
                <a:solidFill>
                  <a:srgbClr val="ffff00"/>
                </a:solidFill>
                <a:latin typeface="Tw Cen MT"/>
              </a:rPr>
              <a:t>tnące</a:t>
            </a: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) oraz </a:t>
            </a:r>
            <a:r>
              <a:rPr b="0" lang="pl-PL" sz="1800" spc="-1" strike="noStrike">
                <a:solidFill>
                  <a:srgbClr val="ffff00"/>
                </a:solidFill>
                <a:latin typeface="Tw Cen MT"/>
              </a:rPr>
              <a:t>momenty</a:t>
            </a: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: skręcające lub gnąc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66" name="Diagram 4" descr=""/>
          <p:cNvPicPr/>
          <p:nvPr/>
        </p:nvPicPr>
        <p:blipFill>
          <a:blip r:embed="rId1"/>
          <a:stretch/>
        </p:blipFill>
        <p:spPr>
          <a:xfrm>
            <a:off x="2852640" y="1700280"/>
            <a:ext cx="6108840" cy="40971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9" descr=""/>
          <p:cNvPicPr/>
          <p:nvPr/>
        </p:nvPicPr>
        <p:blipFill>
          <a:blip r:embed="rId2"/>
          <a:stretch/>
        </p:blipFill>
        <p:spPr>
          <a:xfrm>
            <a:off x="3571920" y="3616200"/>
            <a:ext cx="26114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Wprowadze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192384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Pierwszy wykład zawiera ogólną charakterystykę przedmiotu i definicje podstawowych pojęć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Informacje organizacyjn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Piśmiennictwo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Przedmiot i zadania wytrzymałości materiałów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Podstawowe pojęcia, założenia i uproszczenia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Modele obiektów rzeczywistych w wytrzymałości materiałów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Rodzaje sił i proste stany obciążenia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Zasada de Saint-Venanta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Zasada superpozycji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Wprowadze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192384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Definicje sił wewnętrznyc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Siłą 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(wewnętrzną)</a:t>
            </a: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 normalną (N) 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w danym przekroju elementu (pręta) nazywa się sumę rzutów wszystkich sił działających po jednej stronie przekroju na kierunek normalny do tego przekroj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Siłą tnącą (poprzeczną) (T) 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w danym przekroju elementu (belki) nazywa się sumę rzutów wszystkich sił działających po jednej stronie przekroju na kierunek styczny do tego przekroj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Wprowadze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192384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Definicje sił wewnętrznyc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0000"/>
                </a:solidFill>
                <a:latin typeface="Tw Cen MT"/>
              </a:rPr>
              <a:t>Momentem gnącym 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w danym przekroju poprzecznym elementu (belki) nazywa się składową styczną wektora momentu wszystkich sił działających po jednej stronie tego przekroju, względem jego środka ciężkości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0000"/>
                </a:solidFill>
                <a:latin typeface="Tw Cen MT"/>
              </a:rPr>
              <a:t>Momentem skręcającym 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w danym przekroju poprzecznym elementu (wału) nazywa się składową normalną wektora momentu wszystkich sił działających po jednej stronie tego przekroju, względem jego środka ciężkości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Wprowadze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192384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Umowa dotycząca znaków sił wewnętrznyc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Moment gnący jest dodatni, gdy belka wygina się do doł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Siła tnąca jest dodatnia, gdy stara się obrócić część belki odciętą przekrojem w prawo (CW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77" name="Grupa 32"/>
          <p:cNvGrpSpPr/>
          <p:nvPr/>
        </p:nvGrpSpPr>
        <p:grpSpPr>
          <a:xfrm>
            <a:off x="4286160" y="5357880"/>
            <a:ext cx="2664000" cy="1071360"/>
            <a:chOff x="4286160" y="5357880"/>
            <a:chExt cx="2664000" cy="1071360"/>
          </a:xfrm>
        </p:grpSpPr>
        <p:sp>
          <p:nvSpPr>
            <p:cNvPr id="578" name="Strzałka w górę 18"/>
            <p:cNvSpPr/>
            <p:nvPr/>
          </p:nvSpPr>
          <p:spPr>
            <a:xfrm>
              <a:off x="4786200" y="5357880"/>
              <a:ext cx="285480" cy="1071360"/>
            </a:xfrm>
            <a:prstGeom prst="upArrow">
              <a:avLst>
                <a:gd name="adj1" fmla="val 50000"/>
                <a:gd name="adj2" fmla="val 50038"/>
              </a:avLst>
            </a:prstGeom>
            <a:solidFill>
              <a:srgbClr val="f79646"/>
            </a:solidFill>
            <a:ln w="19080">
              <a:solidFill>
                <a:srgbClr val="b66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9" name="Strzałka w górę 19"/>
            <p:cNvSpPr/>
            <p:nvPr/>
          </p:nvSpPr>
          <p:spPr>
            <a:xfrm flipV="1">
              <a:off x="6143760" y="5357880"/>
              <a:ext cx="285480" cy="1071360"/>
            </a:xfrm>
            <a:prstGeom prst="upArrow">
              <a:avLst>
                <a:gd name="adj1" fmla="val 50000"/>
                <a:gd name="adj2" fmla="val 50038"/>
              </a:avLst>
            </a:prstGeom>
            <a:solidFill>
              <a:srgbClr val="f79646"/>
            </a:solidFill>
            <a:ln w="19080">
              <a:solidFill>
                <a:srgbClr val="b66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0" name="Łącznik prosty 21"/>
            <p:cNvSpPr/>
            <p:nvPr/>
          </p:nvSpPr>
          <p:spPr>
            <a:xfrm>
              <a:off x="5214960" y="5857920"/>
              <a:ext cx="785880" cy="1440"/>
            </a:xfrm>
            <a:prstGeom prst="line">
              <a:avLst/>
            </a:prstGeom>
            <a:ln w="10080">
              <a:solidFill>
                <a:srgbClr val="f79646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1" name="Text Box 2"/>
            <p:cNvSpPr/>
            <p:nvPr/>
          </p:nvSpPr>
          <p:spPr>
            <a:xfrm>
              <a:off x="4286160" y="5643360"/>
              <a:ext cx="66348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2" name="Text Box 2"/>
            <p:cNvSpPr/>
            <p:nvPr/>
          </p:nvSpPr>
          <p:spPr>
            <a:xfrm>
              <a:off x="6286680" y="5643360"/>
              <a:ext cx="66348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3" name="Plus 25"/>
            <p:cNvSpPr/>
            <p:nvPr/>
          </p:nvSpPr>
          <p:spPr>
            <a:xfrm>
              <a:off x="5357880" y="5613480"/>
              <a:ext cx="500040" cy="500040"/>
            </a:xfrm>
            <a:custGeom>
              <a:avLst/>
              <a:gdLst>
                <a:gd name="textAreaLeft" fmla="*/ 66240 w 500040"/>
                <a:gd name="textAreaRight" fmla="*/ 433800 w 500040"/>
                <a:gd name="textAreaTop" fmla="*/ 191160 h 500040"/>
                <a:gd name="textAreaBottom" fmla="*/ 308880 h 500040"/>
              </a:gdLst>
              <a:ahLst/>
              <a:rect l="textAreaLeft" t="textAreaTop" r="textAreaRight" b="textAreaBottom"/>
              <a:pathLst>
                <a:path w="500066" h="500066">
                  <a:moveTo>
                    <a:pt x="66284" y="191225"/>
                  </a:moveTo>
                  <a:lnTo>
                    <a:pt x="191225" y="191225"/>
                  </a:lnTo>
                  <a:lnTo>
                    <a:pt x="191225" y="66284"/>
                  </a:lnTo>
                  <a:lnTo>
                    <a:pt x="308841" y="66284"/>
                  </a:lnTo>
                  <a:lnTo>
                    <a:pt x="308841" y="191225"/>
                  </a:lnTo>
                  <a:lnTo>
                    <a:pt x="433782" y="191225"/>
                  </a:lnTo>
                  <a:lnTo>
                    <a:pt x="433782" y="308841"/>
                  </a:lnTo>
                  <a:lnTo>
                    <a:pt x="308841" y="308841"/>
                  </a:lnTo>
                  <a:lnTo>
                    <a:pt x="308841" y="433782"/>
                  </a:lnTo>
                  <a:lnTo>
                    <a:pt x="191225" y="433782"/>
                  </a:lnTo>
                  <a:lnTo>
                    <a:pt x="191225" y="308841"/>
                  </a:lnTo>
                  <a:lnTo>
                    <a:pt x="66284" y="308841"/>
                  </a:lnTo>
                  <a:close/>
                </a:path>
              </a:pathLst>
            </a:custGeom>
            <a:solidFill>
              <a:srgbClr val="f79646"/>
            </a:solidFill>
            <a:ln w="1908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4" name="Prostokąt 26"/>
            <p:cNvSpPr/>
            <p:nvPr/>
          </p:nvSpPr>
          <p:spPr>
            <a:xfrm>
              <a:off x="5286240" y="5357880"/>
              <a:ext cx="642960" cy="1071360"/>
            </a:xfrm>
            <a:prstGeom prst="rect">
              <a:avLst/>
            </a:prstGeom>
            <a:noFill/>
            <a:ln w="1908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585" name="Grupa 28"/>
          <p:cNvGrpSpPr/>
          <p:nvPr/>
        </p:nvGrpSpPr>
        <p:grpSpPr>
          <a:xfrm>
            <a:off x="3571920" y="1714680"/>
            <a:ext cx="4092480" cy="2000160"/>
            <a:chOff x="3571920" y="1714680"/>
            <a:chExt cx="4092480" cy="2000160"/>
          </a:xfrm>
        </p:grpSpPr>
        <p:grpSp>
          <p:nvGrpSpPr>
            <p:cNvPr id="586" name="Grupa 16"/>
            <p:cNvGrpSpPr/>
            <p:nvPr/>
          </p:nvGrpSpPr>
          <p:grpSpPr>
            <a:xfrm>
              <a:off x="3571920" y="1714680"/>
              <a:ext cx="4092480" cy="2000160"/>
              <a:chOff x="3571920" y="1714680"/>
              <a:chExt cx="4092480" cy="2000160"/>
            </a:xfrm>
          </p:grpSpPr>
          <p:grpSp>
            <p:nvGrpSpPr>
              <p:cNvPr id="587" name="Grupa 14"/>
              <p:cNvGrpSpPr/>
              <p:nvPr/>
            </p:nvGrpSpPr>
            <p:grpSpPr>
              <a:xfrm>
                <a:off x="4357440" y="1714680"/>
                <a:ext cx="2428920" cy="2000160"/>
                <a:chOff x="4357440" y="1714680"/>
                <a:chExt cx="2428920" cy="2000160"/>
              </a:xfrm>
            </p:grpSpPr>
            <p:sp>
              <p:nvSpPr>
                <p:cNvPr id="588" name="Łuk blokowy 4"/>
                <p:cNvSpPr/>
                <p:nvPr/>
              </p:nvSpPr>
              <p:spPr>
                <a:xfrm flipV="1">
                  <a:off x="4714560" y="1714680"/>
                  <a:ext cx="1785960" cy="2000160"/>
                </a:xfrm>
                <a:custGeom>
                  <a:avLst/>
                  <a:gdLst>
                    <a:gd name="textAreaLeft" fmla="*/ 228240 w 1785960"/>
                    <a:gd name="textAreaRight" fmla="*/ 1566720 w 1785960"/>
                    <a:gd name="textAreaTop" fmla="*/ 360 h 2000160"/>
                    <a:gd name="textAreaBottom" fmla="*/ 630000 h 2000160"/>
                  </a:gdLst>
                  <a:ahLst/>
                  <a:rect l="textAreaLeft" t="textAreaTop" r="textAreaRight" b="textAreaBottom"/>
                  <a:pathLst>
                    <a:path w="1785950" h="2000264">
                      <a:moveTo>
                        <a:pt x="228287" y="332257"/>
                      </a:moveTo>
                      <a:lnTo>
                        <a:pt x="228287" y="332257"/>
                      </a:lnTo>
                      <a:arcTo wR="892975" hR="1000132" stAng="-8091778" swAng="5435437"/>
                      <a:lnTo>
                        <a:pt x="1272760" y="629872"/>
                      </a:lnTo>
                      <a:lnTo>
                        <a:pt x="1272760" y="629872"/>
                      </a:lnTo>
                      <a:arcTo wR="486082" hR="593239" stAng="-2656346" swAng="-5435434"/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589" name="Strzałka zakrzywiona w lewo 10"/>
                <p:cNvSpPr/>
                <p:nvPr/>
              </p:nvSpPr>
              <p:spPr>
                <a:xfrm flipV="1">
                  <a:off x="6429240" y="3000600"/>
                  <a:ext cx="357120" cy="642960"/>
                </a:xfrm>
                <a:custGeom>
                  <a:avLst/>
                  <a:gdLst>
                    <a:gd name="textAreaLeft" fmla="*/ 47880 w 357120"/>
                    <a:gd name="textAreaRight" fmla="*/ 309240 w 357120"/>
                    <a:gd name="textAreaTop" fmla="*/ 127080 h 642960"/>
                    <a:gd name="textAreaBottom" fmla="*/ 471240 h 64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8550" stAng="-5400000" swAng="5400000"/>
                      <a:lnTo>
                        <a:pt x="21600" y="11550"/>
                      </a:lnTo>
                      <a:arcTo wR="21600" hR="8550" stAng="0" swAng="3413035"/>
                      <a:lnTo>
                        <a:pt x="5400" y="21329"/>
                      </a:lnTo>
                      <a:lnTo>
                        <a:pt x="0" y="18600"/>
                      </a:lnTo>
                      <a:lnTo>
                        <a:pt x="5400" y="15329"/>
                      </a:lnTo>
                      <a:lnTo>
                        <a:pt x="5400" y="16829"/>
                      </a:lnTo>
                      <a:arcTo wR="21600" hR="8550" stAng="3413035" swAng="-3170942"/>
                      <a:lnTo>
                        <a:pt x="21265" y="10050"/>
                      </a:lnTo>
                      <a:arcTo wR="21600" hR="8550" stAng="-242092" swAng="-5157908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8550" stAng="-5400000" swAng="5400000"/>
                      <a:lnTo>
                        <a:pt x="21600" y="11550"/>
                      </a:lnTo>
                      <a:arcTo wR="21600" hR="8550" stAng="0" swAng="-242092"/>
                      <a:lnTo>
                        <a:pt x="21265" y="10050"/>
                      </a:lnTo>
                      <a:arcTo wR="21600" hR="8550" stAng="-242092" swAng="-5157908"/>
                      <a:close/>
                    </a:path>
                  </a:pathLst>
                </a:custGeom>
                <a:solidFill>
                  <a:srgbClr val="4f81bd"/>
                </a:solidFill>
                <a:ln w="1908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590" name="Strzałka zakrzywiona w lewo 12"/>
                <p:cNvSpPr/>
                <p:nvPr/>
              </p:nvSpPr>
              <p:spPr>
                <a:xfrm flipH="1" flipV="1">
                  <a:off x="4357440" y="3000600"/>
                  <a:ext cx="357120" cy="642960"/>
                </a:xfrm>
                <a:custGeom>
                  <a:avLst/>
                  <a:gdLst>
                    <a:gd name="textAreaLeft" fmla="*/ 47880 w 357120"/>
                    <a:gd name="textAreaRight" fmla="*/ 309240 w 357120"/>
                    <a:gd name="textAreaTop" fmla="*/ 127080 h 642960"/>
                    <a:gd name="textAreaBottom" fmla="*/ 471240 h 64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8550" stAng="-5400000" swAng="5400000"/>
                      <a:lnTo>
                        <a:pt x="21600" y="11550"/>
                      </a:lnTo>
                      <a:arcTo wR="21600" hR="8550" stAng="0" swAng="3413035"/>
                      <a:lnTo>
                        <a:pt x="5400" y="21329"/>
                      </a:lnTo>
                      <a:lnTo>
                        <a:pt x="0" y="18600"/>
                      </a:lnTo>
                      <a:lnTo>
                        <a:pt x="5400" y="15329"/>
                      </a:lnTo>
                      <a:lnTo>
                        <a:pt x="5400" y="16829"/>
                      </a:lnTo>
                      <a:arcTo wR="21600" hR="8550" stAng="3413035" swAng="-3170942"/>
                      <a:lnTo>
                        <a:pt x="21265" y="10050"/>
                      </a:lnTo>
                      <a:arcTo wR="21600" hR="8550" stAng="-242092" swAng="-5157908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8550" stAng="-5400000" swAng="5400000"/>
                      <a:lnTo>
                        <a:pt x="21600" y="11550"/>
                      </a:lnTo>
                      <a:arcTo wR="21600" hR="8550" stAng="0" swAng="-242092"/>
                      <a:lnTo>
                        <a:pt x="21265" y="10050"/>
                      </a:lnTo>
                      <a:arcTo wR="21600" hR="8550" stAng="-242092" swAng="-5157908"/>
                      <a:close/>
                    </a:path>
                  </a:pathLst>
                </a:custGeom>
                <a:solidFill>
                  <a:srgbClr val="4f81bd"/>
                </a:solidFill>
                <a:ln w="1908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591" name="Plus 13"/>
                <p:cNvSpPr/>
                <p:nvPr/>
              </p:nvSpPr>
              <p:spPr>
                <a:xfrm>
                  <a:off x="5357520" y="2643480"/>
                  <a:ext cx="500040" cy="500040"/>
                </a:xfrm>
                <a:custGeom>
                  <a:avLst/>
                  <a:gdLst>
                    <a:gd name="textAreaLeft" fmla="*/ 66240 w 500040"/>
                    <a:gd name="textAreaRight" fmla="*/ 433800 w 500040"/>
                    <a:gd name="textAreaTop" fmla="*/ 191160 h 500040"/>
                    <a:gd name="textAreaBottom" fmla="*/ 308880 h 500040"/>
                  </a:gdLst>
                  <a:ahLst/>
                  <a:rect l="textAreaLeft" t="textAreaTop" r="textAreaRight" b="textAreaBottom"/>
                  <a:pathLst>
                    <a:path w="500066" h="500066">
                      <a:moveTo>
                        <a:pt x="66284" y="191225"/>
                      </a:moveTo>
                      <a:lnTo>
                        <a:pt x="191225" y="191225"/>
                      </a:lnTo>
                      <a:lnTo>
                        <a:pt x="191225" y="66284"/>
                      </a:lnTo>
                      <a:lnTo>
                        <a:pt x="308841" y="66284"/>
                      </a:lnTo>
                      <a:lnTo>
                        <a:pt x="308841" y="191225"/>
                      </a:lnTo>
                      <a:lnTo>
                        <a:pt x="433782" y="191225"/>
                      </a:lnTo>
                      <a:lnTo>
                        <a:pt x="433782" y="308841"/>
                      </a:lnTo>
                      <a:lnTo>
                        <a:pt x="308841" y="308841"/>
                      </a:lnTo>
                      <a:lnTo>
                        <a:pt x="308841" y="433782"/>
                      </a:lnTo>
                      <a:lnTo>
                        <a:pt x="191225" y="433782"/>
                      </a:lnTo>
                      <a:lnTo>
                        <a:pt x="191225" y="308841"/>
                      </a:lnTo>
                      <a:lnTo>
                        <a:pt x="66284" y="308841"/>
                      </a:lnTo>
                      <a:close/>
                    </a:path>
                  </a:pathLst>
                </a:custGeom>
                <a:solidFill>
                  <a:srgbClr val="4f81bd"/>
                </a:solidFill>
                <a:ln w="1908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sp>
            <p:nvSpPr>
              <p:cNvPr id="592" name="Text Box 2"/>
              <p:cNvSpPr/>
              <p:nvPr/>
            </p:nvSpPr>
            <p:spPr>
              <a:xfrm>
                <a:off x="3571920" y="3071880"/>
                <a:ext cx="66348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32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Mg</a:t>
                </a:r>
                <a:endParaRPr b="0" lang="en-US" sz="32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593" name="Text Box 2"/>
              <p:cNvSpPr/>
              <p:nvPr/>
            </p:nvSpPr>
            <p:spPr>
              <a:xfrm>
                <a:off x="7000920" y="3071880"/>
                <a:ext cx="66348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32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Mg</a:t>
                </a:r>
                <a:endParaRPr b="0" lang="en-US" sz="32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sp>
          <p:nvSpPr>
            <p:cNvPr id="594" name="Łuk 27"/>
            <p:cNvSpPr/>
            <p:nvPr/>
          </p:nvSpPr>
          <p:spPr>
            <a:xfrm flipV="1">
              <a:off x="5000760" y="2642760"/>
              <a:ext cx="1214280" cy="857160"/>
            </a:xfrm>
            <a:custGeom>
              <a:avLst/>
              <a:gdLst>
                <a:gd name="textAreaLeft" fmla="*/ 15480 w 1214280"/>
                <a:gd name="textAreaRight" fmla="*/ 1203840 w 1214280"/>
                <a:gd name="textAreaTop" fmla="*/ -360 h 857160"/>
                <a:gd name="textAreaBottom" fmla="*/ 348120 h 857160"/>
              </a:gdLst>
              <a:ahLst/>
              <a:rect l="textAreaLeft" t="textAreaTop" r="textAreaRight" b="textAreaBottom"/>
              <a:pathLst>
                <a:path stroke="0" w="1214446" h="857256">
                  <a:moveTo>
                    <a:pt x="15797" y="331496"/>
                  </a:moveTo>
                  <a:lnTo>
                    <a:pt x="15797" y="331496"/>
                  </a:lnTo>
                  <a:arcTo wR="607223" hR="428628" stAng="-10240402" swAng="9781976"/>
                  <a:lnTo>
                    <a:pt x="607223" y="428628"/>
                  </a:lnTo>
                  <a:close/>
                </a:path>
                <a:path fill="none" w="1214446" h="857256">
                  <a:moveTo>
                    <a:pt x="15797" y="331496"/>
                  </a:moveTo>
                  <a:lnTo>
                    <a:pt x="15797" y="331496"/>
                  </a:lnTo>
                  <a:arcTo wR="607223" hR="428628" stAng="-10240402" swAng="9781976"/>
                </a:path>
              </a:pathLst>
            </a:custGeom>
            <a:noFill/>
            <a:ln w="10080">
              <a:solidFill>
                <a:srgbClr val="4f81bd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Wprowadze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192384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Umowa dotycząca znaków sił wewnętrznyc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Wektor Ms pozornie „rozciąga” wa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2286000" y="178560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Siła normalna jest dodatnia, gdy powoduje rozciąganie prę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Moment skręcający jest dodatni, gdy wektor momentu jest zwrócony na zewnątrz wycinka wał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98" name="Grupa 39"/>
          <p:cNvGrpSpPr/>
          <p:nvPr/>
        </p:nvGrpSpPr>
        <p:grpSpPr>
          <a:xfrm>
            <a:off x="3714840" y="2714760"/>
            <a:ext cx="3071880" cy="1143000"/>
            <a:chOff x="3714840" y="2714760"/>
            <a:chExt cx="3071880" cy="1143000"/>
          </a:xfrm>
        </p:grpSpPr>
        <p:grpSp>
          <p:nvGrpSpPr>
            <p:cNvPr id="599" name="Grupa 29"/>
            <p:cNvGrpSpPr/>
            <p:nvPr/>
          </p:nvGrpSpPr>
          <p:grpSpPr>
            <a:xfrm>
              <a:off x="3714840" y="2714760"/>
              <a:ext cx="2806920" cy="1143000"/>
              <a:chOff x="3714840" y="2714760"/>
              <a:chExt cx="2806920" cy="1143000"/>
            </a:xfrm>
          </p:grpSpPr>
          <p:sp>
            <p:nvSpPr>
              <p:cNvPr id="600" name="Strzałka w górę 18"/>
              <p:cNvSpPr/>
              <p:nvPr/>
            </p:nvSpPr>
            <p:spPr>
              <a:xfrm rot="16200000">
                <a:off x="4107960" y="2750040"/>
                <a:ext cx="285480" cy="1071720"/>
              </a:xfrm>
              <a:prstGeom prst="upArrow">
                <a:avLst>
                  <a:gd name="adj1" fmla="val 50000"/>
                  <a:gd name="adj2" fmla="val 50055"/>
                </a:avLst>
              </a:prstGeom>
              <a:solidFill>
                <a:srgbClr val="4bacc6"/>
              </a:solidFill>
              <a:ln w="19080">
                <a:solidFill>
                  <a:srgbClr val="357d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601" name="Łącznik prosty 21"/>
              <p:cNvSpPr/>
              <p:nvPr/>
            </p:nvSpPr>
            <p:spPr>
              <a:xfrm>
                <a:off x="4857840" y="3286080"/>
                <a:ext cx="785880" cy="1440"/>
              </a:xfrm>
              <a:prstGeom prst="line">
                <a:avLst/>
              </a:prstGeom>
              <a:ln w="10080">
                <a:solidFill>
                  <a:srgbClr val="4f81bd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602" name="Text Box 2"/>
              <p:cNvSpPr/>
              <p:nvPr/>
            </p:nvSpPr>
            <p:spPr>
              <a:xfrm>
                <a:off x="4071960" y="2714760"/>
                <a:ext cx="66348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32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603" name="Text Box 2"/>
              <p:cNvSpPr/>
              <p:nvPr/>
            </p:nvSpPr>
            <p:spPr>
              <a:xfrm>
                <a:off x="5858280" y="2714760"/>
                <a:ext cx="66348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32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604" name="Plus 25"/>
              <p:cNvSpPr/>
              <p:nvPr/>
            </p:nvSpPr>
            <p:spPr>
              <a:xfrm>
                <a:off x="5000760" y="3042000"/>
                <a:ext cx="500040" cy="500040"/>
              </a:xfrm>
              <a:custGeom>
                <a:avLst/>
                <a:gdLst>
                  <a:gd name="textAreaLeft" fmla="*/ 66240 w 500040"/>
                  <a:gd name="textAreaRight" fmla="*/ 433800 w 500040"/>
                  <a:gd name="textAreaTop" fmla="*/ 191160 h 500040"/>
                  <a:gd name="textAreaBottom" fmla="*/ 308880 h 500040"/>
                </a:gdLst>
                <a:ahLst/>
                <a:rect l="textAreaLeft" t="textAreaTop" r="textAreaRight" b="textAreaBottom"/>
                <a:pathLst>
                  <a:path w="500066" h="500066">
                    <a:moveTo>
                      <a:pt x="66284" y="191225"/>
                    </a:moveTo>
                    <a:lnTo>
                      <a:pt x="191225" y="191225"/>
                    </a:lnTo>
                    <a:lnTo>
                      <a:pt x="191225" y="66284"/>
                    </a:lnTo>
                    <a:lnTo>
                      <a:pt x="308841" y="66284"/>
                    </a:lnTo>
                    <a:lnTo>
                      <a:pt x="308841" y="191225"/>
                    </a:lnTo>
                    <a:lnTo>
                      <a:pt x="433782" y="191225"/>
                    </a:lnTo>
                    <a:lnTo>
                      <a:pt x="433782" y="308841"/>
                    </a:lnTo>
                    <a:lnTo>
                      <a:pt x="308841" y="308841"/>
                    </a:lnTo>
                    <a:lnTo>
                      <a:pt x="308841" y="433782"/>
                    </a:lnTo>
                    <a:lnTo>
                      <a:pt x="191225" y="433782"/>
                    </a:lnTo>
                    <a:lnTo>
                      <a:pt x="191225" y="308841"/>
                    </a:lnTo>
                    <a:lnTo>
                      <a:pt x="66284" y="308841"/>
                    </a:lnTo>
                    <a:close/>
                  </a:path>
                </a:pathLst>
              </a:custGeom>
              <a:solidFill>
                <a:srgbClr val="4bacc6"/>
              </a:solidFill>
              <a:ln w="19080">
                <a:solidFill>
                  <a:srgbClr val="357d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605" name="Prostokąt 26"/>
              <p:cNvSpPr/>
              <p:nvPr/>
            </p:nvSpPr>
            <p:spPr>
              <a:xfrm>
                <a:off x="4929480" y="2786040"/>
                <a:ext cx="642960" cy="1071720"/>
              </a:xfrm>
              <a:prstGeom prst="rect">
                <a:avLst/>
              </a:prstGeom>
              <a:noFill/>
              <a:ln w="1908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sp>
          <p:nvSpPr>
            <p:cNvPr id="606" name="Strzałka w górę 22"/>
            <p:cNvSpPr/>
            <p:nvPr/>
          </p:nvSpPr>
          <p:spPr>
            <a:xfrm flipH="1" rot="5400000">
              <a:off x="6108120" y="2750040"/>
              <a:ext cx="285480" cy="1071360"/>
            </a:xfrm>
            <a:prstGeom prst="upArrow">
              <a:avLst>
                <a:gd name="adj1" fmla="val 50000"/>
                <a:gd name="adj2" fmla="val 50038"/>
              </a:avLst>
            </a:prstGeom>
            <a:solidFill>
              <a:srgbClr val="4bacc6"/>
            </a:solidFill>
            <a:ln w="19080">
              <a:solidFill>
                <a:srgbClr val="357d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607" name="Grupa 42"/>
          <p:cNvGrpSpPr/>
          <p:nvPr/>
        </p:nvGrpSpPr>
        <p:grpSpPr>
          <a:xfrm>
            <a:off x="3500280" y="5286240"/>
            <a:ext cx="3500280" cy="1143000"/>
            <a:chOff x="3500280" y="5286240"/>
            <a:chExt cx="3500280" cy="1143000"/>
          </a:xfrm>
        </p:grpSpPr>
        <p:sp>
          <p:nvSpPr>
            <p:cNvPr id="608" name="Strzałka w górę 41"/>
            <p:cNvSpPr/>
            <p:nvPr/>
          </p:nvSpPr>
          <p:spPr>
            <a:xfrm flipH="1" rot="5400000">
              <a:off x="6321600" y="5321520"/>
              <a:ext cx="285480" cy="1071720"/>
            </a:xfrm>
            <a:prstGeom prst="upArrow">
              <a:avLst>
                <a:gd name="adj1" fmla="val 50000"/>
                <a:gd name="adj2" fmla="val 50055"/>
              </a:avLst>
            </a:prstGeom>
            <a:solidFill>
              <a:srgbClr val="9bbb59"/>
            </a:solidFill>
            <a:ln w="1908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09" name="Strzałka w górę 40"/>
            <p:cNvSpPr/>
            <p:nvPr/>
          </p:nvSpPr>
          <p:spPr>
            <a:xfrm rot="16200000">
              <a:off x="3893400" y="5321520"/>
              <a:ext cx="285480" cy="1071720"/>
            </a:xfrm>
            <a:prstGeom prst="upArrow">
              <a:avLst>
                <a:gd name="adj1" fmla="val 50000"/>
                <a:gd name="adj2" fmla="val 50055"/>
              </a:avLst>
            </a:prstGeom>
            <a:solidFill>
              <a:srgbClr val="9bbb59"/>
            </a:solidFill>
            <a:ln w="1908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0" name="Strzałka w górę 32"/>
            <p:cNvSpPr/>
            <p:nvPr/>
          </p:nvSpPr>
          <p:spPr>
            <a:xfrm rot="16200000">
              <a:off x="4107600" y="5321520"/>
              <a:ext cx="285480" cy="1071720"/>
            </a:xfrm>
            <a:prstGeom prst="upArrow">
              <a:avLst>
                <a:gd name="adj1" fmla="val 50000"/>
                <a:gd name="adj2" fmla="val 50055"/>
              </a:avLst>
            </a:prstGeom>
            <a:solidFill>
              <a:srgbClr val="9bbb59"/>
            </a:solidFill>
            <a:ln w="1908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1" name="Łącznik prosty 33"/>
            <p:cNvSpPr/>
            <p:nvPr/>
          </p:nvSpPr>
          <p:spPr>
            <a:xfrm>
              <a:off x="4857480" y="5857560"/>
              <a:ext cx="785880" cy="1440"/>
            </a:xfrm>
            <a:prstGeom prst="line">
              <a:avLst/>
            </a:prstGeom>
            <a:ln w="10080">
              <a:solidFill>
                <a:srgbClr val="9bbb59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2" name="Text Box 2"/>
            <p:cNvSpPr/>
            <p:nvPr/>
          </p:nvSpPr>
          <p:spPr>
            <a:xfrm>
              <a:off x="3928680" y="5286240"/>
              <a:ext cx="66348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s</a:t>
              </a:r>
              <a:endParaRPr b="0" lang="en-US" sz="3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3" name="Text Box 2"/>
            <p:cNvSpPr/>
            <p:nvPr/>
          </p:nvSpPr>
          <p:spPr>
            <a:xfrm>
              <a:off x="5980320" y="5286240"/>
              <a:ext cx="66348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s</a:t>
              </a:r>
              <a:endParaRPr b="0" lang="en-US" sz="3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4" name="Plus 36"/>
            <p:cNvSpPr/>
            <p:nvPr/>
          </p:nvSpPr>
          <p:spPr>
            <a:xfrm>
              <a:off x="5000400" y="5613480"/>
              <a:ext cx="500040" cy="500040"/>
            </a:xfrm>
            <a:custGeom>
              <a:avLst/>
              <a:gdLst>
                <a:gd name="textAreaLeft" fmla="*/ 66240 w 500040"/>
                <a:gd name="textAreaRight" fmla="*/ 433800 w 500040"/>
                <a:gd name="textAreaTop" fmla="*/ 191160 h 500040"/>
                <a:gd name="textAreaBottom" fmla="*/ 308880 h 500040"/>
              </a:gdLst>
              <a:ahLst/>
              <a:rect l="textAreaLeft" t="textAreaTop" r="textAreaRight" b="textAreaBottom"/>
              <a:pathLst>
                <a:path w="500066" h="500066">
                  <a:moveTo>
                    <a:pt x="66284" y="191225"/>
                  </a:moveTo>
                  <a:lnTo>
                    <a:pt x="191225" y="191225"/>
                  </a:lnTo>
                  <a:lnTo>
                    <a:pt x="191225" y="66284"/>
                  </a:lnTo>
                  <a:lnTo>
                    <a:pt x="308841" y="66284"/>
                  </a:lnTo>
                  <a:lnTo>
                    <a:pt x="308841" y="191225"/>
                  </a:lnTo>
                  <a:lnTo>
                    <a:pt x="433782" y="191225"/>
                  </a:lnTo>
                  <a:lnTo>
                    <a:pt x="433782" y="308841"/>
                  </a:lnTo>
                  <a:lnTo>
                    <a:pt x="308841" y="308841"/>
                  </a:lnTo>
                  <a:lnTo>
                    <a:pt x="308841" y="433782"/>
                  </a:lnTo>
                  <a:lnTo>
                    <a:pt x="191225" y="433782"/>
                  </a:lnTo>
                  <a:lnTo>
                    <a:pt x="191225" y="308841"/>
                  </a:lnTo>
                  <a:lnTo>
                    <a:pt x="66284" y="308841"/>
                  </a:lnTo>
                  <a:close/>
                </a:path>
              </a:pathLst>
            </a:custGeom>
            <a:solidFill>
              <a:srgbClr val="9bbb59"/>
            </a:solidFill>
            <a:ln w="19080">
              <a:solidFill>
                <a:srgbClr val="7189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5" name="Prostokąt 37"/>
            <p:cNvSpPr/>
            <p:nvPr/>
          </p:nvSpPr>
          <p:spPr>
            <a:xfrm>
              <a:off x="4929120" y="5357520"/>
              <a:ext cx="642960" cy="1071720"/>
            </a:xfrm>
            <a:prstGeom prst="rect">
              <a:avLst/>
            </a:prstGeom>
            <a:noFill/>
            <a:ln w="1908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6" name="Strzałka w górę 38"/>
            <p:cNvSpPr/>
            <p:nvPr/>
          </p:nvSpPr>
          <p:spPr>
            <a:xfrm flipH="1" rot="5400000">
              <a:off x="6107400" y="5321520"/>
              <a:ext cx="285480" cy="1071720"/>
            </a:xfrm>
            <a:prstGeom prst="upArrow">
              <a:avLst>
                <a:gd name="adj1" fmla="val 50000"/>
                <a:gd name="adj2" fmla="val 50055"/>
              </a:avLst>
            </a:prstGeom>
            <a:solidFill>
              <a:srgbClr val="9bbb59"/>
            </a:solidFill>
            <a:ln w="1908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Wprowadze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192384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Ogólnie rzecz biorąc, stany obciążenia można podzielić na proste i złożone. Te drugie mają miejsce, gdy kilka obciążeń prostych występuje jednocześni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19" name="Diagram 4" descr=""/>
          <p:cNvPicPr/>
          <p:nvPr/>
        </p:nvPicPr>
        <p:blipFill>
          <a:blip r:embed="rId1"/>
          <a:stretch/>
        </p:blipFill>
        <p:spPr>
          <a:xfrm>
            <a:off x="2378160" y="1852560"/>
            <a:ext cx="6497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Wprowadze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192384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Ogólnie rzecz biorąc, stany obciążenia można podzielić na proste i złożone. Te drugie mają miejsce, gdy kilka obciążeń prostych występuje jednocześni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(proste) rozciąganie lub ściskanie pręta powodują dwie siły równe co do wartości, przeciwnie zwrócone, działające wzdłuż osi (linii środkowej) prę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623" name="Grupa 16"/>
          <p:cNvGrpSpPr/>
          <p:nvPr/>
        </p:nvGrpSpPr>
        <p:grpSpPr>
          <a:xfrm>
            <a:off x="2857680" y="4572000"/>
            <a:ext cx="5286240" cy="856800"/>
            <a:chOff x="2857680" y="4572000"/>
            <a:chExt cx="5286240" cy="856800"/>
          </a:xfrm>
        </p:grpSpPr>
        <p:sp>
          <p:nvSpPr>
            <p:cNvPr id="624" name="Strzałka w górę 8"/>
            <p:cNvSpPr/>
            <p:nvPr/>
          </p:nvSpPr>
          <p:spPr>
            <a:xfrm rot="16200000">
              <a:off x="3250440" y="4606920"/>
              <a:ext cx="285480" cy="1071360"/>
            </a:xfrm>
            <a:prstGeom prst="upArrow">
              <a:avLst>
                <a:gd name="adj1" fmla="val 50000"/>
                <a:gd name="adj2" fmla="val 50038"/>
              </a:avLst>
            </a:prstGeom>
            <a:solidFill>
              <a:srgbClr val="4bacc6"/>
            </a:solidFill>
            <a:ln w="19080">
              <a:solidFill>
                <a:srgbClr val="357d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5" name="Łącznik prosty 9"/>
            <p:cNvSpPr/>
            <p:nvPr/>
          </p:nvSpPr>
          <p:spPr>
            <a:xfrm>
              <a:off x="4000680" y="5143320"/>
              <a:ext cx="3071880" cy="1440"/>
            </a:xfrm>
            <a:prstGeom prst="line">
              <a:avLst/>
            </a:prstGeom>
            <a:ln w="10080">
              <a:solidFill>
                <a:srgbClr val="4f81bd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6" name="Text Box 2"/>
            <p:cNvSpPr/>
            <p:nvPr/>
          </p:nvSpPr>
          <p:spPr>
            <a:xfrm>
              <a:off x="3214800" y="4572000"/>
              <a:ext cx="66348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7" name="Text Box 2"/>
            <p:cNvSpPr/>
            <p:nvPr/>
          </p:nvSpPr>
          <p:spPr>
            <a:xfrm>
              <a:off x="7215480" y="4572000"/>
              <a:ext cx="66348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8" name="Prostokąt 13"/>
            <p:cNvSpPr/>
            <p:nvPr/>
          </p:nvSpPr>
          <p:spPr>
            <a:xfrm>
              <a:off x="4071960" y="4857480"/>
              <a:ext cx="2857320" cy="571320"/>
            </a:xfrm>
            <a:prstGeom prst="rect">
              <a:avLst/>
            </a:prstGeom>
            <a:noFill/>
            <a:ln w="1908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9" name="Strzałka w górę 7"/>
            <p:cNvSpPr/>
            <p:nvPr/>
          </p:nvSpPr>
          <p:spPr>
            <a:xfrm flipH="1" rot="5400000">
              <a:off x="7465320" y="4606920"/>
              <a:ext cx="285480" cy="1071360"/>
            </a:xfrm>
            <a:prstGeom prst="upArrow">
              <a:avLst>
                <a:gd name="adj1" fmla="val 50000"/>
                <a:gd name="adj2" fmla="val 50038"/>
              </a:avLst>
            </a:prstGeom>
            <a:solidFill>
              <a:srgbClr val="4bacc6"/>
            </a:solidFill>
            <a:ln w="19080">
              <a:solidFill>
                <a:srgbClr val="357d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Wprowadze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192384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Ogólnie rzecz biorąc, stany obciążenia można podzielić na proste i złożone. Te drugie mają miejsce, gdy kilka obciążeń prostych występuje jednocześni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(proste) zginanie pręta wywołują siły zewnętrzne, działające prostopadle do osi pręta, których linie działania nie pokrywają się i które leżą w jednej i tej samej płaszczyźnie z osią prę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33" name="Obraz 4" descr=""/>
          <p:cNvPicPr/>
          <p:nvPr/>
        </p:nvPicPr>
        <p:blipFill>
          <a:blip r:embed="rId1"/>
          <a:stretch/>
        </p:blipFill>
        <p:spPr>
          <a:xfrm>
            <a:off x="3000240" y="4071960"/>
            <a:ext cx="4929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Wprowadze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192384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Ogólnie rzecz biorąc, stany obciążenia można podzielić na proste i złożone. Te drugie mają miejsce, gdy kilka obciążeń prostych występuje jednocześni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(proste) skręcanie powodują dwie pary sił działające w dwu różnych płaszczyznach prostopadłych do osi prę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637" name="Grupa 19"/>
          <p:cNvGrpSpPr/>
          <p:nvPr/>
        </p:nvGrpSpPr>
        <p:grpSpPr>
          <a:xfrm>
            <a:off x="3786120" y="3214800"/>
            <a:ext cx="3929040" cy="3543480"/>
            <a:chOff x="3786120" y="3214800"/>
            <a:chExt cx="3929040" cy="3543480"/>
          </a:xfrm>
        </p:grpSpPr>
        <p:sp>
          <p:nvSpPr>
            <p:cNvPr id="638" name="Text Box 2"/>
            <p:cNvSpPr/>
            <p:nvPr/>
          </p:nvSpPr>
          <p:spPr>
            <a:xfrm>
              <a:off x="3857400" y="335772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grpSp>
          <p:nvGrpSpPr>
            <p:cNvPr id="639" name="Grupa 18"/>
            <p:cNvGrpSpPr/>
            <p:nvPr/>
          </p:nvGrpSpPr>
          <p:grpSpPr>
            <a:xfrm>
              <a:off x="3786120" y="3214800"/>
              <a:ext cx="3929040" cy="3543480"/>
              <a:chOff x="3786120" y="3214800"/>
              <a:chExt cx="3929040" cy="3543480"/>
            </a:xfrm>
          </p:grpSpPr>
          <p:sp>
            <p:nvSpPr>
              <p:cNvPr id="640" name="Prostokąt 9"/>
              <p:cNvSpPr/>
              <p:nvPr/>
            </p:nvSpPr>
            <p:spPr>
              <a:xfrm>
                <a:off x="4500360" y="3571920"/>
                <a:ext cx="142560" cy="2786400"/>
              </a:xfrm>
              <a:prstGeom prst="rect">
                <a:avLst/>
              </a:prstGeom>
              <a:solidFill>
                <a:srgbClr val="c0504d"/>
              </a:solidFill>
              <a:ln w="19080">
                <a:solidFill>
                  <a:srgbClr val="8c38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641" name="Schemat blokowy: pamięć o dostępie bezpośrednim 4"/>
              <p:cNvSpPr/>
              <p:nvPr/>
            </p:nvSpPr>
            <p:spPr>
              <a:xfrm>
                <a:off x="4143240" y="4071960"/>
                <a:ext cx="3214800" cy="1785960"/>
              </a:xfrm>
              <a:prstGeom prst="flowChartMagneticDrum">
                <a:avLst/>
              </a:prstGeom>
              <a:solidFill>
                <a:srgbClr val="ffffff"/>
              </a:solidFill>
              <a:ln w="1908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642" name="Łącznik prosty 7"/>
              <p:cNvSpPr/>
              <p:nvPr/>
            </p:nvSpPr>
            <p:spPr>
              <a:xfrm>
                <a:off x="3786120" y="4970880"/>
                <a:ext cx="3857760" cy="1440"/>
              </a:xfrm>
              <a:prstGeom prst="line">
                <a:avLst/>
              </a:prstGeom>
              <a:ln w="10080">
                <a:solidFill>
                  <a:srgbClr val="c0504d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643" name="Prostokąt 8"/>
              <p:cNvSpPr/>
              <p:nvPr/>
            </p:nvSpPr>
            <p:spPr>
              <a:xfrm>
                <a:off x="6805080" y="3586680"/>
                <a:ext cx="142560" cy="2786400"/>
              </a:xfrm>
              <a:prstGeom prst="rect">
                <a:avLst/>
              </a:prstGeom>
              <a:solidFill>
                <a:srgbClr val="c0504d"/>
              </a:solidFill>
              <a:ln w="19080">
                <a:solidFill>
                  <a:srgbClr val="8c38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644" name="Strzałka w prawo 10"/>
              <p:cNvSpPr/>
              <p:nvPr/>
            </p:nvSpPr>
            <p:spPr>
              <a:xfrm rot="20084400">
                <a:off x="6829920" y="3376800"/>
                <a:ext cx="793080" cy="149760"/>
              </a:xfrm>
              <a:prstGeom prst="rightArrow">
                <a:avLst>
                  <a:gd name="adj1" fmla="val 50000"/>
                  <a:gd name="adj2" fmla="val 50039"/>
                </a:avLst>
              </a:prstGeom>
              <a:solidFill>
                <a:srgbClr val="c0504d"/>
              </a:solidFill>
              <a:ln w="19080">
                <a:solidFill>
                  <a:srgbClr val="8c38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645" name="Strzałka w prawo 11"/>
              <p:cNvSpPr/>
              <p:nvPr/>
            </p:nvSpPr>
            <p:spPr>
              <a:xfrm rot="20084400">
                <a:off x="4518360" y="6110640"/>
                <a:ext cx="793080" cy="149760"/>
              </a:xfrm>
              <a:prstGeom prst="rightArrow">
                <a:avLst>
                  <a:gd name="adj1" fmla="val 50000"/>
                  <a:gd name="adj2" fmla="val 50039"/>
                </a:avLst>
              </a:prstGeom>
              <a:solidFill>
                <a:srgbClr val="c0504d"/>
              </a:solidFill>
              <a:ln w="19080">
                <a:solidFill>
                  <a:srgbClr val="8c38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646" name="Strzałka w prawo 12"/>
              <p:cNvSpPr/>
              <p:nvPr/>
            </p:nvSpPr>
            <p:spPr>
              <a:xfrm flipH="1" rot="20185200">
                <a:off x="6130440" y="6455880"/>
                <a:ext cx="793080" cy="150120"/>
              </a:xfrm>
              <a:prstGeom prst="rightArrow">
                <a:avLst>
                  <a:gd name="adj1" fmla="val 50000"/>
                  <a:gd name="adj2" fmla="val 49919"/>
                </a:avLst>
              </a:prstGeom>
              <a:solidFill>
                <a:srgbClr val="c0504d"/>
              </a:solidFill>
              <a:ln w="19080">
                <a:solidFill>
                  <a:srgbClr val="8c38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647" name="Strzałka w prawo 13"/>
              <p:cNvSpPr/>
              <p:nvPr/>
            </p:nvSpPr>
            <p:spPr>
              <a:xfrm flipH="1" rot="20185200">
                <a:off x="3830040" y="3652920"/>
                <a:ext cx="793080" cy="150120"/>
              </a:xfrm>
              <a:prstGeom prst="rightArrow">
                <a:avLst>
                  <a:gd name="adj1" fmla="val 50000"/>
                  <a:gd name="adj2" fmla="val 49919"/>
                </a:avLst>
              </a:prstGeom>
              <a:solidFill>
                <a:srgbClr val="c0504d"/>
              </a:solidFill>
              <a:ln w="19080">
                <a:solidFill>
                  <a:srgbClr val="8c38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648" name="Text Box 2"/>
              <p:cNvSpPr/>
              <p:nvPr/>
            </p:nvSpPr>
            <p:spPr>
              <a:xfrm>
                <a:off x="7286760" y="3500280"/>
                <a:ext cx="42840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24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649" name="Text Box 2"/>
              <p:cNvSpPr/>
              <p:nvPr/>
            </p:nvSpPr>
            <p:spPr>
              <a:xfrm>
                <a:off x="4929120" y="6143760"/>
                <a:ext cx="42840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24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650" name="Text Box 2"/>
              <p:cNvSpPr/>
              <p:nvPr/>
            </p:nvSpPr>
            <p:spPr>
              <a:xfrm>
                <a:off x="6143400" y="6143760"/>
                <a:ext cx="42840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24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Wprowadze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192384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Naprężenia, przemieszczenia a odkształceni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Siła </a:t>
            </a:r>
            <a:r>
              <a:rPr b="0" i="1" lang="pl-PL" sz="1800" spc="-1" strike="noStrike">
                <a:solidFill>
                  <a:srgbClr val="ffffff"/>
                </a:solidFill>
                <a:latin typeface="Tw Cen MT"/>
              </a:rPr>
              <a:t>S</a:t>
            </a: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  nie musi być prostopadła do przekroju </a:t>
            </a:r>
            <a:r>
              <a:rPr b="0" i="1" lang="pl-PL" sz="1800" spc="-1" strike="noStrike">
                <a:solidFill>
                  <a:srgbClr val="ffffff"/>
                </a:solidFill>
                <a:latin typeface="Tw Cen MT"/>
              </a:rPr>
              <a:t>A</a:t>
            </a: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 i może zmieniać się po polu tego przekroju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2362320" y="1752480"/>
            <a:ext cx="64008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w Cen MT"/>
              </a:rPr>
              <a:t>Naprężeniem (</a:t>
            </a:r>
            <a:r>
              <a:rPr b="0" i="1" lang="pl-PL" sz="2400" spc="-1" strike="noStrike">
                <a:solidFill>
                  <a:srgbClr val="ff0000"/>
                </a:solidFill>
                <a:latin typeface="Tw Cen MT"/>
              </a:rPr>
              <a:t>p</a:t>
            </a:r>
            <a:r>
              <a:rPr b="0" lang="pl-PL" sz="2400" spc="-1" strike="noStrike">
                <a:solidFill>
                  <a:srgbClr val="ff0000"/>
                </a:solidFill>
                <a:latin typeface="Tw Cen MT"/>
              </a:rPr>
              <a:t>)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nazywa się iloraz nieskończenie małej wypadkowej siły spójności </a:t>
            </a:r>
            <a:r>
              <a:rPr b="0" i="1" lang="pl-PL" sz="2400" spc="-1" strike="noStrike">
                <a:solidFill>
                  <a:srgbClr val="000000"/>
                </a:solidFill>
                <a:latin typeface="Tw Cen MT"/>
              </a:rPr>
              <a:t>dS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przez nieskończenie małe pole rozważanego przekroju </a:t>
            </a:r>
            <a:r>
              <a:rPr b="0" i="1" lang="pl-PL" sz="2400" spc="-1" strike="noStrike">
                <a:solidFill>
                  <a:srgbClr val="000000"/>
                </a:solidFill>
                <a:latin typeface="Tw Cen MT"/>
              </a:rPr>
              <a:t>dA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54" name="Object 2"/>
          <p:cNvGraphicFramePr/>
          <p:nvPr/>
        </p:nvGraphicFramePr>
        <p:xfrm>
          <a:off x="4000680" y="3429000"/>
          <a:ext cx="2508120" cy="8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0680" y="3429000"/>
                    <a:ext cx="2508120" cy="893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Wprowadze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192384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Naprężenia, przemieszczenia a odkształceni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Siła </a:t>
            </a:r>
            <a:r>
              <a:rPr b="0" i="1" lang="pl-PL" sz="1800" spc="-1" strike="noStrike">
                <a:solidFill>
                  <a:srgbClr val="ffffff"/>
                </a:solidFill>
                <a:latin typeface="Tw Cen MT"/>
              </a:rPr>
              <a:t>S</a:t>
            </a: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  nie musi być prostopadła do przekroju </a:t>
            </a:r>
            <a:r>
              <a:rPr b="0" i="1" lang="pl-PL" sz="1800" spc="-1" strike="noStrike">
                <a:solidFill>
                  <a:srgbClr val="ffffff"/>
                </a:solidFill>
                <a:latin typeface="Tw Cen MT"/>
              </a:rPr>
              <a:t>A</a:t>
            </a: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 i może zmieniać się po polu tego przekroju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w Cen MT"/>
              </a:rPr>
              <a:t>Naprężeniem (</a:t>
            </a:r>
            <a:r>
              <a:rPr b="0" i="1" lang="pl-PL" sz="2400" spc="-1" strike="noStrike">
                <a:solidFill>
                  <a:srgbClr val="ff0000"/>
                </a:solidFill>
                <a:latin typeface="Tw Cen MT"/>
              </a:rPr>
              <a:t>p</a:t>
            </a:r>
            <a:r>
              <a:rPr b="0" lang="pl-PL" sz="2400" spc="-1" strike="noStrike">
                <a:solidFill>
                  <a:srgbClr val="ff0000"/>
                </a:solidFill>
                <a:latin typeface="Tw Cen MT"/>
              </a:rPr>
              <a:t>)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nazywa się iloraz nieskończenie małej wypadkowej siły spójności </a:t>
            </a:r>
            <a:r>
              <a:rPr b="0" i="1" lang="pl-PL" sz="2400" spc="-1" strike="noStrike">
                <a:solidFill>
                  <a:srgbClr val="000000"/>
                </a:solidFill>
                <a:latin typeface="Tw Cen MT"/>
              </a:rPr>
              <a:t>dS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przez nieskończenie małe pole rozważanego przekroju </a:t>
            </a:r>
            <a:r>
              <a:rPr b="0" i="1" lang="pl-PL" sz="2400" spc="-1" strike="noStrike">
                <a:solidFill>
                  <a:srgbClr val="000000"/>
                </a:solidFill>
                <a:latin typeface="Tw Cen MT"/>
              </a:rPr>
              <a:t>dA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w Cen MT"/>
              </a:rPr>
              <a:t>Naprężenie średnie(</a:t>
            </a:r>
            <a:r>
              <a:rPr b="0" i="1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pl-PL" sz="1400" spc="-1" strike="noStrike">
                <a:solidFill>
                  <a:srgbClr val="ff0000"/>
                </a:solidFill>
                <a:latin typeface="Tw Cen MT"/>
              </a:rPr>
              <a:t>s</a:t>
            </a:r>
            <a:r>
              <a:rPr b="0" lang="pl-PL" sz="2400" spc="-1" strike="noStrike">
                <a:solidFill>
                  <a:srgbClr val="ff0000"/>
                </a:solidFill>
                <a:latin typeface="Tw Cen MT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(gdy </a:t>
            </a:r>
            <a:r>
              <a:rPr b="0" i="1" lang="pl-PL" sz="24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=const(</a:t>
            </a:r>
            <a:r>
              <a:rPr b="0" i="1" lang="pl-PL" sz="2400" spc="-1" strike="noStrike">
                <a:solidFill>
                  <a:srgbClr val="000000"/>
                </a:solidFill>
                <a:latin typeface="Tw Cen MT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59" name="Object 2"/>
          <p:cNvGraphicFramePr/>
          <p:nvPr/>
        </p:nvGraphicFramePr>
        <p:xfrm>
          <a:off x="4714920" y="3214800"/>
          <a:ext cx="1123920" cy="89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4920" y="3214800"/>
                    <a:ext cx="1123920" cy="8935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61" name="Object 3"/>
          <p:cNvGraphicFramePr/>
          <p:nvPr/>
        </p:nvGraphicFramePr>
        <p:xfrm>
          <a:off x="3529080" y="4857840"/>
          <a:ext cx="3459240" cy="89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29080" y="4857840"/>
                    <a:ext cx="3459240" cy="8935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Wprowadze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192384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Ważne informacje organizacyjn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Dr inż. Sylwester Samborski,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Katedra Mechaniki Stosowanej,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Zakład Wytrzymałości Materiałów,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pok. 316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 u="sng">
                <a:solidFill>
                  <a:srgbClr val="0000ff"/>
                </a:solidFill>
                <a:uFillTx/>
                <a:latin typeface="Tw Cen MT"/>
                <a:hlinkClick r:id="rId1"/>
              </a:rPr>
              <a:t>http://samborski.pollub.p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Terminy konsultacji: poniedziałek, 12.15-13.00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Egzamin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Wprowadze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192384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Piśmiennictwo, czyli podręczniki i zbiory zadań z wytrzymałości materiałów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(R. Kurowski, M.E. Niezgodziński: „Wytrzymałość materiałów”, PWN, Warszawa 1966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M.E. Niezgodziński, T. Niezgodziński: „Wytrzymałość materiałów”, PWN, Warszawa, 1998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Z. Brzoska: „Wytrzymałość materiałów”, PWN, Warszawa, 1983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M.E. Niezgodziński, T. Niezgodziński: „Zadania z wytrzymałość materiałów”, WNT, Warszawa, 2002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M. Banasiak, K. Grossman, M. Trombski: „Zbiór zadań z wytrzymałości materiałów”, PWN, Warszawa, 1998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C. Komorzycki, A. Teter: „Podstawy statyki i wytrzymałości materiałów”, Wydawnictwo Politechniki Lubelskiej, Lublin, 2000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J. Misiak: „Mechanika techniczna – t. 1: Statyka i wytrzymałość materiałów”, WNT, Warszawa, 2003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Wprowadze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192384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 fontScale="94000"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Przedmiot i zadania wytrzymałości materiałów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Pojęcie </a:t>
            </a:r>
            <a:r>
              <a:rPr b="0" lang="pl-PL" sz="1800" spc="-1" strike="noStrike">
                <a:solidFill>
                  <a:srgbClr val="ffff00"/>
                </a:solidFill>
                <a:latin typeface="Tw Cen MT"/>
              </a:rPr>
              <a:t>„wytrzymałość” </a:t>
            </a: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oznacza wartość naprężenia powodującego zniszczenie danej części przez utratę spójności materiału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Wytrzymałość materiałów jest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działem mechaniki (stosowanej) ciał odkształcalnych, a podstawy teoretyczne czerpie z mechaniki ośrodków ciągłych, teorii sprężystości i teorii plastyczności,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nauką, która uwzględniając zdolność ciał stałych do odkształceń zajmuje się przede wszystkim badaniem i ustalaniem zależności odkształceń od sił zewnętrznych działających na dane ciało,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nauką o trwałości spotykanych w praktyce typowych elementów konstrukcji, poddanych działaniu obciążenia zewnętrznego (sił lub momentów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Wprowadze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192384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Przedmiot i zadania wytrzymałości materiałów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2362320" y="1752480"/>
            <a:ext cx="64008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Przedmiotem wytrzymałości materiałów są obliczenia teoretyczne (głównie- zastosowanie zasad statyki) i badania doświadczalne procesów odkształcania i niszczenia ciał pod wpływem różnorodnych obciążeń (sił); obecnie szerokie zastosowanie mają metody komputerowe, komplementarne w stosunku do badań doświadczalnych, pozwalające na automatyzację obliczeń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21" name="Diagram 6" descr=""/>
          <p:cNvPicPr/>
          <p:nvPr/>
        </p:nvPicPr>
        <p:blipFill>
          <a:blip r:embed="rId1"/>
          <a:stretch/>
        </p:blipFill>
        <p:spPr>
          <a:xfrm>
            <a:off x="2273400" y="2419200"/>
            <a:ext cx="6114960" cy="4078440"/>
          </a:xfrm>
          <a:prstGeom prst="rect">
            <a:avLst/>
          </a:prstGeom>
          <a:ln w="0">
            <a:noFill/>
          </a:ln>
        </p:spPr>
      </p:pic>
      <p:sp>
        <p:nvSpPr>
          <p:cNvPr id="522" name="Strzałka w lewo i prawo 8"/>
          <p:cNvSpPr/>
          <p:nvPr/>
        </p:nvSpPr>
        <p:spPr>
          <a:xfrm flipV="1" rot="2050200">
            <a:off x="4005000" y="5078160"/>
            <a:ext cx="863640" cy="540720"/>
          </a:xfrm>
          <a:prstGeom prst="leftRightArrow">
            <a:avLst>
              <a:gd name="adj1" fmla="val 50000"/>
              <a:gd name="adj2" fmla="val 50016"/>
            </a:avLst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Wprowadze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192384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 fontScale="99000"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Przedmiot i zadania wytrzymałości materiałów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Wytrzymałość materiałów pozwala rozwiązywać  tzw. </a:t>
            </a:r>
            <a:r>
              <a:rPr b="0" lang="pl-PL" sz="1800" spc="-1" strike="noStrike">
                <a:solidFill>
                  <a:srgbClr val="ffff00"/>
                </a:solidFill>
                <a:latin typeface="Tw Cen MT"/>
              </a:rPr>
              <a:t>zagadnienia  statycznie niewyznaczaln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Zadania wytrzymałości materiałów to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poznanie skutków działania obciążeń w konkretnych warunkach zamocowania i obciążenia rozpatrywanej części,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poznanie zdolności materiałów do przenoszenia różnych obciążeń oraz sprawdzenie wypracowanych metod obliczeniowych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Wprowadze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192384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 fontScale="99000"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Przedmiot i zadania wytrzymałości materiałów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Wytrzymałość materiałów pozwala rozwiązywać  tzw. </a:t>
            </a:r>
            <a:r>
              <a:rPr b="0" lang="pl-PL" sz="1800" spc="-1" strike="noStrike">
                <a:solidFill>
                  <a:srgbClr val="ffff00"/>
                </a:solidFill>
                <a:latin typeface="Tw Cen MT"/>
              </a:rPr>
              <a:t>zagadnienia  statycznie niewyznaczaln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Wytrzymałość materiałów umożliwia ocenę pewności pracy danej części lub całego ustroju i wypracowuje metody obliczeniowe oceny ich trwałości i niezawodności poprzez sprawdzenie trzech warunków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warunku wytrzymałości (obciążenia dopuszczalne)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warunku sztywności (odkształcenia dopuszczalne)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warunku stateczności (dopuszczalne zmiany kształtu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Wprowadze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192384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Podstawowe pojęcia, założenia i uproszczeni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Założenie o jednorodności materiału implikuje jego ciągłość, co pozwala zastosować metody analizy matematycznej (różniczkowanie i całkowanie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Często spotykane są też założenia o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doskonałej sprężystości materiału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izotropowości materiału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7:14:40Z</dcterms:created>
  <dc:creator/>
  <dc:description/>
  <dc:language>en-US</dc:language>
  <cp:lastModifiedBy/>
  <dcterms:modified xsi:type="dcterms:W3CDTF">2011-10-05T14:19:0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lpwstr>1045</vt:lpwstr>
  </property>
  <property fmtid="{D5CDD505-2E9C-101B-9397-08002B2CF9AE}" pid="3" name="_TemplateID">
    <vt:lpwstr>TC101671251045</vt:lpwstr>
  </property>
</Properties>
</file>