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30.wmf" ContentType="image/x-wmf"/>
  <Override PartName="/ppt/media/image33.png" ContentType="image/png"/>
  <Override PartName="/ppt/media/image38.png" ContentType="image/png"/>
  <Override PartName="/ppt/media/image4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45.wmf" ContentType="image/x-wmf"/>
  <Override PartName="/ppt/media/image46.wmf" ContentType="image/x-wmf"/>
  <Override PartName="/ppt/media/image40.wmf" ContentType="image/x-wmf"/>
  <Override PartName="/ppt/media/image37.png" ContentType="image/png"/>
  <Override PartName="/ppt/media/image48.wmf" ContentType="image/x-wmf"/>
  <Override PartName="/ppt/media/image50.wmf" ContentType="image/x-wmf"/>
  <Override PartName="/ppt/media/image28.png" ContentType="image/png"/>
  <Override PartName="/ppt/media/image13.wmf" ContentType="image/x-wmf"/>
  <Override PartName="/ppt/media/image52.png" ContentType="image/png"/>
  <Override PartName="/ppt/media/image42.wmf" ContentType="image/x-wmf"/>
  <Override PartName="/ppt/media/image39.png" ContentType="image/png"/>
  <Override PartName="/ppt/media/image9.png" ContentType="image/png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61A-6BD6-476A-BE30-0A0EEF500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6911-D452-455B-9A81-D1C10A3A6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FE5-336B-4A35-8F5B-91252A55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921-F872-4A4E-B98E-2C2AB67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FDDF4-4625-4D4A-9EEE-6282F22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0ACCE-EE49-42A5-819F-BC88724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D73D-2442-4030-A18A-FA2C5DBA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DAC1C-BCDA-428C-96BD-2ABF031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B448-1CCB-4E6E-A9C2-677544E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AB74-30F1-403F-9BF9-6033E6E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BCCF-BB7F-4A5D-89A6-99E1649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C04EA-7031-48F6-9F43-9C497DC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765E9-853A-4C3F-A791-D0D05418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8757B-8236-4972-AF97-2152F6AF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DA1-D142-4043-A089-F5410154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3B4D3-240A-40C8-AFD8-AAB5BCB9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D0389-1ED8-4F33-A217-AD36F89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C9FD48-5491-46B0-BFBF-48096AC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1EFC4-9A3D-4880-A220-9D4D1DF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85D99B-B869-4F5A-AF9B-E6EB589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92B513-6C91-48EA-9162-5612930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4165B9-6CDC-4A7A-B6BF-2815FAD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A63FEA-05E4-4923-A3A2-83A7FF4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4999EE-7E5D-4C04-A466-95894CB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980D7-EFC4-4940-A1F0-CC739D1C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7B9-7BE3-447C-A5CC-1703EA3F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4C2C1-FBDC-4290-B48C-B0B6BFA0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4AB45-947B-4CD9-B3F0-1A88C5AB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EDC6E-486B-4162-AD3C-44EA917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E407D-8EEA-4388-AB03-3B3F2F3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349E-2F86-4A2E-B83D-91176C8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67FE-F800-4EC2-9202-A512EF9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31C20-23E7-4502-92BD-2642BCE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92021-2575-4D7F-A773-4D3715E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5AFAC-B316-4F13-A19C-A2465C3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AE66-8E2B-4113-8D3F-D635C5B2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B498-AA98-437F-A2E1-A530E63E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4A3F-D03A-4BEE-BF1C-20E8565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2F9E5-6D50-4029-8DB9-7A09B9CA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83337-335D-4435-8EE2-9BD47FF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34AA-241D-4C48-923F-3AD8FD8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ACC-1677-453D-9E73-B7F6407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8A6-A32D-4D19-97C3-8C5BDD70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A56-3780-4433-B1A6-D5DE3E7D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489-9E77-474A-95C3-0A880DD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B0C-6243-49E1-8BD6-F6B79CE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174-84AA-4A22-B26D-3299225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8F90-2434-43FA-9887-BC1C4C3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8B6E-21EC-4BDA-BD30-374C90C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9AE-513A-4D20-B8D8-D05CCE1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354-A5A2-495D-9F11-0FF628AA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AD76-B05E-4CED-8D07-2E074AAA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C0AB-B4A8-4AB0-AB0D-EFCF601F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A565-124F-4624-903F-BDFA11B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11D1-3C5D-4743-9E7E-FBCD6DF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DD57-FDC3-42DC-8701-741AC562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8D92-2AA3-4AF8-8C54-35991A4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EAC-7D08-41FE-A833-7B1B89BD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1456-EF1D-4609-81AD-5D77CC45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2D1FB-B319-4A35-9AF0-9A564B6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C919-46DC-4580-B585-FD8C166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DD19-D69F-4B0F-874E-040D1F3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9D68-7DA8-49DC-9384-DA24B80D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0AC2-C88E-4922-BEE7-9C485EBD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812D-1238-48DD-A053-30E39B42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FBAD5-924C-403B-A923-8FF0CA7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52CAD-6B12-4C15-B892-B947469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6A143-7659-4E64-9D8B-D12F3A9E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C97-ADFB-40B6-825E-A42D89E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B5EE8-76D2-47FB-A58B-FD0ABE93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E4809-FE49-424B-983B-CBEB104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84B38-AFEC-4B7D-BB19-CE28DA52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18E58-61C0-4876-9D8E-6EE4830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C1FAD-8128-487D-8E2D-48E59E5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E104A-25DD-4BB8-9C3E-73D04182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A97FB-076C-4ACA-B9D1-623BEF7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0B9EA-DC4E-4590-AE3C-8A3A2417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AEB9E-C139-40A3-9D4B-D7877FE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CF029-495F-4542-B481-52C76305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AF2-399C-4BC8-A561-C2C3D17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FAABE-7E61-4659-9ECC-D5D05DE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60B1C-8476-4280-B694-1163F5C4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53887-1FD6-4B25-B41C-80F1AC3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E4E22-7804-4674-A1D7-C744FD7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DD871-71CF-46B2-9114-E1DAA393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65A68-C40A-4767-857B-045E287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570B2-67C9-444A-B65C-5BBE9CA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7F1E2-C8DB-4BCC-86B0-F868E93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B32AD-65D2-4CE7-B5F5-BCAAC23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5C1F3-A6C4-4A54-9047-3FBD2409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F56-D941-422B-9611-0B0B0C68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5ACD6-FA27-42AA-BE09-322B1A17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80552-D796-452A-87EA-366500A9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801CE-4DC5-4302-9CBF-ED41894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93DA3-AC04-4C44-8F4F-0A3B1D0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4269F-99CB-4C9F-BBB7-A5D9E2D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B73BE-59C2-4A2E-9617-15032237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07A3F-8359-4280-AF30-F3FA5099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B10D9-9C83-4215-9D5E-B7A29A9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9DDAD-C4CD-48E2-BEC5-AD54F85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E6325-DE3A-4A1E-A250-9E20126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C3F-9BB2-4B26-8799-0D674C8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B7459-AB17-4F2F-9C43-C814F06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0BFE6-C80F-416D-AEB7-E2BE9B43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D59FF-510B-43FA-998F-E646F54E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4FE6-D4D4-4AE0-A0FE-6E1E05E1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7F05-7240-4866-8F9F-7E0B125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8F9D-E830-431B-8732-A5B67E3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F121F-EA72-4AA0-9D2F-FEDFFABC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3735-8494-4C4C-B543-E0CCD49D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D2C8-DF38-4C3B-8B80-26523B1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BAD4-AB0D-427E-AAB9-0F4A1304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7AF-574D-4DB6-890D-56E01EC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82F5-6153-4B56-8D6A-6BCF5EF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95663-CEC6-4884-BB46-EC54171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D8B1-9DB4-4140-BA63-09C62C0C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FA3C-CA29-4728-88EB-16B18860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4FF7-CA23-460A-B62D-0A89708C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4775-AEBB-4277-A0D9-AB915928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5B5A-6FA6-4E23-AD6E-765DDEFF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D5EE-F321-4AD6-99AF-E4FC542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E612-B8EA-40F8-8CEF-45DA4F9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660B0-0264-4383-AE14-21395B0F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0DC-54F5-4E04-997D-0BA4E4A3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DDF51-4A85-427C-AFF9-065CAAC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B16A-9B1A-464C-B32F-902F3C7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779F4-5442-4F80-A6F1-51724A6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9B71-92D4-488E-BD5C-B5209D7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5E2D8-485F-44B8-AAC7-A14B95A4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1E23F-05C8-4C59-9369-DE338EBC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19BD-6BC3-4F8A-9F62-6D59BFFF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0D397-1DD4-49D8-B00E-02988E45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90132-0D7F-464E-A32D-686BCC7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5CA5D-ADD3-4C26-90D2-14D3F14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DF3-D570-4DBD-BF16-9E53112EE3F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52E3D4B-2288-44EC-8D5B-1628189DD62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AB0-922C-4EAF-B9B7-3BEB1970B322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0321-3E8D-4ACA-BC85-46063E92247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97BBFDB-8EA6-4FEE-AF4D-75640E76662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AE8-E2F0-4775-A26C-4BB1BDB5627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29A-E6E4-4834-9AF5-B8102476ECC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F16CD98-499D-4343-B3C9-C94AD21D1A8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9414-C1D1-4D57-BAC8-20D2866AE060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79B-6C79-494E-B940-8C3BF6F04F2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9357077-BD8A-4594-84F3-360E31E8750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5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AC8-F2FA-4FCC-8F06-D4F474C025EB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B7D-4C98-4513-A9BA-D4508A2D01A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3089753-A813-40D5-86FC-8F6A32738BD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FF4-1015-4257-95F0-6BC3CFE704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826-2AAC-49CA-801F-54F1F6E2D02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B00E460-C9E6-4EDB-8E03-75D8FC2C353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B7D6-CA0C-40B5-A9C1-FBD9753549C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615-64A7-4EFC-9CB3-032AE24C11F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75CC3EB-1F5D-4337-93FE-A22F4C584DC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87DB-703B-48DB-ADFD-40CBF02FA3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748C-29DA-4B6B-97BB-CADDE723609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5D2427D-F8C1-41F9-9BC0-019082BFA5B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22F-DD8E-4754-A542-C4A5F06CFA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6EB-76B0-412C-B662-39016D85758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99457EF-9A07-4CD6-B100-93A1059391D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313-EC0E-4C20-ACFA-B359AB1C1B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AFB-375F-49BA-A3B2-3DDE5F72815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D8BB629-815C-487C-A662-5BE2B173829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CA6F-42AE-4A3C-BD8F-E7F3CE8D616E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5AB-85D2-4F17-8250-C7566681526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1DD9956-66FA-4D40-8280-546481A523B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AC1-D5F7-452E-BCA9-2ED02D411A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7F14-F2BE-4836-B0AB-EB3D3D46A3A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rostokąt 6"/>
          <p:cNvSpPr/>
          <p:nvPr/>
        </p:nvSpPr>
        <p:spPr>
          <a:xfrm>
            <a:off x="357120" y="2143080"/>
            <a:ext cx="857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Mając wzory na </a:t>
            </a:r>
            <a:r>
              <a:rPr b="0" i="1" lang="pl-PL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2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oraz warunek geometryczn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calk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0 przeprowadza się następujące obliczeni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812880" y="3143160"/>
          <a:ext cx="24732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3143160"/>
                    <a:ext cx="2473200" cy="525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1" name="Object 3"/>
          <p:cNvGraphicFramePr/>
          <p:nvPr/>
        </p:nvGraphicFramePr>
        <p:xfrm>
          <a:off x="4143240" y="3000240"/>
          <a:ext cx="415152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3000240"/>
                    <a:ext cx="4151520" cy="92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3" name="Prostokąt 9"/>
          <p:cNvSpPr/>
          <p:nvPr/>
        </p:nvSpPr>
        <p:spPr>
          <a:xfrm>
            <a:off x="3340080" y="321480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rostokąt 10"/>
          <p:cNvSpPr/>
          <p:nvPr/>
        </p:nvSpPr>
        <p:spPr>
          <a:xfrm>
            <a:off x="258840" y="40006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ą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5" name="Object 5"/>
          <p:cNvGraphicFramePr/>
          <p:nvPr/>
        </p:nvGraphicFramePr>
        <p:xfrm>
          <a:off x="1289160" y="4071960"/>
          <a:ext cx="6983280" cy="221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9160" y="4071960"/>
                    <a:ext cx="6983280" cy="2214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3571920" y="2071800"/>
            <a:ext cx="4357800" cy="4213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2A88-F046-46B4-B3C2-D47F5B48598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rostokąt 6"/>
          <p:cNvSpPr/>
          <p:nvPr/>
        </p:nvSpPr>
        <p:spPr>
          <a:xfrm>
            <a:off x="714240" y="2428920"/>
            <a:ext cx="2643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ykres momentów skręcający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 |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s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|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|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s2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257040" y="2833560"/>
            <a:ext cx="8572680" cy="38671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831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C962-B79B-4DE2-9231-03426FF6F78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rostokąt 6"/>
          <p:cNvSpPr/>
          <p:nvPr/>
        </p:nvSpPr>
        <p:spPr>
          <a:xfrm>
            <a:off x="285840" y="2143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zważmy pręt o wymiarach przekroju bxh rozciągany siłą P, a następnie zbadajmy stan naprężenia w dowolnie obranym punkcie C tego prę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2857680" y="3784680"/>
            <a:ext cx="6073560" cy="27162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7F6E-263F-42D3-B7E4-A7A51DBF7B4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rostokąt 6"/>
          <p:cNvSpPr/>
          <p:nvPr/>
        </p:nvSpPr>
        <p:spPr>
          <a:xfrm>
            <a:off x="285840" y="221472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p. C wyobrażamy sobie ukośny przekrój abde, odchylony od przekroju poprzecznego abd’e’ o dowolny kąt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 nastepnie rozpatrujemy równowagę jednej (np. lewej części pręta)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rostokąt 10"/>
          <p:cNvSpPr/>
          <p:nvPr/>
        </p:nvSpPr>
        <p:spPr>
          <a:xfrm>
            <a:off x="285840" y="3571920"/>
            <a:ext cx="2643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drzucona, prawa część pręta działa na część lewą naprężeniami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, utrzymując ją w równowadz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3E7E-04A9-43FE-BF38-2BBA90A9DE0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rostokąt 6"/>
          <p:cNvSpPr/>
          <p:nvPr/>
        </p:nvSpPr>
        <p:spPr>
          <a:xfrm>
            <a:off x="285840" y="20718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Jeżeli przekrój poprzeczny abd’e’ ma pole powierzchni A, to pole przekroju abde wynos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rostokąt 10"/>
          <p:cNvSpPr/>
          <p:nvPr/>
        </p:nvSpPr>
        <p:spPr>
          <a:xfrm>
            <a:off x="285840" y="335772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zaś naprężenie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wynika z sumy rzutów sił na oś x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2" name="Object 2"/>
          <p:cNvGraphicFramePr/>
          <p:nvPr/>
        </p:nvGraphicFramePr>
        <p:xfrm>
          <a:off x="3571920" y="2500200"/>
          <a:ext cx="14572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2500200"/>
                    <a:ext cx="1457280" cy="824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4" name="Object 3"/>
          <p:cNvGraphicFramePr/>
          <p:nvPr/>
        </p:nvGraphicFramePr>
        <p:xfrm>
          <a:off x="2268360" y="3857760"/>
          <a:ext cx="407196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857760"/>
                    <a:ext cx="4071960" cy="879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6" name="Prostokąt 12"/>
          <p:cNvSpPr/>
          <p:nvPr/>
        </p:nvSpPr>
        <p:spPr>
          <a:xfrm>
            <a:off x="285840" y="4786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szczególnym przypadku, gd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0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7" name="Object 4"/>
          <p:cNvGraphicFramePr/>
          <p:nvPr/>
        </p:nvGraphicFramePr>
        <p:xfrm>
          <a:off x="3071880" y="5286240"/>
          <a:ext cx="26208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5286240"/>
                    <a:ext cx="2620800" cy="858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214200" y="4214880"/>
            <a:ext cx="3202200" cy="2166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3246480" y="3870360"/>
            <a:ext cx="5897520" cy="2844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F5E-5FE2-4EEB-A6D6-633D5FB84C2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rostokąt 6"/>
          <p:cNvSpPr/>
          <p:nvPr/>
        </p:nvSpPr>
        <p:spPr>
          <a:xfrm>
            <a:off x="285840" y="2143080"/>
            <a:ext cx="8643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złożenie wektora naprężenia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 dwa wzajemni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kierunki daje jego składowe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6" name="Object 2"/>
          <p:cNvGraphicFramePr/>
          <p:nvPr/>
        </p:nvGraphicFramePr>
        <p:xfrm>
          <a:off x="857160" y="3071880"/>
          <a:ext cx="744876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71880"/>
                    <a:ext cx="7448760" cy="904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8" name="Prostokąt 13"/>
          <p:cNvSpPr/>
          <p:nvPr/>
        </p:nvSpPr>
        <p:spPr>
          <a:xfrm>
            <a:off x="8499600" y="328608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#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4000680" y="2071800"/>
            <a:ext cx="5143320" cy="21700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201-F80A-4B58-90B6-1D2F1CE7E87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rostokąt 6"/>
          <p:cNvSpPr/>
          <p:nvPr/>
        </p:nvSpPr>
        <p:spPr>
          <a:xfrm>
            <a:off x="285840" y="2357280"/>
            <a:ext cx="43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Umowa dotycząca znaków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&gt;0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jest odmierzane w kierunku „trygonometrycznym” (przeciwnie do zwrotu ruchu wskazówek zegara)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rostokąt 11"/>
          <p:cNvSpPr/>
          <p:nvPr/>
        </p:nvSpPr>
        <p:spPr>
          <a:xfrm>
            <a:off x="357120" y="45007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&gt;0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zwrot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n są zgodne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&gt;0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róbuje obrócić rozpatrywaną część w kierunku „antytrygonometrycznym” (zgodnie ze zwrotem ruchu wskazówek zegar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2286000" y="3322800"/>
            <a:ext cx="6858000" cy="33080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8FD-6BC3-47E3-8C45-984484C8374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rostokąt 6"/>
          <p:cNvSpPr/>
          <p:nvPr/>
        </p:nvSpPr>
        <p:spPr>
          <a:xfrm>
            <a:off x="285840" y="235728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zczegółowa analiza wpływu kąt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opiera się na rozpatrzeniu naprężeń normalnych i stycznych na ściankach prostopadłościanu (kostki) fghi wyciętej myślowo z rozpatrywanej (lewej) części prę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5626080" cy="416556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05D-CCD5-44A5-A28B-6E01B41604D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0C2-2B79-409E-866C-0BD1EE2FD22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rostokąt 6"/>
          <p:cNvSpPr/>
          <p:nvPr/>
        </p:nvSpPr>
        <p:spPr>
          <a:xfrm>
            <a:off x="285840" y="2357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Naprężenia normalne i styczne na ściankach prostopadłościanu fghi wyznacza się ze wzorów (#)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1143000" y="3214800"/>
          <a:ext cx="660384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14800"/>
                    <a:ext cx="6603840" cy="3035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6246720" y="1571760"/>
            <a:ext cx="2806920" cy="2882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214200" y="1600200"/>
            <a:ext cx="6072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Praca a moc momentu skręcającego (obrotowego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w Cen MT"/>
              </a:rPr>
              <a:t>Praca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siły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P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stycznej do wału (powodującej jego skręcenie/obrót) na drodze łukowej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ds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wynosi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stąd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Praca momentu skręcającego/obrotowego jest równa iloczynowi tego momentu i kąta skręcenia/obrotu wał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061-736D-407A-AD16-174BE4207B0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1" name="Object 3"/>
          <p:cNvGraphicFramePr/>
          <p:nvPr/>
        </p:nvGraphicFramePr>
        <p:xfrm>
          <a:off x="714240" y="3357720"/>
          <a:ext cx="511200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3357720"/>
                    <a:ext cx="5112000" cy="657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3" name="Object 5"/>
          <p:cNvGraphicFramePr/>
          <p:nvPr/>
        </p:nvGraphicFramePr>
        <p:xfrm>
          <a:off x="2214720" y="4500720"/>
          <a:ext cx="1643040" cy="65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14720" y="4500720"/>
                    <a:ext cx="1643040" cy="657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Jednokierunkowy stan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F43-0C29-48E0-8780-39D1C6D56F8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rostokąt 6"/>
          <p:cNvSpPr/>
          <p:nvPr/>
        </p:nvSpPr>
        <p:spPr>
          <a:xfrm>
            <a:off x="285840" y="20001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Wnioski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obowiązujące w 2D i w 3D)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Naprężenia normalne oraz naprężenia styczne występujące w dwóch równoległych do siebie przekrojach są sobie odpowiednio równe, tzn.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2357280" y="3214800"/>
          <a:ext cx="425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14800"/>
                    <a:ext cx="4251600" cy="672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1" name="Prostokąt 8"/>
          <p:cNvSpPr/>
          <p:nvPr/>
        </p:nvSpPr>
        <p:spPr>
          <a:xfrm>
            <a:off x="285840" y="39290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w Cen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Na dwu wzajemnie prostopadłych (sąsiednich) ścianach prostopadłościanu naprężenia styczne prostopadłe do wspólnej krawędzi tych ścian są równe co do wartości bezwzględnej i zwrócone obydwa do lub obydwa od tej krawędzi (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aksjomat Boltzmann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2" name="Object 4"/>
          <p:cNvGraphicFramePr/>
          <p:nvPr/>
        </p:nvGraphicFramePr>
        <p:xfrm>
          <a:off x="3357720" y="5500800"/>
          <a:ext cx="201924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5500800"/>
                    <a:ext cx="2019240" cy="77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2071800" y="3286080"/>
            <a:ext cx="5072040" cy="29718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łaski stan naprężenia (PS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40B-6FCA-4FD8-A820-D5EF0079351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rostokąt 6"/>
          <p:cNvSpPr/>
          <p:nvPr/>
        </p:nvSpPr>
        <p:spPr>
          <a:xfrm>
            <a:off x="285840" y="2000160"/>
            <a:ext cx="8643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zważmy prostokątną tarczę poddaną oddziaływaniu dwóch wzajemnie prostopadłych wektorów naprężenia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 następnie wyznaczmy naprężenia w przekroju a-b odchylonym o kąt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od przekroju poprzecznego (oś 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3425760" y="1857240"/>
            <a:ext cx="5591160" cy="43434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łaski stan naprężenia (PS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B40F-6047-40D0-BB3D-85442DC10BD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rostokąt 6"/>
          <p:cNvSpPr/>
          <p:nvPr/>
        </p:nvSpPr>
        <p:spPr>
          <a:xfrm>
            <a:off x="285840" y="2000160"/>
            <a:ext cx="314316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Następnie, weźmy pod uwagę tylko lewą część tarczy, odciętą ukośnym przekrojem, a działanie części prawej zastąpmy przez składow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 wektora naprężenia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taki „układ podstawowy” możemy dalej rozumieć, jako superpozycję (sumę) dwóch układów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łaski stan naprężenia (PS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CD4F-5642-401E-BADE-FA1678314CE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181080" y="2289240"/>
            <a:ext cx="8756640" cy="3262320"/>
          </a:xfrm>
          <a:prstGeom prst="rect">
            <a:avLst/>
          </a:prstGeom>
          <a:ln w="0">
            <a:noFill/>
          </a:ln>
        </p:spPr>
      </p:pic>
      <p:sp>
        <p:nvSpPr>
          <p:cNvPr id="681" name="Prostokąt 8"/>
          <p:cNvSpPr/>
          <p:nvPr/>
        </p:nvSpPr>
        <p:spPr>
          <a:xfrm>
            <a:off x="1357200" y="56815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układ 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rostokąt 9"/>
          <p:cNvSpPr/>
          <p:nvPr/>
        </p:nvSpPr>
        <p:spPr>
          <a:xfrm>
            <a:off x="6090120" y="5681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układ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łaski stan naprężenia (PS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9CC-73E6-432C-8C5C-746BA25C79B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rostokąt 6"/>
          <p:cNvSpPr/>
          <p:nvPr/>
        </p:nvSpPr>
        <p:spPr>
          <a:xfrm>
            <a:off x="285840" y="2000160"/>
            <a:ext cx="8858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Zastosowanie wzoru (#) oraz zasady superpozycji pozwala uzyskać wyrażenia n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8" name="Object 2"/>
          <p:cNvGraphicFramePr/>
          <p:nvPr/>
        </p:nvGraphicFramePr>
        <p:xfrm>
          <a:off x="785880" y="2857680"/>
          <a:ext cx="74293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857680"/>
                    <a:ext cx="74293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"/>
          <p:cNvGraphicFramePr/>
          <p:nvPr/>
        </p:nvGraphicFramePr>
        <p:xfrm>
          <a:off x="2428920" y="4572000"/>
          <a:ext cx="385776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4572000"/>
                    <a:ext cx="38577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Prostokąt 9"/>
          <p:cNvSpPr/>
          <p:nvPr/>
        </p:nvSpPr>
        <p:spPr>
          <a:xfrm>
            <a:off x="277560" y="4572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zy czy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rostokąt 10"/>
          <p:cNvSpPr/>
          <p:nvPr/>
        </p:nvSpPr>
        <p:spPr>
          <a:xfrm>
            <a:off x="6520320" y="457200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stą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94" name="Object 4"/>
          <p:cNvGraphicFramePr/>
          <p:nvPr/>
        </p:nvGraphicFramePr>
        <p:xfrm>
          <a:off x="431640" y="5429160"/>
          <a:ext cx="40690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5429160"/>
                    <a:ext cx="4069080" cy="619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6" name="Object 5"/>
          <p:cNvGraphicFramePr/>
          <p:nvPr/>
        </p:nvGraphicFramePr>
        <p:xfrm>
          <a:off x="4714920" y="5214960"/>
          <a:ext cx="358128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5214960"/>
                    <a:ext cx="3581280" cy="1009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8" name="Prostokąt 13"/>
          <p:cNvSpPr/>
          <p:nvPr/>
        </p:nvSpPr>
        <p:spPr>
          <a:xfrm>
            <a:off x="8352720" y="5470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@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3929040" y="2146320"/>
            <a:ext cx="5011920" cy="4199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kreślna metoda wyznaczani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5167-0E10-4196-85BB-800719F4111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rostokąt 12"/>
          <p:cNvSpPr/>
          <p:nvPr/>
        </p:nvSpPr>
        <p:spPr>
          <a:xfrm>
            <a:off x="285840" y="214308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yrażenia (@) można przedstawić wykreślnie w prostokątnym układzie współrzędnych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za pomocą tzw.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koła Mohr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dla naprężeń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!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 obowiązuje następująca umow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05" name="Object 7"/>
          <p:cNvGraphicFramePr/>
          <p:nvPr/>
        </p:nvGraphicFramePr>
        <p:xfrm>
          <a:off x="928800" y="5286240"/>
          <a:ext cx="19684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5286240"/>
                    <a:ext cx="1968480" cy="571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5429160" y="2143080"/>
            <a:ext cx="3438720" cy="288144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2DE0-944C-4989-A7F7-738BCECAD76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rostokąt 12"/>
          <p:cNvSpPr/>
          <p:nvPr/>
        </p:nvSpPr>
        <p:spPr>
          <a:xfrm>
            <a:off x="285840" y="2143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czywiste są następujące zależnośc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12" name="Object 7"/>
          <p:cNvGraphicFramePr/>
          <p:nvPr/>
        </p:nvGraphicFramePr>
        <p:xfrm>
          <a:off x="357120" y="2643120"/>
          <a:ext cx="450072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643120"/>
                    <a:ext cx="45007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3"/>
          <p:cNvGraphicFramePr/>
          <p:nvPr/>
        </p:nvGraphicFramePr>
        <p:xfrm>
          <a:off x="357120" y="4071960"/>
          <a:ext cx="4567320" cy="9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4071960"/>
                    <a:ext cx="4567320" cy="98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Prostokąt 9"/>
          <p:cNvSpPr/>
          <p:nvPr/>
        </p:nvSpPr>
        <p:spPr>
          <a:xfrm>
            <a:off x="285840" y="51436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 prostych przekształceniach widać, że wzór (&amp;) jest tożsamy z (@a)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rostokąt 10"/>
          <p:cNvSpPr/>
          <p:nvPr/>
        </p:nvSpPr>
        <p:spPr>
          <a:xfrm>
            <a:off x="4914720" y="4286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&amp;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18" name="Object 4"/>
          <p:cNvGraphicFramePr/>
          <p:nvPr/>
        </p:nvGraphicFramePr>
        <p:xfrm>
          <a:off x="785880" y="5572080"/>
          <a:ext cx="6858000" cy="78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5572080"/>
                    <a:ext cx="6858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kreślna metoda wyznaczani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5286240" y="2071800"/>
            <a:ext cx="3268800" cy="27381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2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881-5BB8-44C8-A900-D7F26EFAC5F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rostokąt 12"/>
          <p:cNvSpPr/>
          <p:nvPr/>
        </p:nvSpPr>
        <p:spPr>
          <a:xfrm>
            <a:off x="285840" y="200016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dobni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26" name="Object 7"/>
          <p:cNvGraphicFramePr/>
          <p:nvPr/>
        </p:nvGraphicFramePr>
        <p:xfrm>
          <a:off x="571680" y="2357280"/>
          <a:ext cx="385740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2357280"/>
                    <a:ext cx="3857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3"/>
          <p:cNvGraphicFramePr/>
          <p:nvPr/>
        </p:nvGraphicFramePr>
        <p:xfrm>
          <a:off x="714240" y="3000240"/>
          <a:ext cx="34894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4240" y="3000240"/>
                    <a:ext cx="348948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0" name="Prostokąt 9"/>
          <p:cNvSpPr/>
          <p:nvPr/>
        </p:nvSpPr>
        <p:spPr>
          <a:xfrm>
            <a:off x="285840" y="414324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a więc uzyskano wzór zgodny z (@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kreślna metoda wyznaczani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rostokąt 11"/>
          <p:cNvSpPr/>
          <p:nvPr/>
        </p:nvSpPr>
        <p:spPr>
          <a:xfrm>
            <a:off x="0" y="485784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spółrzędne punktu N to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, tzn. składowe wektora naprężenia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rostokąt 14"/>
          <p:cNvSpPr/>
          <p:nvPr/>
        </p:nvSpPr>
        <p:spPr>
          <a:xfrm>
            <a:off x="0" y="521496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zekroje, w których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0 (punkty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i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 nazywa się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przekrojami głównymi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naprężenia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)) –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naprężeniami głównymi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 kierunki ich działania –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kierunkami głównymi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" descr=""/>
          <p:cNvPicPr/>
          <p:nvPr/>
        </p:nvPicPr>
        <p:blipFill>
          <a:blip r:embed="rId1"/>
          <a:stretch/>
        </p:blipFill>
        <p:spPr>
          <a:xfrm>
            <a:off x="4500720" y="2071800"/>
            <a:ext cx="4263840" cy="44002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062F-E06A-4845-9862-29EDC8A434C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rostokąt 12"/>
          <p:cNvSpPr/>
          <p:nvPr/>
        </p:nvSpPr>
        <p:spPr>
          <a:xfrm>
            <a:off x="1071720" y="2714760"/>
            <a:ext cx="2857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aki stan naprężenia, w którym na ściankach elementu/prostopadłościanu wyjętego myślowo z ciała, nie występują naprężenia normalne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, a jedynie naprężenia styczne (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, nazywa się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czystym ścinanie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 Mohra w przypadku czystego ścin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2857680" y="2428920"/>
            <a:ext cx="6225840" cy="36478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33B5-5B88-4B01-9794-79BB7F5CE0D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 Mohra w przypadku czystego ścin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rostokąt 10"/>
          <p:cNvSpPr/>
          <p:nvPr/>
        </p:nvSpPr>
        <p:spPr>
          <a:xfrm>
            <a:off x="214200" y="2643120"/>
            <a:ext cx="2714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ypadek taki ma miejsce np. w tarczy rozciąganej w kierunku 1 naprężeniam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y jednoczesnym ściskaniu takimi samymi (co do wartości bezwzględnej) naprężeniami </a:t>
            </a:r>
            <a:r>
              <a:rPr b="0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w kierunku prostopadłym, czyli w kierunku 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929200" y="2643120"/>
            <a:ext cx="2806920" cy="28828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14200" y="1600200"/>
            <a:ext cx="6072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Praca a moc momentu skręcającego (obrotowego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w Cen MT"/>
              </a:rPr>
              <a:t>Moc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siły </a:t>
            </a:r>
            <a:r>
              <a:rPr b="0" lang="pl-PL" sz="2200" spc="-1" strike="noStrike">
                <a:solidFill>
                  <a:srgbClr val="00b0f0"/>
                </a:solidFill>
                <a:latin typeface="Tw Cen MT"/>
              </a:rPr>
              <a:t>P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stycznej do wału (powodującej jego skręcenie/obrót) działającej na drodze łukowej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ds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w czasie dt wynosi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czyli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b0f0"/>
                </a:solidFill>
                <a:latin typeface="Tw Cen MT"/>
              </a:rPr>
              <a:t>Moc</a:t>
            </a:r>
            <a:r>
              <a:rPr b="0" lang="pl-PL" sz="2200" spc="-1" strike="noStrike">
                <a:solidFill>
                  <a:srgbClr val="00b0f0"/>
                </a:solidFill>
                <a:latin typeface="Tw Cen MT"/>
              </a:rPr>
              <a:t> momentu skręcającego/obrotowego jest równa iloczynowi tego momentu i prędkości kątowej skręcania/obrotu wał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5CAB-9A4A-4EF5-A7AB-E45E05501B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0" name="Object 3"/>
          <p:cNvGraphicFramePr/>
          <p:nvPr/>
        </p:nvGraphicFramePr>
        <p:xfrm>
          <a:off x="1571760" y="2928960"/>
          <a:ext cx="3139920" cy="11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2928960"/>
                    <a:ext cx="3139920" cy="1131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2" name="Object 5"/>
          <p:cNvGraphicFramePr/>
          <p:nvPr/>
        </p:nvGraphicFramePr>
        <p:xfrm>
          <a:off x="2286000" y="4572000"/>
          <a:ext cx="1789200" cy="6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4572000"/>
                    <a:ext cx="1789200" cy="657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2CE-E8DE-4BB2-8C01-03345C943C4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rostokąt 12"/>
          <p:cNvSpPr/>
          <p:nvPr/>
        </p:nvSpPr>
        <p:spPr>
          <a:xfrm>
            <a:off x="285840" y="2000160"/>
            <a:ext cx="86439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Wnioski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z analizy stanu naprężenia za pomocą koła Mohr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prężenia normalne/styczne w przekrojach ||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+18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są sobie odpowiednio równe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80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+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80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+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Naprężenia styczne w dwóch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rzekrojach są sobie równe, co do wartości liczbowej i zwrócone do lub od wspólnej krawędzi tych przekrojów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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90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+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uma naprężeń normalnych w dwóch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rzekrojach jest równa sumie naprężeń głównych (jest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niezmiennikiem stanu naprężenia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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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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Aby jednoznacznie określić stan naprężenia w punkcie (prostopadłościanie) znajdującym się w PSN wystarczy podać wartości naprężeń normalnych w dwóch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przekrojach oraz naprężenie styczne w jednym z tych przekrojów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Symbol zastępczy zawartości 4"/>
          <p:cNvSpPr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Wykreślna metoda wyznaczani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aca a moc momentu skręcającego (obrotowego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Użyteczne są podane niżej wzory (dla jednostajnego ruchu obrotowego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, a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stąd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ACA-E112-4B5F-8B54-22EFC7E5F17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8" name="Object 3"/>
          <p:cNvGraphicFramePr/>
          <p:nvPr/>
        </p:nvGraphicFramePr>
        <p:xfrm>
          <a:off x="785880" y="3071880"/>
          <a:ext cx="3143160" cy="12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071880"/>
                    <a:ext cx="3143160" cy="1271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0" name="Object 5"/>
          <p:cNvGraphicFramePr/>
          <p:nvPr/>
        </p:nvGraphicFramePr>
        <p:xfrm>
          <a:off x="5715000" y="3071880"/>
          <a:ext cx="262260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071880"/>
                    <a:ext cx="2622600" cy="1203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2" name="Object 4"/>
          <p:cNvGraphicFramePr/>
          <p:nvPr/>
        </p:nvGraphicFramePr>
        <p:xfrm>
          <a:off x="1500120" y="4786200"/>
          <a:ext cx="607212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0120" y="4786200"/>
                    <a:ext cx="6072120" cy="1393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3143160" y="2143080"/>
            <a:ext cx="5929560" cy="4151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214200" y="1599840"/>
            <a:ext cx="8715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085E-71DD-4B16-B190-B9E0688223B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Symbol zastępczy zawartości 4"/>
          <p:cNvSpPr/>
          <p:nvPr/>
        </p:nvSpPr>
        <p:spPr>
          <a:xfrm>
            <a:off x="142920" y="2286000"/>
            <a:ext cx="3000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są to zagadnienia, w których liczba niewiadomych (momentów wewnętrznych) jest większa niż jeden, gdyż jest tylko jedno równanie statyki, tzn. suma momentów względem osi wału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0" name="Object 2"/>
          <p:cNvGraphicFramePr/>
          <p:nvPr/>
        </p:nvGraphicFramePr>
        <p:xfrm>
          <a:off x="785880" y="5429160"/>
          <a:ext cx="190332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5429160"/>
                    <a:ext cx="1903320" cy="728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5357880" cy="34034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8725-50A5-4C8E-8947-33485A5A82D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7" name="Object 2"/>
          <p:cNvGraphicFramePr/>
          <p:nvPr/>
        </p:nvGraphicFramePr>
        <p:xfrm>
          <a:off x="357120" y="2214720"/>
          <a:ext cx="4429080" cy="59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214720"/>
                    <a:ext cx="4429080" cy="595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9" name="Symbol zastępczy zawartości 4"/>
          <p:cNvSpPr/>
          <p:nvPr/>
        </p:nvSpPr>
        <p:spPr>
          <a:xfrm>
            <a:off x="214200" y="3143160"/>
            <a:ext cx="3500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agadnienie jest jednokrotnie statycznie niewyznaczal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dodatkowe równanie to równanie odkształceń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0" name="Object 3"/>
          <p:cNvGraphicFramePr/>
          <p:nvPr/>
        </p:nvGraphicFramePr>
        <p:xfrm>
          <a:off x="1123920" y="5214960"/>
          <a:ext cx="194796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3920" y="5214960"/>
                    <a:ext cx="1947960" cy="836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398520" y="2622600"/>
            <a:ext cx="7316640" cy="37018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0BA-7767-4150-8898-C90C491834E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rostokąt 6"/>
          <p:cNvSpPr/>
          <p:nvPr/>
        </p:nvSpPr>
        <p:spPr>
          <a:xfrm>
            <a:off x="4286160" y="2071800"/>
            <a:ext cx="4643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zekrój obciążony momentem </a:t>
            </a:r>
            <a:r>
              <a:rPr b="0" i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w Cen MT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obróci się o kąt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ale końce wału pozostaną nierucho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4071960" y="2158920"/>
            <a:ext cx="4986360" cy="41277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1A0E-3A07-420F-B1AE-BE5772A52CE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rostokąt 6"/>
          <p:cNvSpPr/>
          <p:nvPr/>
        </p:nvSpPr>
        <p:spPr>
          <a:xfrm>
            <a:off x="214200" y="250020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Gdy współrzęd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leży do przedziału &l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&gt;, wówczas moment wewnętrzny wynosi </a:t>
            </a:r>
            <a:r>
              <a:rPr b="0" i="1" lang="pl-PL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299880" y="4143240"/>
          <a:ext cx="3519720" cy="11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" y="4143240"/>
                    <a:ext cx="3519720" cy="1132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76320" y="2095560"/>
            <a:ext cx="5424480" cy="32734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214200" y="1600200"/>
            <a:ext cx="8715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Statycznie niewyznaczalne przypadki skręca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327-38C9-49E2-8C3A-64DDB7F35AF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rostokąt 6"/>
          <p:cNvSpPr/>
          <p:nvPr/>
        </p:nvSpPr>
        <p:spPr>
          <a:xfrm>
            <a:off x="5786280" y="2643120"/>
            <a:ext cx="3357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Gdy zaś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zawiera się pomiędzy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, wówczas moment wewnętrzny wynosi </a:t>
            </a:r>
            <a:r>
              <a:rPr b="0" i="1" lang="pl-PL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</a:t>
            </a:r>
            <a:r>
              <a:rPr b="0" lang="pl-PL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2" name="Object 2"/>
          <p:cNvGraphicFramePr/>
          <p:nvPr/>
        </p:nvGraphicFramePr>
        <p:xfrm>
          <a:off x="4854600" y="4500720"/>
          <a:ext cx="407520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4600" y="4500720"/>
                    <a:ext cx="4075200" cy="1573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2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