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wmf" ContentType="image/x-wmf"/>
  <Override PartName="/ppt/media/image19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30.wmf" ContentType="image/x-wmf"/>
  <Override PartName="/ppt/media/image5.wmf" ContentType="image/x-wmf"/>
  <Override PartName="/ppt/media/image35.wmf" ContentType="image/x-wmf"/>
  <Override PartName="/ppt/media/image27.jpeg" ContentType="image/jpeg"/>
  <Override PartName="/ppt/media/image13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29.png" ContentType="image/png"/>
  <Override PartName="/ppt/media/image32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5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6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7BA8-4B17-4B68-8FD4-D58E65A2E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CE4C-6585-48AF-8227-E49D871CC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AE58-0092-44CE-914D-D973AE6DE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8619-44F5-4E6B-A4E1-A76C0DC65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2F8D-2718-49B7-97B3-69B4A3079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7655-F92B-481C-B156-7FB4EB716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70EE-0531-4763-9FA4-B44D85CF2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CBF3-2F0D-4C81-8BD6-2813F1362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66C3-AC47-46FE-8883-4B71A19D0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ABCE-0E04-4C45-B51F-A292645CD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68A6-08AB-450C-BF0D-E8BB9AAFE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E487-CF53-46DD-8F3E-F23523B43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7E2D-21FB-4A17-A923-EBFE81F0D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CD5B-6279-4513-86C6-1DB22B85E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63E3-BD89-4344-90C9-F6EC23E5B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A05F-E6EC-45F9-A938-1F266B991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75CD-BCC7-441F-89E5-CE2731F16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2151-E080-4883-A548-67F01903F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0C4E-6ED0-40B5-8A4E-052856361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487C-4FCF-4259-886B-D357015A5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8B75-F4F8-4DC2-984C-F4162821C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67E9-1EF9-4547-AF2B-57734A9D5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22DD-0E85-43AC-A220-2E294E9B7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48B9-B278-4D3E-BA09-9FD71B5E9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371C-E527-4D31-8086-F80F92DD3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7065-8A7E-4280-B9A4-0A8854E08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EFD-A725-4553-BAC6-8BA67DA5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C27-B5A5-401C-9EB2-BAA3B0D1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8E5C7-F827-4002-AA0A-8F38AB3E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7663F-CE94-4B47-A3C4-6E2347C1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80547-CF0D-45B7-8BE1-F0E09F7D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1BF77-A537-4763-90E5-2E20C5F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B3C1B-2E07-4179-A791-69195CD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BE51D-1C57-46DD-AAB9-F662452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8AFE5-6475-4209-9249-BEBFC368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2647E-E312-4EDD-B175-E6432850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FCB2D-9F07-49F6-8E97-3FEE1B78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9D3674-D96F-4CC5-95CA-C814EFC0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E53-3E5D-4DC7-94E4-3ABDC225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6E23E5-F24E-4297-999C-A972ADB9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1141E6-392A-4F8C-8B4E-31E728CB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1648FA-F4E1-4661-9D95-32A05571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E3033A-A859-4EF3-9586-405CA861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883899-0B94-47CC-AFC5-465AEC2A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7952E9-0950-484B-8EFD-3DC8EC9C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DAB80D-CD26-470F-B681-821DA65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272924-DD4D-432D-9372-4B47ABD8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241898-E479-4DF9-A216-67CF16DD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2F3E9A-D946-40F3-BD61-4C2DE9E0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51B-6FEF-411A-B230-9ABE6DA6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0C444E-3690-49A2-BF19-32EE45E7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4B80F-11B5-432F-BF85-FBF1D335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A2D10-7B0A-4986-B69B-982FE52E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F1247-3FB5-42F0-8306-4CE81218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B090E-FC1D-4F9E-AFB6-D242E04E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23F88-4B75-4A2B-BCD6-F838EC10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CA64F-85AF-44CB-8000-E31079C3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39595-146A-4691-BC02-C07821EA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C20B8-6E12-47F8-876E-5FDFC1D0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CDB56-27A0-45F8-A10A-F318C76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637B-CE69-42E9-86C3-08E54207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1D7E7-8DA3-484F-BEF7-874C6DEB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9C781-7F3A-45BA-827E-8B9A69DE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474A6-090F-493F-85D8-592DF882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CA82-AB69-47B4-B655-D162AF62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9AAE-B272-44BD-A62F-AEECB3F3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E5BB-D44B-4734-9128-A0C4CF98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94DC-6E76-4E57-B421-199622B3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7CF3-07A4-4518-958B-5E3D9037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FA63-3CCB-4B8E-ACC6-249800C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0C8-46BA-41AA-802C-DD949F24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129B-0434-4525-B190-36E6B439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7A02-1CEA-494F-8BDF-A36DFB0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3264-74B8-4B33-9748-F6146C06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AC60-003D-4999-A5BF-65E1EFB6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B923-9DE1-412D-AAF9-37E68CD0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266B-859B-4F15-BAD4-532C2825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E575-DFCC-4F90-914F-3F3BEE37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84A9E-9F81-4F92-AEC4-D0309869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AF18-1EF1-426F-982F-4659A8D5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3568-F89C-4340-99E0-636625C4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1FC-04EC-4FB3-878A-530A102A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690A-8195-479C-89DE-2BFBC2D1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26D1-217D-47F0-AC3D-749129C0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0A515-0493-4EE6-9BD6-1C6DFD91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2F112-BC98-4E93-966B-619CA7D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568C-D384-432D-B360-FAC0361E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42585-65B7-4F3F-A74C-9A947E7E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A0012-2492-4047-BEC0-CA1911C6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13762-0774-46D8-8E0E-1BB36AAF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887D6-6A0E-4BBC-96D1-3BF17E98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CD744-7453-4882-87D7-E10AF35E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5A8-2E7B-402F-8FC1-13AA74C1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91476-495A-42B3-A0D5-4A64C689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5706F-5A66-4385-B7F5-266A9C73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EB9C2-0CE1-4F78-8524-3D803443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74631-6FB4-4018-AC98-C350F2CB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D1DEB-DAA5-45EB-BEC0-42D0A4B6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78BC6-54FF-45FC-B3E2-6641001A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9DC0B-E9C8-459A-B191-3F12A83D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65672-3C35-409F-BBE3-1A96C654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0A3D1-F82C-41C6-8AEE-FEDD734C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2361B-CBDB-4F50-8C8A-72CCEAC8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D2E-F93A-422F-8AEB-FAF5EA19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4C5CB-F6C5-4EE5-9D81-785D0F92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B3F8E-6D89-460D-994C-299F3CCD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EF58A-3656-4256-A46F-4C9044F1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76D724-203C-48F6-8D39-4C22CA18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C02DC-B9DA-48B4-902A-086EAC5D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5D44A-C041-42F0-A7F5-1C21D5C2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DE09E-8B2F-4739-AEB0-A75649FC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3F44A-70DD-4E44-B4D8-DDD32CE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4E934-8D88-46CD-A9C2-7E49F0EA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D5C2B-C9F5-4382-B2BD-7E7870EE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A11-399C-4D10-8E08-BFBB43B6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B781B-F674-4FF4-91C8-FF55BEAD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D6340-30EA-4F9A-8CE2-62C0053D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CE5A7-A2BC-464E-919B-4D9B382F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CC914-7E4D-43AA-A700-7B5EA0D2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C3305-CF6C-45A6-ACAA-75B4BF01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C25E4-241B-4F16-BBA6-969C6ACA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F3D98-8DB9-4A0C-81EC-CBC663B2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9C802-5385-45CE-AC00-AEBFC737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9B305-7AF0-4BAB-8058-3BFFB6E5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7A1EE-FD7D-4BEA-8B72-7BBD8DBF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10A-60E9-49AF-AC4D-903E982D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ABD70-E3D2-455F-9AF9-AD8E1B79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BBA8CF-5E8B-4AAA-AF5D-7EA2AC69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3FA3D-6EB8-4D6E-A493-3128B547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6E7F2-A5CB-43CD-8BB2-EC11B812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1D58B-C26F-4081-8B1D-45DCB3E0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83DF0-2E73-4F57-AD36-19A60684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EFE9-F582-4149-9470-29506A45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E6269-7CE4-489B-891E-18A34A51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B56DA-A87F-4767-83A9-104A166A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5A50F-5DC3-41F4-B88F-BFE5332E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E2F-D97F-4EA8-9D61-49F8B21C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FF482-9845-43A2-B20C-17E3723D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60B35-6A1A-4C37-9D3A-E997F11D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2E676-B70D-4A17-A3E0-C1C3D074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D333F-2E9F-4745-B881-C38BAEE7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75646-DAAD-49DF-B423-4272984A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7C8B0-949A-42C1-B56B-A037DC26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F4312-3051-45E7-963D-FABFDA39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A8D5E-1536-4093-9479-7BBD5C6C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89B27-3BC2-4B95-8F7F-318369BE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91E04-EE22-4E28-970F-3EEBC41E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62B-CDDF-469C-8698-02EF423D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918EB-F7AD-4C1E-AD0A-44DF001D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93F4A-9FCB-48FE-ABDA-C8B9A542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81640-6C3D-467B-B7D1-9BC2A865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24D29-7B02-466F-906A-CFCEC20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EFB76-F6F8-4C3E-B30A-7AFA24CD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996FF-F41E-490B-B34F-71658E03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23536-64A3-4362-AB9E-27D5BA6C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C293C-4E90-46C6-A3F5-454F9042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613B4-FE23-47CC-B1E0-52999A0C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78066-D22E-4EE0-BEA6-38F2E8C3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9851-D7A4-40CD-BF9E-7DB9AE3C47A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DDB68363-7853-43F8-AD93-63BABBFD6F3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F669-7369-4DC2-912E-C8B310FB6132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8683-B71E-4463-8DDD-C785ABD68BA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152F093-AF3F-4CDC-A8D3-748291EAAF0B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2014-924F-4505-96C3-F6D73A0963B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70F6-9FF4-43FD-8C8F-F1ADEE2E394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DA2361CC-EE85-4FDD-B33B-864FAE76F204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D0CD-B7E4-44AB-98CF-33CC3EA38243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2608-1642-4914-9A1D-0EB8AA13F889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3221115-2D4F-4ED3-A699-EF9547CB72F3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54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eece1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C8A4-0225-40FE-AA7F-2BAF64B626BA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2ECC-55B6-4C8D-8E8E-2A2504DE903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28CB39A0-F749-4357-B220-8A7308EAB73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77A7-3B53-453B-AE3B-9458E23E9A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834B-A26E-4FDE-B0B0-C3A7E3B0C79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B77B0DB-2ABD-499A-98F8-C6323CBDE7C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D64D-F9FF-44BB-B0A4-1987AC1AF5D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E7DE-1950-4213-A09F-56781053C4C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7D1A2FD-407A-43EE-A6F3-DBFF136A7317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548C-E025-4194-9189-59D000AB35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2F7A-AB92-40E8-A290-DF1126872F8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77C5679-5F36-4295-84C0-A63FAD6572A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EBC9-DFFB-4AC8-882C-8EBB24B351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F98A-657C-4471-83EE-DB0316C0CE6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858D148-2A12-47BA-BC5E-E2F691227AA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A15E-4D81-4FEB-935F-D54D3537E3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143B-1F00-4A14-A1F5-8EEAC315BCA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294E9DA1-1160-4DCF-877C-5DB417F6830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803F-2BF6-4ED6-A4E7-AAA5C2DD23E7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E83F-AFD2-41A9-BCD7-83759860733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F96B0B1-DAA3-4486-A660-783CB73CCED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F9DA-8136-4A0B-B120-643A66DA17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eece1"/>
                </a:solidFill>
                <a:latin typeface="Tw Cen MT"/>
              </a:rPr>
              <a:t>WYTRZYMAŁOŚĆ MATERIAŁÓW - CZ. 1</a:t>
            </a:r>
            <a:br>
              <a:rPr sz="32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WYKŁADY DLA STUDENTÓW</a:t>
            </a:r>
            <a:br>
              <a:rPr sz="24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STUDIÓW DZIENNYCH, MIBM</a:t>
            </a:r>
            <a:endParaRPr b="0" lang="en-US" sz="2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Opracował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Dr inż. Sylwester Samborski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Tw Cen MT"/>
              </a:rPr>
              <a:t>Zagadnienie obciążenia pręta ciężarem własnym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47240" y="1588680"/>
            <a:ext cx="54961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Pręt jednorodny, rozciągany </a:t>
            </a: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wyłącznie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ciężarem </a:t>
            </a:r>
            <a:r>
              <a:rPr b="0" lang="pl-PL" sz="2700" spc="-1" strike="noStrike">
                <a:solidFill>
                  <a:srgbClr val="00b0f0"/>
                </a:solidFill>
                <a:latin typeface="Tw Cen MT"/>
              </a:rPr>
              <a:t>własny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Dane: E,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– ciężar </a:t>
            </a:r>
            <a:r>
              <a:rPr b="0" lang="pl-PL" sz="2700" spc="-1" strike="noStrike">
                <a:solidFill>
                  <a:srgbClr val="ffc000"/>
                </a:solidFill>
                <a:latin typeface="Tw Cen MT"/>
              </a:rPr>
              <a:t>właściwy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Wydłużenie odcinka („plasterka”) o długości </a:t>
            </a:r>
            <a:r>
              <a:rPr b="0" i="1" lang="pl-PL" sz="27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x wynosi, zgodnie z prawem Hooke’a: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Qx jest ciężarem dolnej (szarej) części prę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52D4-A2AC-44D9-902F-F1B9EFF7AC5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71" name="Object 3"/>
          <p:cNvGraphicFramePr/>
          <p:nvPr/>
        </p:nvGraphicFramePr>
        <p:xfrm>
          <a:off x="4500720" y="2143080"/>
          <a:ext cx="78552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43080"/>
                    <a:ext cx="78552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5"/>
          <p:cNvGraphicFramePr/>
          <p:nvPr/>
        </p:nvGraphicFramePr>
        <p:xfrm>
          <a:off x="428760" y="4143240"/>
          <a:ext cx="50306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760" y="4143240"/>
                    <a:ext cx="5030640" cy="1143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75" name="Picture 6" descr=""/>
          <p:cNvPicPr/>
          <p:nvPr/>
        </p:nvPicPr>
        <p:blipFill>
          <a:blip r:embed="rId5"/>
          <a:stretch/>
        </p:blipFill>
        <p:spPr>
          <a:xfrm>
            <a:off x="5819760" y="2286000"/>
            <a:ext cx="33242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Tw Cen MT"/>
              </a:rPr>
              <a:t>Zagadnienie obciążenia pręta ciężarem własnym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47240" y="1588680"/>
            <a:ext cx="87822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Całkowite wydłużenie pręta (suma wydłużeń nieskończonej liczby elementarnych odcinków </a:t>
            </a:r>
            <a:r>
              <a:rPr b="0" i="1" lang="pl-PL" sz="28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x w zakresie całej długości pręta (od zera do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) wynosi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030a0"/>
                </a:solidFill>
                <a:latin typeface="Tw Cen MT"/>
              </a:rPr>
              <a:t>Wniosek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: wydłużenie spowodowane ciężarem własnym pręta jest równe wydłużeniu, jakie wywołałaby siła równa ciężarowi pręta (np. </a:t>
            </a:r>
            <a:r>
              <a:rPr b="1" i="1" lang="pl-PL" sz="28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 [N]) przyłożona w środku ciężkości pręt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C071-84A4-4337-A03A-083EC506F7F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80" name="Object 5"/>
          <p:cNvGraphicFramePr/>
          <p:nvPr/>
        </p:nvGraphicFramePr>
        <p:xfrm>
          <a:off x="214200" y="3000240"/>
          <a:ext cx="8666280" cy="15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3000240"/>
                    <a:ext cx="8666280" cy="154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Statyczna próba rozciąga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3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5E0F-445A-4187-A63D-712C40678C5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3840" y="1642680"/>
            <a:ext cx="85726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Próba rozciągania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jest podstawowym doświadczeniem w wytrzymałości materiałów mającym doprowadzić do </a:t>
            </a: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określenia właściwości mechanicznych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materiału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Najszersze zastosowanie w budowie maszyn mają </a:t>
            </a: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stale niskowęglowe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, tj. stopy żelaza z węglem o zawartości C do 0,3%. Są to stale miękkie, nie dające się hartować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6" name="Picture 1" descr=""/>
          <p:cNvPicPr/>
          <p:nvPr/>
        </p:nvPicPr>
        <p:blipFill>
          <a:blip r:embed="rId1"/>
          <a:stretch/>
        </p:blipFill>
        <p:spPr>
          <a:xfrm>
            <a:off x="928800" y="3786120"/>
            <a:ext cx="7056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Statyczna próba rozciąga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8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A163-2B15-4452-98E7-3006365BF4E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387600" y="1643040"/>
            <a:ext cx="5756400" cy="49291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0" y="1642680"/>
            <a:ext cx="36432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Tw Cen MT"/>
              </a:rPr>
              <a:t>Wykres rozciągania stali niskowęglowej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b050"/>
                </a:solidFill>
                <a:latin typeface="Symbol"/>
                <a:ea typeface="Symbol"/>
              </a:rPr>
              <a:t></a:t>
            </a:r>
            <a:r>
              <a:rPr b="0" lang="pl-PL" sz="1500" spc="-1" strike="noStrike">
                <a:solidFill>
                  <a:srgbClr val="00b050"/>
                </a:solidFill>
                <a:latin typeface="Tw Cen MT"/>
              </a:rPr>
              <a:t>prop </a:t>
            </a:r>
            <a:r>
              <a:rPr b="0" lang="pl-PL" sz="2400" spc="-1" strike="noStrike">
                <a:solidFill>
                  <a:srgbClr val="00b050"/>
                </a:solidFill>
                <a:latin typeface="Tw Cen MT"/>
              </a:rPr>
              <a:t>(R</a:t>
            </a:r>
            <a:r>
              <a:rPr b="0" lang="pl-PL" sz="1000" spc="-1" strike="noStrike">
                <a:solidFill>
                  <a:srgbClr val="00b050"/>
                </a:solidFill>
                <a:latin typeface="Tw Cen MT"/>
              </a:rPr>
              <a:t>H</a:t>
            </a:r>
            <a:r>
              <a:rPr b="0" lang="pl-PL" sz="2400" spc="-1" strike="noStrike">
                <a:solidFill>
                  <a:srgbClr val="00b050"/>
                </a:solidFill>
                <a:latin typeface="Tw Cen MT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- </a:t>
            </a:r>
            <a:r>
              <a:rPr b="0" lang="pl-PL" sz="2400" spc="-1" strike="noStrike">
                <a:solidFill>
                  <a:srgbClr val="00b050"/>
                </a:solidFill>
                <a:latin typeface="Tw Cen MT"/>
              </a:rPr>
              <a:t>granica proporcjonalności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stosowalności prawa Hooke’a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b0f0"/>
                </a:solidFill>
                <a:latin typeface="Symbol"/>
                <a:ea typeface="Symbol"/>
              </a:rPr>
              <a:t></a:t>
            </a:r>
            <a:r>
              <a:rPr b="0" lang="pl-PL" sz="1700" spc="-1" strike="noStrike">
                <a:solidFill>
                  <a:srgbClr val="00b0f0"/>
                </a:solidFill>
                <a:latin typeface="Tw Cen MT"/>
              </a:rPr>
              <a:t>spr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- </a:t>
            </a:r>
            <a:r>
              <a:rPr b="0" lang="pl-PL" sz="2400" spc="-1" strike="noStrike">
                <a:solidFill>
                  <a:srgbClr val="00b0f0"/>
                </a:solidFill>
                <a:latin typeface="Tw Cen MT"/>
              </a:rPr>
              <a:t>umowna granica sprężystości</a:t>
            </a:r>
            <a:r>
              <a:rPr b="0" lang="pl-PL" sz="1700" spc="-1" strike="noStrike">
                <a:solidFill>
                  <a:srgbClr val="00b0f0"/>
                </a:solidFill>
                <a:latin typeface="Tw Cen MT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czyli wartość naprężenia powodująca trwałe wydłużenie o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=0,001%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 praktyce przyjmuje się </a:t>
            </a:r>
            <a:r>
              <a:rPr b="0" lang="pl-PL" sz="2500" spc="-1" strike="noStrike">
                <a:solidFill>
                  <a:srgbClr val="00b050"/>
                </a:solidFill>
                <a:latin typeface="Symbol"/>
                <a:ea typeface="Symbol"/>
              </a:rPr>
              <a:t></a:t>
            </a:r>
            <a:r>
              <a:rPr b="0" lang="pl-PL" sz="1800" spc="-1" strike="noStrike">
                <a:solidFill>
                  <a:srgbClr val="00b050"/>
                </a:solidFill>
                <a:latin typeface="Tw Cen MT"/>
              </a:rPr>
              <a:t>prop</a:t>
            </a:r>
            <a:r>
              <a:rPr b="0" lang="pl-PL" sz="2700" spc="-1" strike="noStrike">
                <a:solidFill>
                  <a:srgbClr val="00b050"/>
                </a:solidFill>
                <a:latin typeface="Tw Cen MT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500" spc="-1" strike="noStrike">
                <a:solidFill>
                  <a:srgbClr val="00b0f0"/>
                </a:solidFill>
                <a:latin typeface="Tw Cen MT"/>
              </a:rPr>
              <a:t> </a:t>
            </a:r>
            <a:r>
              <a:rPr b="0" lang="pl-PL" sz="2500" spc="-1" strike="noStrike">
                <a:solidFill>
                  <a:srgbClr val="00b0f0"/>
                </a:solidFill>
                <a:latin typeface="Symbol"/>
                <a:ea typeface="Symbol"/>
              </a:rPr>
              <a:t></a:t>
            </a:r>
            <a:r>
              <a:rPr b="0" lang="pl-PL" sz="1800" spc="-1" strike="noStrike">
                <a:solidFill>
                  <a:srgbClr val="00b0f0"/>
                </a:solidFill>
                <a:latin typeface="Tw Cen MT"/>
              </a:rPr>
              <a:t>spr</a:t>
            </a:r>
            <a:r>
              <a:rPr b="0" lang="pl-PL" sz="3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Statyczna próba rozciąga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CB61-260C-427D-92BD-91D1D3ECFF0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3387600" y="1643040"/>
            <a:ext cx="5756400" cy="49291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0" y="1642680"/>
            <a:ext cx="36432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Wykres rozciągania stali niskowęglowej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Tw Cen MT"/>
              </a:rPr>
              <a:t>R</a:t>
            </a:r>
            <a:r>
              <a:rPr b="0" lang="pl-PL" sz="1800" spc="-1" strike="noStrike">
                <a:solidFill>
                  <a:srgbClr val="ff0000"/>
                </a:solidFill>
                <a:latin typeface="Tw Cen MT"/>
              </a:rPr>
              <a:t>e</a:t>
            </a: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 - </a:t>
            </a:r>
            <a:r>
              <a:rPr b="0" lang="pl-PL" sz="2600" spc="-1" strike="noStrike">
                <a:solidFill>
                  <a:srgbClr val="ff0000"/>
                </a:solidFill>
                <a:latin typeface="Tw Cen MT"/>
              </a:rPr>
              <a:t>granica plastyczności</a:t>
            </a: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: na odcinku CD odkształcenie </a:t>
            </a:r>
            <a:r>
              <a:rPr b="0" lang="pl-PL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 rośnie przy niemal stałej wartości naprężenia </a:t>
            </a:r>
            <a:r>
              <a:rPr b="0" lang="pl-PL" sz="2600" spc="-1" strike="noStrike">
                <a:solidFill>
                  <a:srgbClr val="000000"/>
                </a:solidFill>
                <a:latin typeface="Symbol"/>
                <a:ea typeface="Symbol"/>
              </a:rPr>
              <a:t>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jest to tzw. </a:t>
            </a:r>
            <a:r>
              <a:rPr b="0" lang="pl-PL" sz="2200" spc="-1" strike="noStrike">
                <a:solidFill>
                  <a:srgbClr val="ff0000"/>
                </a:solidFill>
                <a:latin typeface="Arial"/>
                <a:ea typeface="Arial"/>
              </a:rPr>
              <a:t>płynięcie plastyczn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, powodujące trwałe zmiany struktury materiał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Statyczna próba rozciąga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8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6A84-98B7-4B7B-992E-B497020E85D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0" name="Picture 3" descr=""/>
          <p:cNvPicPr/>
          <p:nvPr/>
        </p:nvPicPr>
        <p:blipFill>
          <a:blip r:embed="rId1"/>
          <a:stretch/>
        </p:blipFill>
        <p:spPr>
          <a:xfrm>
            <a:off x="3387600" y="1643040"/>
            <a:ext cx="5756400" cy="49291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 txBox="1"/>
          <p:nvPr/>
        </p:nvSpPr>
        <p:spPr>
          <a:xfrm>
            <a:off x="0" y="1642680"/>
            <a:ext cx="36432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Wykres rozciągania stali niskowęglowe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66"/>
                </a:solidFill>
                <a:latin typeface="Tw Cen MT"/>
              </a:rPr>
              <a:t>R</a:t>
            </a:r>
            <a:r>
              <a:rPr b="0" lang="pl-PL" sz="1500" spc="-1" strike="noStrike">
                <a:solidFill>
                  <a:srgbClr val="ff0066"/>
                </a:solidFill>
                <a:latin typeface="Tw Cen MT"/>
              </a:rPr>
              <a:t>m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pl-PL" sz="2200" spc="-1" strike="noStrike">
                <a:solidFill>
                  <a:srgbClr val="ff0066"/>
                </a:solidFill>
                <a:latin typeface="Tw Cen MT"/>
              </a:rPr>
              <a:t>wytrzymałość doraźna na rozciąganie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, czyli największe naprężenia, jakie mogła przenieść rozciągana próbk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na odcinku DK </a:t>
            </a:r>
            <a:r>
              <a:rPr b="0" i="1" lang="pl-PL" sz="22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i="1" lang="pl-PL" sz="22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 jest kilkaset razy mniejsze niż na odcinku 0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na odcinku KL następuje przewężenie próbki rozciąganej (tzw. </a:t>
            </a: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szyjka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), a następnie zerwani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Statyczna próba rozciąga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3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1236-131F-4596-AE95-076A47BE426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0" y="1642680"/>
            <a:ext cx="4500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Dla większości metali i stopów (stale o zaw. C pow. 0,4%, stale stopowe, miedź, aluminium i ich stopy)nie obserwuje się wyraźnej granicy plastyczności (brak odcinka CD). Wówczas wprowadza się tzw. </a:t>
            </a:r>
            <a:r>
              <a:rPr b="0" lang="pl-PL" sz="2000" spc="-1" strike="noStrike">
                <a:solidFill>
                  <a:srgbClr val="ff0000"/>
                </a:solidFill>
                <a:latin typeface="Tw Cen MT"/>
              </a:rPr>
              <a:t>umowną granicę plastyczności R</a:t>
            </a:r>
            <a:r>
              <a:rPr b="0" lang="pl-PL" sz="1300" spc="-1" strike="noStrike">
                <a:solidFill>
                  <a:srgbClr val="ff0000"/>
                </a:solidFill>
                <a:latin typeface="Tw Cen MT"/>
              </a:rPr>
              <a:t>0,2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czyli naprężenie, przy którym trwałe odkształce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0,2%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jawiskopodniesienia granicy sprężystości=</a:t>
            </a:r>
            <a:r>
              <a:rPr b="0" lang="pl-PL" sz="2000" spc="-1" strike="noStrike">
                <a:solidFill>
                  <a:srgbClr val="ff0000"/>
                </a:solidFill>
                <a:latin typeface="Tw Cen MT"/>
              </a:rPr>
              <a:t>umocnienie plastyczne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– moduł Younga bez zmi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dla innych metali i stopów wprowadza się jeszcze tzw. </a:t>
            </a:r>
            <a:r>
              <a:rPr b="0" lang="pl-PL" sz="2000" spc="-1" strike="noStrike">
                <a:solidFill>
                  <a:srgbClr val="ff0000"/>
                </a:solidFill>
                <a:latin typeface="Tw Cen MT"/>
              </a:rPr>
              <a:t>umowną granicę sprężystości R</a:t>
            </a:r>
            <a:r>
              <a:rPr b="0" lang="pl-PL" sz="1300" spc="-1" strike="noStrike">
                <a:solidFill>
                  <a:srgbClr val="ff0000"/>
                </a:solidFill>
                <a:latin typeface="Tw Cen MT"/>
              </a:rPr>
              <a:t>0,05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; jest to naprężenie powodujące wystąpienie w materiale  odkształceń trwałych o wartości 0,05%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4429080" y="1571760"/>
            <a:ext cx="44956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Uniwersalna zrywarka ZwickZ100 w Lab. Wytrzymałości Materiałów KMS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8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5527-2B9B-4569-AC3B-7F10F34E640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0" name="Picture 2" descr="D:\Mojedoku\Doktorat\Badania\Al2O3\FotoAlu\2_2.JPG"/>
          <p:cNvPicPr/>
          <p:nvPr/>
        </p:nvPicPr>
        <p:blipFill>
          <a:blip r:embed="rId1"/>
          <a:stretch/>
        </p:blipFill>
        <p:spPr>
          <a:xfrm>
            <a:off x="696960" y="1500120"/>
            <a:ext cx="3589200" cy="47865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2" name="Picture 5" descr="D:\Sylwek\Zdjecia\2005\ja_i_Z100.jpg"/>
          <p:cNvPicPr/>
          <p:nvPr/>
        </p:nvPicPr>
        <p:blipFill>
          <a:blip r:embed="rId2"/>
          <a:stretch/>
        </p:blipFill>
        <p:spPr>
          <a:xfrm>
            <a:off x="4857840" y="150012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Próby ściskania – wykresy podobne do wykresów z prób rozciąga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4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847F-35DF-4528-AC3B-04A2805C1DD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7" name="Picture 3" descr="D:\Mojedoku\Doktorat\Badania\Al2O3\FotoAlu\IM000006.JPG"/>
          <p:cNvPicPr/>
          <p:nvPr/>
        </p:nvPicPr>
        <p:blipFill>
          <a:blip r:embed="rId1"/>
          <a:srcRect l="22501" t="0" r="22501" b="0"/>
          <a:stretch/>
        </p:blipFill>
        <p:spPr>
          <a:xfrm>
            <a:off x="357120" y="1500120"/>
            <a:ext cx="3429000" cy="46753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D:\Mojedoku\Doktorat\Badania\MgO\FotoMag\m24_3.JPG"/>
          <p:cNvPicPr/>
          <p:nvPr/>
        </p:nvPicPr>
        <p:blipFill>
          <a:blip r:embed="rId2"/>
          <a:srcRect l="14878" t="0" r="17606" b="0"/>
          <a:stretch/>
        </p:blipFill>
        <p:spPr>
          <a:xfrm>
            <a:off x="4357800" y="1500120"/>
            <a:ext cx="42148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Przykład procedury obciążania z odciążaniem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0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FCCB-924B-47F2-9E1C-B4E356D3EE1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22" name="Picture 1" descr="D:\Mojedoku\Doktorat\Badania\MgO\FotoMag\Pr9_4.JPG"/>
          <p:cNvPicPr/>
          <p:nvPr/>
        </p:nvPicPr>
        <p:blipFill>
          <a:blip r:embed="rId1"/>
          <a:srcRect l="15563" t="2219" r="8698" b="21208"/>
          <a:stretch/>
        </p:blipFill>
        <p:spPr>
          <a:xfrm>
            <a:off x="1214280" y="1285920"/>
            <a:ext cx="6500880" cy="49291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sada niezmienności wymiarów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7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F314-BFF5-46B8-A189-7D3CA520286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157140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W obliczeniach wytrzymałościowych zaniedbuje się zmianę głównych wymiarów geometrycznych elementów konstrukcji (np.  obliczając </a:t>
            </a:r>
            <a:r>
              <a:rPr b="0" lang="pl-PL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 z pominięciem zmiany długości początkowej rozciąganego pręta stalowego popełnia się tylko nieznaczny błąd o wartości 0,02%, albo obliczając naprężenia pomija się zmianę pola przekroju poprzecznego pręta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w Cen MT"/>
              </a:rPr>
              <a:t>Przybliżona wartość liniowego odkształcenia względnego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0" name="Object 3"/>
          <p:cNvGraphicFramePr/>
          <p:nvPr/>
        </p:nvGraphicFramePr>
        <p:xfrm>
          <a:off x="3000240" y="4286160"/>
          <a:ext cx="212436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4286160"/>
                    <a:ext cx="2124360" cy="12445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Przykład procedury obciążania z odciążaniem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5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114B-0A40-4009-93AE-079B2837757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27" name="pr11.WMV" descr=""/>
          <p:cNvPicPr/>
          <p:nvPr/>
        </p:nvPicPr>
        <p:blipFill>
          <a:blip r:embed="rId1"/>
          <a:stretch/>
        </p:blipFill>
        <p:spPr>
          <a:xfrm>
            <a:off x="1428840" y="15717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33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Obliczenia wytrzymałościowe. Naprężenia dopuszczaln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9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7C96-3F6B-4081-9B8F-25C31750739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1643040"/>
            <a:ext cx="89298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Naprężenia dopuszczalne (k) 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jest to wartość naprężeń nieprzekraczalna w warunkach normalnej pracy elementu konstrukcyjnego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Warunek wytrzymałościowy 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w przypadku rozciągania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Naprężenia dopuszczalne na rozciąganie kr uwzględniają rzeczywistą wytrzymałość materiału oraz tzw. </a:t>
            </a: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współczynnik bezpieczeństwa (n&gt;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32" name="Object 2"/>
          <p:cNvGraphicFramePr/>
          <p:nvPr/>
        </p:nvGraphicFramePr>
        <p:xfrm>
          <a:off x="3714840" y="2857680"/>
          <a:ext cx="17143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2857680"/>
                    <a:ext cx="1714320" cy="984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4" name="Object 3"/>
          <p:cNvGraphicFramePr/>
          <p:nvPr/>
        </p:nvGraphicFramePr>
        <p:xfrm>
          <a:off x="1928880" y="4849920"/>
          <a:ext cx="13017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849920"/>
                    <a:ext cx="1301760" cy="1079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6" name="Object 4"/>
          <p:cNvGraphicFramePr/>
          <p:nvPr/>
        </p:nvGraphicFramePr>
        <p:xfrm>
          <a:off x="5929200" y="4849920"/>
          <a:ext cx="123840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29200" y="4849920"/>
                    <a:ext cx="1238400" cy="1079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-360" y="1571400"/>
            <a:ext cx="8929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Współczynniki bezpieczeństwa dobiera się na podstawie norm, np. PN-90/B-03200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Przykładowe wartości podanych wyżej wielkości dla stali St3S to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=375MPa, R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=220MPa, k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=200MPa=&gt;n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=1,875, n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=1,1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Podobnie jak warunek dotyczący rozciągania wyglądałby </a:t>
            </a: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warunek wytrzymałościowy 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w przypadku </a:t>
            </a: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ściskania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Analogicznie wyglądają też warunki w przypadku </a:t>
            </a:r>
            <a:r>
              <a:rPr b="0" lang="pl-PL" sz="2200" spc="-1" strike="noStrike">
                <a:solidFill>
                  <a:srgbClr val="ff0000"/>
                </a:solidFill>
                <a:latin typeface="Tw Cen MT"/>
              </a:rPr>
              <a:t>zginania, ścinania, czy skręcania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. Odpowiednie naprężenia dopuszczalne oznacza się wówczas k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, k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, k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0,48R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, k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0,53R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, k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=k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0,27R</a:t>
            </a: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Obliczenia wytrzymałościowe. Naprężenia dopuszczaln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41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AD7F-1BE0-47D7-B661-4BBCE6E073B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43" name="Object 2"/>
          <p:cNvGraphicFramePr/>
          <p:nvPr/>
        </p:nvGraphicFramePr>
        <p:xfrm>
          <a:off x="3643200" y="3714840"/>
          <a:ext cx="174636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3200" y="3714840"/>
                    <a:ext cx="1746360" cy="984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gadnienia statycznie niewyznaczaln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46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5FD8-45D1-4556-A16A-47BF46D7BA1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Warunki równowagi, warunki geometryczne a związki fizyczne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49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DEDC-9A88-47C0-B3DA-A58E4184B0E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arunek równowagi rozciąganego osiowo pręta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4748040" y="2440080"/>
            <a:ext cx="4260960" cy="35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3" name="Object 3"/>
          <p:cNvGraphicFramePr/>
          <p:nvPr/>
        </p:nvGraphicFramePr>
        <p:xfrm>
          <a:off x="1428840" y="4286160"/>
          <a:ext cx="257976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4286160"/>
                    <a:ext cx="2579760" cy="101124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Równania konstytutywne. Uogólnione prawo Hooke’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6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8707-8181-4CA0-A24C-CF21653EB76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Tw Cen MT"/>
              </a:rPr>
              <a:t>Równania konstytutywne (równania fizyczne) są to związki pomiędzy stanem naprężenia a stanem odkształcenia oraz ewentualnie innymi właściwościami materiału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Zasada niezmienności wymiarów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3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9D9A-1511-42DD-800C-0DD2DAF6EED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157140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artość dokładna (por. Komorzycki i Teter, 2000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3357720" y="3429000"/>
            <a:ext cx="5570280" cy="28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7" name="Object 3"/>
          <p:cNvGraphicFramePr/>
          <p:nvPr/>
        </p:nvGraphicFramePr>
        <p:xfrm>
          <a:off x="285840" y="2143080"/>
          <a:ext cx="8381880" cy="106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143080"/>
                    <a:ext cx="8381880" cy="1069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9" name="Object 4"/>
          <p:cNvGraphicFramePr/>
          <p:nvPr/>
        </p:nvGraphicFramePr>
        <p:xfrm>
          <a:off x="285840" y="3429000"/>
          <a:ext cx="273528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840" y="3429000"/>
                    <a:ext cx="2735280" cy="952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1" name="Object 5"/>
          <p:cNvGraphicFramePr/>
          <p:nvPr/>
        </p:nvGraphicFramePr>
        <p:xfrm>
          <a:off x="785880" y="4786200"/>
          <a:ext cx="1685880" cy="887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2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4786200"/>
                    <a:ext cx="1685880" cy="887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Tw Cen MT"/>
              </a:rPr>
              <a:t>Jeszcze o jednowymiarowym modelu Hooke’a ciał sprężystych...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47600" y="1588680"/>
            <a:ext cx="44956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awo Hooke’a można zapisać jak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4D3D-58F1-460C-B490-9F5D22E9A6E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27" name="Object 7"/>
          <p:cNvGraphicFramePr/>
          <p:nvPr/>
        </p:nvGraphicFramePr>
        <p:xfrm>
          <a:off x="1071720" y="2928960"/>
          <a:ext cx="279216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928960"/>
                    <a:ext cx="2792160" cy="10000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29" name="Picture 5" descr=""/>
          <p:cNvPicPr/>
          <p:nvPr/>
        </p:nvPicPr>
        <p:blipFill>
          <a:blip r:embed="rId3"/>
          <a:stretch/>
        </p:blipFill>
        <p:spPr>
          <a:xfrm>
            <a:off x="4929120" y="1643040"/>
            <a:ext cx="3772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Tw Cen MT"/>
              </a:rPr>
              <a:t>Energia odkształcenia sprężystego w pręcie rozciąganym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47240" y="1588680"/>
            <a:ext cx="54961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ęt rozciągany quasi-statycznie; pomija się ciężar własny prę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F485-70AF-403F-AA44-B94F7B8CA7C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-139680" y="2643120"/>
            <a:ext cx="5648400" cy="31244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"/>
          <p:cNvPicPr/>
          <p:nvPr/>
        </p:nvPicPr>
        <p:blipFill>
          <a:blip r:embed="rId2"/>
          <a:stretch/>
        </p:blipFill>
        <p:spPr>
          <a:xfrm>
            <a:off x="5500800" y="1995480"/>
            <a:ext cx="35607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47600" y="1588680"/>
            <a:ext cx="6067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Prawo Hooke’a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Praca elementarnego przyrostu siły </a:t>
            </a:r>
            <a:r>
              <a:rPr b="0" i="1" lang="pl-PL" sz="28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Pu na wydłużeniu elementarnym </a:t>
            </a:r>
            <a:r>
              <a:rPr b="0" i="1" lang="pl-PL" sz="28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u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zróżniczkowanie  wzoru (1) daj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Tw Cen MT"/>
              </a:rPr>
              <a:t>Energia odkształcenia sprężystego w pręcie rozciąganym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8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2AFF-D121-49F6-9ED9-E86F1141BE1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0" name="Object 7"/>
          <p:cNvGraphicFramePr/>
          <p:nvPr/>
        </p:nvGraphicFramePr>
        <p:xfrm>
          <a:off x="3571920" y="1571760"/>
          <a:ext cx="2508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1571760"/>
                    <a:ext cx="2508120" cy="1143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2" name="Object 4"/>
          <p:cNvGraphicFramePr/>
          <p:nvPr/>
        </p:nvGraphicFramePr>
        <p:xfrm>
          <a:off x="1143000" y="3643200"/>
          <a:ext cx="643896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43200"/>
                    <a:ext cx="643896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4" name="Object 5"/>
          <p:cNvGraphicFramePr/>
          <p:nvPr/>
        </p:nvGraphicFramePr>
        <p:xfrm>
          <a:off x="3071880" y="5000760"/>
          <a:ext cx="34970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5000760"/>
                    <a:ext cx="3497040" cy="1143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147600" y="1588680"/>
            <a:ext cx="86392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Wstawiając (3) do (2) otrzymuje się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Scałkowanie powyższego wyrażenia w granicach od 0 do P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tat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 daje wzór na pracę całkowitą, wykonaną przez siłę Pu na wydłużeniu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Tw Cen MT"/>
              </a:rPr>
              <a:t>Energia odkształcenia sprężystego w pręcie rozciąganym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8B21-D180-4B05-A71C-9D8A73C6073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0" name="Object 4"/>
          <p:cNvGraphicFramePr/>
          <p:nvPr/>
        </p:nvGraphicFramePr>
        <p:xfrm>
          <a:off x="2786040" y="2071800"/>
          <a:ext cx="362268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2071800"/>
                    <a:ext cx="3622680" cy="1089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2" name="Object 6"/>
          <p:cNvGraphicFramePr/>
          <p:nvPr/>
        </p:nvGraphicFramePr>
        <p:xfrm>
          <a:off x="428760" y="4643280"/>
          <a:ext cx="811692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760" y="4643280"/>
                    <a:ext cx="8116920" cy="1363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147600" y="1588680"/>
            <a:ext cx="86392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Uwzględnienie faktu, ż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pozwala zapisać wzór (5) w jednej z następujących postaci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Tw Cen MT"/>
              </a:rPr>
              <a:t>Energia odkształcenia sprężystego w pręcie rozciąganym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6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C8D7-0CA5-4F07-A448-98E0BD26268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8" name="Object 6"/>
          <p:cNvGraphicFramePr/>
          <p:nvPr/>
        </p:nvGraphicFramePr>
        <p:xfrm>
          <a:off x="857160" y="4857840"/>
          <a:ext cx="720720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4857840"/>
                    <a:ext cx="7207200" cy="1084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60" name="Object 4"/>
          <p:cNvGraphicFramePr/>
          <p:nvPr/>
        </p:nvGraphicFramePr>
        <p:xfrm>
          <a:off x="2786040" y="2357280"/>
          <a:ext cx="328788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2357280"/>
                    <a:ext cx="3287880" cy="1084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Tw Cen MT"/>
              </a:rPr>
              <a:t>Energia odkształcenia sprężystego w pręcie rozciąganym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3" name="Symbol zastępczy numeru slajdu 3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3BEC-AB2C-4527-9340-E3F402C66C7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Symbol zastępczy stopki 39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5" name="Picture 6" descr=""/>
          <p:cNvPicPr/>
          <p:nvPr/>
        </p:nvPicPr>
        <p:blipFill>
          <a:blip r:embed="rId1"/>
          <a:stretch/>
        </p:blipFill>
        <p:spPr>
          <a:xfrm>
            <a:off x="5500800" y="1995480"/>
            <a:ext cx="3560760" cy="43862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0" y="1588680"/>
            <a:ext cx="5500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Tw.: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Praca wykonana przez statycznie działającą siłę </a:t>
            </a:r>
            <a:r>
              <a:rPr b="1" i="1" lang="pl-PL" sz="2400" spc="-1" strike="noStrike">
                <a:solidFill>
                  <a:srgbClr val="000000"/>
                </a:solidFill>
                <a:latin typeface="Tw Cen MT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na wydłużeniu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ęta rozciąganego osiowo tą siłą w zakresie liniowej sprężystości (stosowalności prawa Hooke’a) jest równa polu pod wykresem P-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(polu trójkąta o podstawie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i wysokości P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tąd wynika pewna właściwość 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układu liniowosprężystego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: przy quasi-statycznym odciążaniu (od P</a:t>
            </a:r>
            <a:r>
              <a:rPr b="0" lang="pl-PL" sz="1700" spc="-1" strike="noStrike">
                <a:solidFill>
                  <a:srgbClr val="000000"/>
                </a:solidFill>
                <a:latin typeface="Tw Cen MT"/>
              </a:rPr>
              <a:t>stat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do zera) układ taki jest zdolny wykonać pracę równą zmagazynowanej </a:t>
            </a:r>
            <a:r>
              <a:rPr b="0" lang="pl-PL" sz="2400" spc="-1" strike="noStrike">
                <a:solidFill>
                  <a:srgbClr val="ff0000"/>
                </a:solidFill>
                <a:latin typeface="Tw Cen MT"/>
              </a:rPr>
              <a:t>energii potencjalnej odkształcenia sprężystego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(energii sprężystej, V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14:40Z</dcterms:created>
  <dc:creator/>
  <dc:description/>
  <dc:language>en-US</dc:language>
  <cp:lastModifiedBy/>
  <dcterms:modified xsi:type="dcterms:W3CDTF">2011-10-05T15:23:4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5</vt:lpwstr>
  </property>
  <property fmtid="{D5CDD505-2E9C-101B-9397-08002B2CF9AE}" pid="3" name="_TemplateID">
    <vt:lpwstr>TC101671251045</vt:lpwstr>
  </property>
</Properties>
</file>