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26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4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D4EC-FD39-4A74-BA65-8A76B679F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557C-94D6-4944-9B81-1E2438B4B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390-3C47-49F1-85CB-02E5DCAA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903-2215-4200-ADC3-6E164EE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E08AC-282F-41B2-A6FD-F34C3D92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3D535-F1DC-4EC0-B88C-02E4186D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1A780-28A0-4A98-899C-1A7043BB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BA56-C15E-4A8F-AEA4-81583BAC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C1E28-B942-4795-A870-B4D8C66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0CAFB-9564-4A74-B8EC-ECFD6789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599D3-8755-44B7-AC70-B9EE9787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549FD-C723-47CB-9934-3DAA6816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10060-1367-47D4-A59A-AF19D2D1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F63939-4F24-4650-B254-B448AF54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6B1-E959-4721-9361-D941F57B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42AB2-B7CB-40B1-AD3E-84F16AF4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C51DE0-3026-428E-8757-319FE37B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0926B2-0AA4-4C96-8F5F-C54E5C77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ADF8A5-8276-4AB9-A9B8-54CDE1BE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1643A4-BEB4-4DCB-82B9-7640C6C4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CA6A1F-CCC3-4F34-9FD3-CC0F5045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ED4BED-C4D0-44F7-8512-4DBE2942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A3EAB7-054E-4404-9EA4-544961F8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546D2E-BFAD-4A3D-9DE6-6115A233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4D064C-811A-4C48-809C-53C27BD3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A07-51AD-4CD9-8C3B-701B27CE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4C5D0-4AE1-4D00-ACDE-10BDC534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AEE6D-29D6-49A0-AB2D-86EB194B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2CD78-8B8D-4FA8-9812-90C16885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89FF2-9994-4F5D-99F5-DEF04306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57FF7-29DB-49B2-88F3-A01FCBA9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3BF15-12AB-438C-A3E6-A5F6CEB5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A82C4-24F9-44AF-9F58-DADBD625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C0D2E-026A-4CFB-9E5F-C93D3A8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E37AB-A4D2-4B4D-8A25-2DA3728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84E55-E206-4579-9919-6B142643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6556-7AA2-4822-AADB-31B28FF1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636D6-0D18-463D-912C-2EB42684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B92B4-6B1F-4D73-8F52-89DD1F06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C497D-025D-442F-9DF6-7B891636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DFDC-A8BE-4F69-A096-55E3CAA5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975F-F7EA-4B87-B5D2-CD026F38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9496-EF6E-4339-B511-FB4F55B2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4C65-1A07-4A93-AC52-06E36D6B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D4E8-7006-4D4F-A8BE-C71A929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C571-2696-46C7-B9B1-84771B2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57B-8EBD-4400-988F-ABD10472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ECC9-64D1-4B0F-B368-EEDFEBA4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FF10-BE9A-4CAD-8F8D-6290A36A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CAC8-AA72-44F1-8A11-8275AFED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A25C-57CB-4F62-AC4A-E8060C1B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21D8-6347-4068-A982-EB5849B0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01C9-4DC8-4623-8877-98F81C57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6AF0-80D7-485E-9DBD-9CDC2DA8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64F9-51C4-4C17-B317-410D1AB1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5EED-0758-4E24-ADC2-3F13292A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24673-FE7D-4E04-A84A-5B0942B4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ED9-B346-49B4-8BBD-6B573F1A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0918-94BD-4F5F-86C0-D383E775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B663-7F2D-4E9B-A200-FC147E7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31D3-958B-4E8D-BECB-D4F84E49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CD51-8EC6-47B8-98F6-8023889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6978-5B2C-4634-B8F8-8ED468A3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C13D-0828-4F67-98C4-94843D70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BC049-39E2-4FBE-8070-D4392C6D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A9E72-E594-4F1C-A2A3-64977D1C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E9336-167C-4F35-BD17-7B29CD78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3FBEF-BE5D-448A-8CEC-FB38AD41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496-F23B-4BF7-891B-0F8FECB6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9B9A0-9F0C-4514-8644-A759F7BE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50570-D035-4098-ABC2-7BEF63C9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47CF0-212C-4CE7-95B0-D0E36DF3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5DD5F-0B2F-4FAD-8F68-106596A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B9260-AC56-44FB-B765-6D6C614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32192-D960-40F0-84DD-94E9959F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BB7A0-5EE4-46C9-8707-E190F2E4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27B73-8973-46E3-A204-AAB52FBE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20936-0A73-4B93-8AED-E99C21A4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1A3B0-F77B-40FD-9E41-CE62F6A8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822-7D7D-4C4A-9E41-5C251785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5C825-855F-4C22-A28B-EBA21BCC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CC529-716F-4F8F-A762-0AD63CC3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CD528-145E-4F34-9457-E8B7DB5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43B4A-119F-44AF-99B9-CBD10A9D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A0FA7-306E-43A0-9B23-24EBBBA9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2F355-8007-4A14-A295-99A1C56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E57AA-A64B-47B3-8836-990E022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9197B-0AB1-4F93-A514-A57879DD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D7E0C-1A71-4ED9-9050-5B03A94F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3A99D-21AA-4108-A53B-C9CD841F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15D-96D8-4736-B3C7-A227288B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91632-70E4-4EA4-AC38-8DBB66CA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CF57E-97E9-4CA3-B998-8E8FE66E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B0AA4-27F4-4F1A-93DF-06715F5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5D463-4E43-404C-BD2B-63CF868D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15AFB-8C51-4E30-9D19-C48FDF06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26527-D10D-42C8-BD71-E63C2837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12B18-F63E-44CE-B156-37CAC17D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7CB6A-E74B-481B-93DC-F31D1CE5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BC399-569D-4F83-AEBD-51080C24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A871E-F5FE-4F96-8027-CC6F44A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4B0-2D99-4EDB-87BE-82520B5B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FC874-7ABF-4743-80DC-C7951C12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EC31D-4444-40F6-84F3-97F4F49B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B39AE-719B-4AF8-A4A4-C9984502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A98A2-EE00-49DE-AFB9-D8D6E381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23B89-96C9-4DC1-A377-EFF82E4B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33672-AFE8-4EF2-8530-3C86D8D8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B8D2A-4286-4A1D-8349-E7520A8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47B2-8531-4FA6-A210-1BCD491F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2F2E5-951F-4461-A0F7-2D72EECC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0794-8900-4904-8A04-168D47A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5E8-D60D-4D97-9206-4EEAB63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8139F-F2F5-4A06-82B9-AE7C6E39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993CE-8453-41DC-AD6B-25C7C37B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1E8DF-A120-4246-AAA1-34B048FB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89767-C3AB-4E58-8F11-A09F9BBA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F953-C3A2-4D15-8B3D-9FBB92C6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30B26-BCA2-4200-8268-875AE0A8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7A02B-EEBE-47D0-AAF1-E4F0AAB0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BE706-0D3E-4428-A1AF-C03E3977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45B3E-85D7-460B-9A8D-0FE5B0C1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5B50B-A997-4435-B20E-D0133CDB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A7A-C3AE-4F33-8EDD-04A2961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BF394-BDCB-4D70-A603-6B39F751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415D2-AD84-4761-A525-A412D690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E1315-19B6-4431-A276-989DC6C9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3F4B7-67CD-4FD6-91F8-682DE84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334E4-E305-4BA5-8A94-3A2D963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0B429-A5B4-4499-AA15-2F0C2BEE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0819A-C967-4E6F-B97A-369E1113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DFB6D-3096-497E-8B0A-C77C23AF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48AEC-3278-447D-AB44-FF384159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49A7F-F069-4EF5-9EE3-BE846C4B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8980-F92E-4FE5-AACC-795D8281C10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EBBB79C-AB7B-4227-A0A2-B1C8D90C8C5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5B44-901B-4FFE-AEAD-95EB93DB5D4A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1982-6C94-46E7-BE7C-81630EB6CA9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65DF840-1162-4398-A421-EF818400674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C4E9-28AD-4D3C-84F0-62E137C6A31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9255-D6C6-4E7E-939F-D9925763D4A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97002AE-DCA7-40EA-ADF5-1ECAC6812911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F22F-377B-4986-8038-D97F9AE9471B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7CB4-FFC6-48B5-AB48-3ACE9ABD5FE9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B1F943A-DA8F-4593-A695-12AE80CCE31E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5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D444-E8AA-4182-8867-66D3C8361F53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961B-CF69-45FB-A30E-4144058F101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F569337-79A5-4117-A161-CA0696DC202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8A45-F1C3-45B4-B413-1CDFB5D62C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9C21-D6A6-42D6-A487-0288B7B2C48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174CAD7-ACE6-47E0-992C-6EFC3AE90ED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D872-2298-490E-9BD8-3BD430C2B8E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0A01-7C04-4837-A2A7-6A51317628E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BBB4132-B5CD-41D6-B978-D38E8A8CFD1A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BB54-5E85-42C2-842A-0D3EE4E6CA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7E2A-5FA0-4322-95F3-1B7D8C01203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A1C9A8C-F184-44EF-A5B0-32B194E34B0A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2C32-647C-45FD-986E-F49B684C01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45BD-4C66-4C59-80CC-FE577978A4B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842E4C3-1CA2-472F-B695-54768055F95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B94C-CA36-45EC-B5C1-CF376D862D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AAF6-E9D1-496F-9E5F-10AFC836F00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3B1D570-6C3D-4032-A5DE-0C096927850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BC8B-7CDD-463A-8BA4-A6A12E85A364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CE33-6805-4A33-8DA1-E8FB2E84B8C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7541D8A-FF69-4AC6-840D-9255127989F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6EC2-78E5-4939-A91B-A2359297C5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7C18-431D-417F-9A54-172FA489307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1600200"/>
            <a:ext cx="88581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Odśrodkowy moment bezwładności przekroju (</a:t>
            </a:r>
            <a:r>
              <a:rPr b="0" i="1" lang="pl-PL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pl-PL" sz="2500" spc="-1" strike="noStrike" baseline="-25000">
                <a:solidFill>
                  <a:srgbClr val="ff0000"/>
                </a:solidFill>
                <a:latin typeface="Tw Cen MT"/>
              </a:rPr>
              <a:t>yz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)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względem układu osi yz (moment zboczenia, moment dewiacji) wyraża się wzorem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Momenty odśrodkowe są wielkościami </a:t>
            </a:r>
            <a:r>
              <a:rPr b="0" lang="pl-PL" sz="2500" spc="-1" strike="noStrike">
                <a:solidFill>
                  <a:srgbClr val="00b050"/>
                </a:solidFill>
                <a:latin typeface="Tw Cen MT"/>
              </a:rPr>
              <a:t>addytywnymi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, przyjmującymi wartości 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dodatnie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lub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ujemne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Układ osi yz, w którym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moment odśrodkowy równa się zeru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nazywa się 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układem osi głównych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; aby </a:t>
            </a:r>
            <a:r>
              <a:rPr b="0" i="1" lang="pl-P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yz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=0 wystarczy, że jedna z osi jest osią symetrii przekroju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Układ osi głównych o początku w środku geometrycznym przekroju to 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układ głównych centralnych osi bezwładności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8" name="Object 2"/>
          <p:cNvGraphicFramePr/>
          <p:nvPr/>
        </p:nvGraphicFramePr>
        <p:xfrm>
          <a:off x="3392640" y="2500200"/>
          <a:ext cx="209052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500200"/>
                    <a:ext cx="2090520" cy="1013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0B4F-297B-4AF1-9CD2-B2943725CA6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1600200"/>
            <a:ext cx="8786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 przypadku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równoległego przesunięcia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układu osi do obliczania momentów bezwładności stosuje się </a:t>
            </a:r>
            <a:r>
              <a:rPr b="0" lang="pl-PL" sz="2400" spc="-1" strike="noStrike">
                <a:solidFill>
                  <a:srgbClr val="00b0f0"/>
                </a:solidFill>
                <a:latin typeface="Tw Cen MT"/>
              </a:rPr>
              <a:t>twierdzenie Steinera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. Wyraża się ono wzorami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Object 4"/>
          <p:cNvGraphicFramePr/>
          <p:nvPr/>
        </p:nvGraphicFramePr>
        <p:xfrm>
          <a:off x="5076720" y="5072040"/>
          <a:ext cx="326736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5072040"/>
                    <a:ext cx="3267360" cy="770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66" name="Picture 3" descr=""/>
          <p:cNvPicPr/>
          <p:nvPr/>
        </p:nvPicPr>
        <p:blipFill>
          <a:blip r:embed="rId3"/>
          <a:stretch/>
        </p:blipFill>
        <p:spPr>
          <a:xfrm>
            <a:off x="214200" y="2786040"/>
            <a:ext cx="4006800" cy="3548160"/>
          </a:xfrm>
          <a:prstGeom prst="rect">
            <a:avLst/>
          </a:prstGeom>
          <a:ln w="0">
            <a:noFill/>
          </a:ln>
        </p:spPr>
      </p:pic>
      <p:sp>
        <p:nvSpPr>
          <p:cNvPr id="567" name="Symbol zastępczy zawartości 4"/>
          <p:cNvSpPr/>
          <p:nvPr/>
        </p:nvSpPr>
        <p:spPr>
          <a:xfrm>
            <a:off x="4429080" y="3571920"/>
            <a:ext cx="400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a dla momentów odśrodkowych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8" name="Object 2"/>
          <p:cNvGraphicFramePr/>
          <p:nvPr/>
        </p:nvGraphicFramePr>
        <p:xfrm>
          <a:off x="3251160" y="2857680"/>
          <a:ext cx="5427720" cy="72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51160" y="2857680"/>
                    <a:ext cx="5427720" cy="725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3571920" y="2071800"/>
            <a:ext cx="5245200" cy="427032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E0C4-3585-4404-B7C1-F3B776E9864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1599840"/>
            <a:ext cx="87868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Gdy występuje 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obrót układu odniesienia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wokół jego początku o kąt </a:t>
            </a:r>
            <a:r>
              <a:rPr b="0" i="1" lang="pl-PL" sz="2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900" spc="-1" strike="noStrike">
                <a:solidFill>
                  <a:srgbClr val="000000"/>
                </a:solidFill>
                <a:latin typeface="Symbol"/>
                <a:ea typeface="Symbol"/>
              </a:rPr>
              <a:t>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D2B6-A25B-4F48-938F-1BAAB2AAE6B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0" y="1600200"/>
            <a:ext cx="88581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... wówczas słuszne są następujące zależnośc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79" name="Object 2"/>
          <p:cNvGraphicFramePr/>
          <p:nvPr/>
        </p:nvGraphicFramePr>
        <p:xfrm>
          <a:off x="1604880" y="2714760"/>
          <a:ext cx="620244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2714760"/>
                    <a:ext cx="6202440" cy="2654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CA3F-CED1-4175-B79A-0E82F0DAD1D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0" y="1599840"/>
            <a:ext cx="885816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42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Dla układu osi obróconych o kąt </a:t>
            </a:r>
            <a:r>
              <a:rPr b="0" i="1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względem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osi głównych </a:t>
            </a:r>
            <a:r>
              <a:rPr b="0" i="1" lang="pl-PL" sz="2500" spc="-1" strike="noStrike">
                <a:solidFill>
                  <a:srgbClr val="00b0f0"/>
                </a:solidFill>
                <a:latin typeface="Tw Cen MT"/>
              </a:rPr>
              <a:t>y</a:t>
            </a:r>
            <a:r>
              <a:rPr b="0" lang="pl-PL" sz="2500" spc="-1" strike="noStrike" baseline="-25000">
                <a:solidFill>
                  <a:srgbClr val="00b0f0"/>
                </a:solidFill>
                <a:latin typeface="Tw Cen MT"/>
              </a:rPr>
              <a:t>g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, </a:t>
            </a:r>
            <a:r>
              <a:rPr b="0" i="1" lang="pl-PL" sz="2500" spc="-1" strike="noStrike">
                <a:solidFill>
                  <a:srgbClr val="00b0f0"/>
                </a:solidFill>
                <a:latin typeface="Tw Cen MT"/>
              </a:rPr>
              <a:t>z</a:t>
            </a:r>
            <a:r>
              <a:rPr b="0" lang="pl-PL" sz="2500" spc="-1" strike="noStrike" baseline="-25000">
                <a:solidFill>
                  <a:srgbClr val="00b0f0"/>
                </a:solidFill>
                <a:latin typeface="Tw Cen MT"/>
              </a:rPr>
              <a:t>g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powyższe równania można też zapisać w następującej formie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42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42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42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42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42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42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85" name="Object 2"/>
          <p:cNvGraphicFramePr/>
          <p:nvPr/>
        </p:nvGraphicFramePr>
        <p:xfrm>
          <a:off x="1568520" y="2643120"/>
          <a:ext cx="641016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2643120"/>
                    <a:ext cx="6410160" cy="3632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3BB6-A7C4-4C89-8501-DBBBD3FECAF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0" y="1600200"/>
            <a:ext cx="88581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niosek: przy obrocie układu odniesienia </a:t>
            </a:r>
            <a:r>
              <a:rPr b="0" lang="pl-PL" sz="2900" spc="-1" strike="noStrike">
                <a:solidFill>
                  <a:srgbClr val="00b0f0"/>
                </a:solidFill>
                <a:latin typeface="Tw Cen MT"/>
              </a:rPr>
              <a:t>zawsze słuszne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są zależnośc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zory </a:t>
            </a:r>
            <a:r>
              <a:rPr b="0" lang="pl-PL" sz="29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można przedstawić graficznie za pomocą tzw. 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koła Mohra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91" name="Object 2"/>
          <p:cNvGraphicFramePr/>
          <p:nvPr/>
        </p:nvGraphicFramePr>
        <p:xfrm>
          <a:off x="2243160" y="3286080"/>
          <a:ext cx="478944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3286080"/>
                    <a:ext cx="4789440" cy="857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4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E3A6-17E1-4949-961D-0CB0B44E7D9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643360" y="1600200"/>
            <a:ext cx="31431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57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Koło Mohra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pozwala odczytać wartości momentów </a:t>
            </a:r>
            <a:r>
              <a:rPr b="0" i="1" lang="pl-PL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pl-PL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i="1" lang="pl-PL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yz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dla układu obróconego o dowolny kąt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względem układu głównego, albo wartości ekstremalne momentów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5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5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575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42920" y="1554120"/>
            <a:ext cx="56959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9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79A7-DBBB-4FE7-84C9-57BCABA9882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0" y="5571720"/>
            <a:ext cx="88581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Wniosek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: momenty bezwładności względem osi głównych mają wartości 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ekstremal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2" name="Object 2"/>
          <p:cNvGraphicFramePr/>
          <p:nvPr/>
        </p:nvGraphicFramePr>
        <p:xfrm>
          <a:off x="3319560" y="1633680"/>
          <a:ext cx="5475240" cy="36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560" y="1633680"/>
                    <a:ext cx="5475240" cy="3698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4" name="Symbol zastępczy zawartości 4"/>
          <p:cNvSpPr/>
          <p:nvPr/>
        </p:nvSpPr>
        <p:spPr>
          <a:xfrm>
            <a:off x="0" y="2214720"/>
            <a:ext cx="30718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Momenty główne można teraz wyrazić wzorami, które jednocześnie określają położenie osi głównyc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996-C3F3-46DC-833B-1F1EFB3A349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1500120"/>
            <a:ext cx="47862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artości charakterystyk geometrycznych dla najprostszych przekrojów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ostoką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9" name="Object 2"/>
          <p:cNvGraphicFramePr/>
          <p:nvPr/>
        </p:nvGraphicFramePr>
        <p:xfrm>
          <a:off x="1000080" y="3500280"/>
          <a:ext cx="3373560" cy="25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500280"/>
                    <a:ext cx="3373560" cy="2500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1" name="Picture 4" descr=""/>
          <p:cNvPicPr/>
          <p:nvPr/>
        </p:nvPicPr>
        <p:blipFill>
          <a:blip r:embed="rId3"/>
          <a:stretch/>
        </p:blipFill>
        <p:spPr>
          <a:xfrm>
            <a:off x="4932360" y="1928880"/>
            <a:ext cx="3808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3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A20-B560-4F2F-B2AD-AED78AACBCE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500120"/>
            <a:ext cx="47862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artości charakterystyk geometrycznych dla najprostszych przekrojów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trójką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16" name="Object 2"/>
          <p:cNvGraphicFramePr/>
          <p:nvPr/>
        </p:nvGraphicFramePr>
        <p:xfrm>
          <a:off x="1071720" y="3500280"/>
          <a:ext cx="3373200" cy="25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3500280"/>
                    <a:ext cx="3373200" cy="2500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8" name="Picture 3" descr=""/>
          <p:cNvPicPr/>
          <p:nvPr/>
        </p:nvPicPr>
        <p:blipFill>
          <a:blip r:embed="rId3"/>
          <a:stretch/>
        </p:blipFill>
        <p:spPr>
          <a:xfrm>
            <a:off x="4924440" y="1695600"/>
            <a:ext cx="40053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D3EE-6EC7-45DC-81BE-9CC1A49013B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ielkości geometryczne charakteryzujące przekrój pod względem wytrzymałościowym t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omenty statyczne przekroju (</a:t>
            </a:r>
            <a:r>
              <a:rPr b="0" i="1" lang="pl-PL" sz="2900" spc="-1" strike="noStrike">
                <a:solidFill>
                  <a:srgbClr val="ff0000"/>
                </a:solidFill>
                <a:latin typeface="Tw Cen MT"/>
              </a:rPr>
              <a:t>S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)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, (ang. </a:t>
            </a:r>
            <a:r>
              <a:rPr b="0" i="1" lang="pl-PL" sz="2900" spc="-1" strike="noStrike">
                <a:solidFill>
                  <a:srgbClr val="000000"/>
                </a:solidFill>
                <a:latin typeface="Tw Cen MT"/>
              </a:rPr>
              <a:t>first moments of area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)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momenty bezwładności przekroju (</a:t>
            </a:r>
            <a:r>
              <a:rPr b="0" i="1" lang="pl-PL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)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, (ang. </a:t>
            </a:r>
            <a:r>
              <a:rPr b="0" i="1" lang="pl-PL" sz="2900" spc="-1" strike="noStrike">
                <a:solidFill>
                  <a:srgbClr val="000000"/>
                </a:solidFill>
                <a:latin typeface="Tw Cen MT"/>
              </a:rPr>
              <a:t>second moments of area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0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3054-C66C-4CE1-A62E-B64308ACC70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1500120"/>
            <a:ext cx="47862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artości charakterystyk geometrycznych dla najprostszych przekrojów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koł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23" name="Object 2"/>
          <p:cNvGraphicFramePr/>
          <p:nvPr/>
        </p:nvGraphicFramePr>
        <p:xfrm>
          <a:off x="500040" y="3429000"/>
          <a:ext cx="383868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429000"/>
                    <a:ext cx="3838680" cy="25002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25" name="Picture 3" descr=""/>
          <p:cNvPicPr/>
          <p:nvPr/>
        </p:nvPicPr>
        <p:blipFill>
          <a:blip r:embed="rId3"/>
          <a:stretch/>
        </p:blipFill>
        <p:spPr>
          <a:xfrm>
            <a:off x="4786200" y="1714680"/>
            <a:ext cx="416268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EF0E-1E6E-45D8-8D93-A4C80E0C701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1500120"/>
            <a:ext cx="47862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artości charakterystyk geometrycznych dla najprostszych przekrojów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ółk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30" name="Object 2"/>
          <p:cNvGraphicFramePr/>
          <p:nvPr/>
        </p:nvGraphicFramePr>
        <p:xfrm>
          <a:off x="298440" y="4041720"/>
          <a:ext cx="6045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4041720"/>
                    <a:ext cx="6045120" cy="22654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32" name="Picture 3" descr=""/>
          <p:cNvPicPr/>
          <p:nvPr/>
        </p:nvPicPr>
        <p:blipFill>
          <a:blip r:embed="rId3"/>
          <a:stretch/>
        </p:blipFill>
        <p:spPr>
          <a:xfrm>
            <a:off x="4572000" y="1571760"/>
            <a:ext cx="41371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4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5269-4E57-4F48-A8AF-E1227EB2BE6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8869-97EE-4523-9D45-DADCF1A360E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0" y="1600200"/>
            <a:ext cx="45007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Momenty statyczne przekroju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(figury płaskiej) względem dowolnej osi leżącej w płaszczyźnie tego przekroju określa się wzorami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Są to wielkości </a:t>
            </a:r>
            <a:r>
              <a:rPr b="0" lang="pl-PL" sz="2700" spc="-1" strike="noStrike">
                <a:solidFill>
                  <a:srgbClr val="00b050"/>
                </a:solidFill>
                <a:latin typeface="Tw Cen MT"/>
              </a:rPr>
              <a:t>addytywne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, o wartościach 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dodatnich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lub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ujemnyc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4" name="Object 2"/>
          <p:cNvGraphicFramePr/>
          <p:nvPr/>
        </p:nvGraphicFramePr>
        <p:xfrm>
          <a:off x="357120" y="3857760"/>
          <a:ext cx="407988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3857760"/>
                    <a:ext cx="4079880" cy="1011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16" name="Picture 3" descr=""/>
          <p:cNvPicPr/>
          <p:nvPr/>
        </p:nvPicPr>
        <p:blipFill>
          <a:blip r:embed="rId3"/>
          <a:stretch/>
        </p:blipFill>
        <p:spPr>
          <a:xfrm>
            <a:off x="4857840" y="2143080"/>
            <a:ext cx="40035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959C-2D1E-45CB-BCDA-7E407726F3C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29452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4DA1-D0B5-42F0-965F-44720ECB8D2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160020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Momenty statyczne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są potrzebne do obliczania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współrzędnych środków geometrycznych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(środków ciężkości) przekrojów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b050"/>
                </a:solidFill>
                <a:latin typeface="Tw Cen MT"/>
              </a:rPr>
              <a:t>Wniosek: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moment statyczny względem dowolnej osi centralnej (przechodzącej przez środek geometryczny przekroju, np. y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c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, z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c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lub każda oś symetrii przekroju) jest równy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zeru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25" name="Object 2"/>
          <p:cNvGraphicFramePr/>
          <p:nvPr/>
        </p:nvGraphicFramePr>
        <p:xfrm>
          <a:off x="1428840" y="3071880"/>
          <a:ext cx="589284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3071880"/>
                    <a:ext cx="5892840" cy="1535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5B00-EE8E-4870-A8CF-C8E3071124F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 przypadku </a:t>
            </a:r>
            <a:r>
              <a:rPr b="0" lang="pl-PL" sz="2400" spc="-1" strike="noStrike">
                <a:solidFill>
                  <a:srgbClr val="00b050"/>
                </a:solidFill>
                <a:latin typeface="Tw Cen MT"/>
              </a:rPr>
              <a:t>przekrojów złożonych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z prostych figur geometrycznych, ze względu na addytywność momentów statycznych, można zastosować </a:t>
            </a:r>
            <a:r>
              <a:rPr b="0" lang="pl-PL" sz="2400" spc="-1" strike="noStrike">
                <a:solidFill>
                  <a:srgbClr val="00b0f0"/>
                </a:solidFill>
                <a:latin typeface="Tw Cen MT"/>
              </a:rPr>
              <a:t>wzory uproszczone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sumowanie zamiast całkowania)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onadt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31" name="Object 4"/>
          <p:cNvGraphicFramePr/>
          <p:nvPr/>
        </p:nvGraphicFramePr>
        <p:xfrm>
          <a:off x="2214720" y="2786040"/>
          <a:ext cx="460188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786040"/>
                    <a:ext cx="4601880" cy="1185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3" name="Object 5"/>
          <p:cNvGraphicFramePr/>
          <p:nvPr/>
        </p:nvGraphicFramePr>
        <p:xfrm>
          <a:off x="2500200" y="4286160"/>
          <a:ext cx="404820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4286160"/>
                    <a:ext cx="4048200" cy="2009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6060-1682-4400-99EC-18F86B3C5A3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Diagram 8" descr=""/>
          <p:cNvPicPr/>
          <p:nvPr/>
        </p:nvPicPr>
        <p:blipFill>
          <a:blip r:embed="rId1"/>
          <a:stretch/>
        </p:blipFill>
        <p:spPr>
          <a:xfrm>
            <a:off x="378000" y="1920960"/>
            <a:ext cx="84549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0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77C4-903F-4CE8-A172-F2F96EF9321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1600200"/>
            <a:ext cx="4572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Biegunowy moment bezwładności przekroju (</a:t>
            </a:r>
            <a:r>
              <a:rPr b="0" i="1" lang="pl-PL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pl-PL" sz="2900" spc="-1" strike="noStrike" baseline="-25000">
                <a:solidFill>
                  <a:srgbClr val="ff0000"/>
                </a:solidFill>
                <a:latin typeface="Tw Cen MT"/>
              </a:rPr>
              <a:t>0</a:t>
            </a: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)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(moment bezwładności przekroju względem punktu) oblicza się ze wzoru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3" name="Object 2"/>
          <p:cNvGraphicFramePr/>
          <p:nvPr/>
        </p:nvGraphicFramePr>
        <p:xfrm>
          <a:off x="1106640" y="4500720"/>
          <a:ext cx="202068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4500720"/>
                    <a:ext cx="2020680" cy="101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45" name="Picture 3" descr=""/>
          <p:cNvPicPr/>
          <p:nvPr/>
        </p:nvPicPr>
        <p:blipFill>
          <a:blip r:embed="rId3"/>
          <a:stretch/>
        </p:blipFill>
        <p:spPr>
          <a:xfrm>
            <a:off x="4714920" y="1785960"/>
            <a:ext cx="42465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Charakterystyki geometryczne figur płaskich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A96-2FDB-4A06-AB7B-1734542C11C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1600200"/>
            <a:ext cx="88581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Momenty bezwładności przekroju względem osi (</a:t>
            </a:r>
            <a:r>
              <a:rPr b="0" i="1" lang="pl-PL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pl-PL" sz="2500" spc="-1" strike="noStrike" baseline="-25000">
                <a:solidFill>
                  <a:srgbClr val="ff0000"/>
                </a:solidFill>
                <a:latin typeface="Tw Cen MT"/>
              </a:rPr>
              <a:t>y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 , </a:t>
            </a:r>
            <a:r>
              <a:rPr b="0" i="1" lang="pl-PL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pl-PL" sz="2500" spc="-1" strike="noStrike" baseline="-25000">
                <a:solidFill>
                  <a:srgbClr val="ff0000"/>
                </a:solidFill>
                <a:latin typeface="Tw Cen MT"/>
              </a:rPr>
              <a:t>z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)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(momenty osiowe) są zdefiniowane przez poniższe wzor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Momenty bezwładności są wielkościami </a:t>
            </a:r>
            <a:r>
              <a:rPr b="0" lang="pl-PL" sz="2500" spc="-1" strike="noStrike">
                <a:solidFill>
                  <a:srgbClr val="00b050"/>
                </a:solidFill>
                <a:latin typeface="Tw Cen MT"/>
              </a:rPr>
              <a:t>addytywnymi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, mającymi zawsze wartości </a:t>
            </a: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dodatnie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b050"/>
                </a:solidFill>
                <a:latin typeface="Tw Cen MT"/>
              </a:rPr>
              <a:t>„</a:t>
            </a:r>
            <a:r>
              <a:rPr b="0" lang="pl-PL" sz="2500" spc="-1" strike="noStrike">
                <a:solidFill>
                  <a:srgbClr val="00b050"/>
                </a:solidFill>
                <a:latin typeface="Tw Cen MT"/>
              </a:rPr>
              <a:t>addytywnymi”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, tzn. np. </a:t>
            </a:r>
            <a:r>
              <a:rPr b="0" i="1" lang="pl-P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7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pl-P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7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10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i="1" lang="pl-P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7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10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+..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Promieniem bezwładności 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nazywa się wielkość zdefiniowaną następująco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49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0" name="Object 2"/>
          <p:cNvGraphicFramePr/>
          <p:nvPr/>
        </p:nvGraphicFramePr>
        <p:xfrm>
          <a:off x="2284560" y="2357280"/>
          <a:ext cx="428436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4560" y="2357280"/>
                    <a:ext cx="4284360" cy="1013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2" name="Object 4"/>
          <p:cNvGraphicFramePr/>
          <p:nvPr/>
        </p:nvGraphicFramePr>
        <p:xfrm>
          <a:off x="2571840" y="5000760"/>
          <a:ext cx="34844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5000760"/>
                    <a:ext cx="3484440" cy="1257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3:1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