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2.png" ContentType="image/png"/>
  <Override PartName="/ppt/media/image10.wmf" ContentType="image/x-wmf"/>
  <Override PartName="/ppt/media/image47.wmf" ContentType="image/x-wmf"/>
  <Override PartName="/ppt/media/image6.wmf" ContentType="image/x-wmf"/>
  <Override PartName="/ppt/media/image11.wmf" ContentType="image/x-wmf"/>
  <Override PartName="/ppt/media/image48.wmf" ContentType="image/x-wmf"/>
  <Override PartName="/ppt/media/image45.wmf" ContentType="image/x-wmf"/>
  <Override PartName="/ppt/media/image46.wmf" ContentType="image/x-wmf"/>
  <Override PartName="/ppt/media/image39.wmf" ContentType="image/x-wmf"/>
  <Override PartName="/ppt/media/image50.wmf" ContentType="image/x-wmf"/>
  <Override PartName="/ppt/media/image13.wmf" ContentType="image/x-wmf"/>
  <Override PartName="/ppt/media/image40.png" ContentType="image/png"/>
  <Override PartName="/ppt/media/image51.wmf" ContentType="image/x-wmf"/>
  <Override PartName="/ppt/media/image52.wmf" ContentType="image/x-wmf"/>
  <Override PartName="/ppt/media/image53.wmf" ContentType="image/x-wmf"/>
  <Override PartName="/ppt/media/image41.wmf" ContentType="image/x-wmf"/>
  <Override PartName="/ppt/media/image38.png" ContentType="image/png"/>
  <Override PartName="/ppt/media/image8.png" ContentType="image/png"/>
  <Override PartName="/ppt/media/image16.wmf" ContentType="image/x-wmf"/>
  <Override PartName="/ppt/media/image54.wmf" ContentType="image/x-wmf"/>
  <Override PartName="/ppt/media/image17.wmf" ContentType="image/x-wmf"/>
  <Override PartName="/ppt/media/image43.wmf" ContentType="image/x-wmf"/>
  <Override PartName="/ppt/media/image44.png" ContentType="image/png"/>
  <Override PartName="/ppt/media/image55.wmf" ContentType="image/x-wmf"/>
  <Override PartName="/ppt/media/image56.wmf" ContentType="image/x-wmf"/>
  <Override PartName="/ppt/media/image36.png" ContentType="image/png"/>
  <Override PartName="/ppt/media/image32.wmf" ContentType="image/x-wmf"/>
  <Override PartName="/ppt/media/image31.wmf" ContentType="image/x-wmf"/>
  <Override PartName="/ppt/media/image30.wmf" ContentType="image/x-wmf"/>
  <Override PartName="/ppt/media/image9.png" ContentType="image/png"/>
  <Override PartName="/ppt/media/image42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dt" idx="34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4000" cy="375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ftr" idx="35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 type="sldNum" idx="36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BEE1-5454-4736-9715-82CF34EBB7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3970-576F-4BCA-BF0F-62E1BCA47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6A36-C038-40C7-BDF8-825D57B8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B1A-29CD-4F90-B3D0-382891AF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20E6F-FADF-4A72-B7C0-6C52A54E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7C3B8-75C0-4D8E-A351-2135CDC1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FF82C-25A1-4C0F-8F43-6A69B035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D834E-5330-473A-97B8-5BA29C49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F70A2-B208-4C87-B743-8213648D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3907E-B818-431D-8666-3B96F93F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E4B6D-BF94-4DB9-86BB-160D2924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D15FA-4261-44FF-8F06-84D2A4B9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8A3DD-2CBB-4E77-9EBB-9A80F626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8F4255-21E3-44A5-9A3B-F117638F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95D7-0F79-40D1-8270-F2372810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B6F3F9-FE61-4BE4-BA30-D37C392A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C16735-5ADF-4674-807E-E6B1C485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FD951C-C3C4-44F0-89CC-358B1F7F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AA05D0-E956-420A-BE14-4E5C4F93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E367AA-F4AA-446E-9ED4-9C2EDDEF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F06B10-F07A-43AA-9A86-01BDE16A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8EB601-5909-472D-AB66-D36C7D0D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67BDBC-3D7F-4CBE-979F-BEBD4245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6392A0-8E7A-4D6B-8874-0DBCC79B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9903D7-75B1-46A7-8DA7-0E16F404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80D7-87CE-4822-A607-957FFB24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7A9385-06F7-488D-AEEF-61A35C22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A0029-40D3-400E-8BFD-0F655DC9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0278A-C67E-4A63-9CF5-D9C85CE9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2B7A5-0643-47DC-AC6B-B11492D6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B698C-5065-4991-B250-F370F3F7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7FDB8-9289-4AEA-BCDA-6BB7DBB3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0D71C-0D38-4A64-A7C5-7280A2D3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CDBED-A73A-4838-8B6D-CB25B7DA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2079C-9D5F-4F98-BFB3-5531CB2E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1CC46-D3E0-49E9-81B2-605D8C41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4E0A-DD53-440C-A629-EABB1760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13132-DC1C-40D9-A1AE-E40766C4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13345-ECDB-4ED8-AF4E-5A170B59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871B8-56DF-457B-9479-4F2FE5EE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1268-5643-434E-84A5-85915A12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CC59-EB6D-44B6-9747-444C5BCB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29D2-84D9-4A5E-8FB8-9A6D8732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5110-8D15-464C-9B1E-B858AF65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CB77-F86A-4A77-BC4B-975F522D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E4E3-0A24-40A1-A431-D891B6B8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042-6AC0-4B48-8872-077F9430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0387-1CFD-4CB2-8405-1352F6D2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753B-89AD-4B60-821A-03EFBD12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4D80-2B22-4AEB-8131-3B200C39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2A8A-6925-42BF-8DD6-AC1F4C89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E77A-16D9-4413-90BF-C0804A65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6B204-CC3B-4BDF-AEED-7A7E58D5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80B9F-C885-4E4B-8535-DEDB7F51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54CBC-CF97-42D3-977A-208B5C1A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9A132-B72C-457A-B84C-F3BF7307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F88AD-E444-477E-968E-2C8D7B2A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C233-0158-4E71-B829-AA08BE0A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14ADC-7638-4088-AB6A-B30A6BF5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CD1E5-2EFC-4401-95A7-E5316366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CF6CA-39F8-4529-91E5-09DBFC5E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D94F3-BA70-4A3A-905D-CA7B7935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D72FA-DC86-4699-BFF5-B749C425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02CDE-3415-4B9B-8B7C-2D1DED9C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DCCBA-E1F8-4C7F-ACB6-03207072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B212C2-073D-4CC5-A17F-F7B84DA7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502242-04EC-4756-A51E-95547450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6BECDD-2E32-4832-A2CD-5040BD1B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6AE1-15D5-4E51-BC27-AFA4764A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4A052C-792D-4380-A424-36477DC1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FAFA81-B0F8-481E-8082-EFA4D101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307A62-F970-4EA2-8098-97DEE695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0636E3-7312-40E9-AFDD-AB7057CC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CB5ED4-2C43-4331-A594-6F00A927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E3776B-4454-4555-A782-4B2D1D64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86F508-5D2E-407D-B535-78A91106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105758-133E-4459-AF9B-9F1E2AD8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42FC0D-03A5-4431-A111-BD78A3E4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AEB0AB-1CB9-4E0C-B0F7-DD6C7B16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380-DFD5-405D-A368-26DE0BA9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B53D57-C0FF-47EC-8F9C-2881A335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23A76A-E8D7-4BC8-8E34-DC457BE7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B5C100-8127-4D86-812A-F47EF374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511D7F-B419-43E0-8DFF-35A05E35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5CA327-FDCF-4FFA-BCE0-D339F7EF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8F8201-4BA1-4805-996F-09CE24D7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AD7C3E-C5F0-4486-BE6F-9FCF5530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AD77D8-130A-4E95-8372-40578F5B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B0F778-9788-4AF5-A6CE-A7E6C0A8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11CF15-76F8-483F-8A39-5B8668F6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2F9-0688-4083-B316-B44B7C0B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9F021E-F8F5-46F9-BE42-7130E222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D989E2-1501-4985-A1A0-13F4E142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D0FF55-6E80-41A9-AF7A-9DAF4E6B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DCC300-02B3-4901-958E-F73BA5B0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55C450-9AE1-404D-B40B-8FCB3FBB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E6D827-3245-47AD-8A67-A20152FF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3E94F5-342D-4CB4-8E0D-0BEFB7BD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CEEE47-13ED-4610-9A81-8007F06C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566B26-673C-4412-A807-846345E1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B66E6D-E167-435E-8254-215F7FCD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3076-1E9B-4291-B394-A48866D2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716F09-65D1-40B4-8B35-9EA577F0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12E2BD-CCFA-471B-9236-D122BEE6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C762A9-CED2-4B05-B28D-C0397E6C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F7237-F719-470E-971C-1006D4D1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E17CF-48DF-4303-9004-985B9FFE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E1296-BA8C-4B55-B410-4B7B841F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63877-192A-4B8E-825D-A3935AB3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C70AB-3357-4B6F-87E4-2DAB8B39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69C9B-05F2-40FA-A5BA-F9712DC2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E4E60-605D-4141-8518-67527860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8564-0DCB-4398-B465-98EF7B93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AD02E-1005-4042-8D00-A9B96EB0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B8DAC-7EB5-4E46-A9AD-1BA77E14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90920-7E81-4FB8-9AF8-81D354FA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499F9-A8AF-44B8-8B97-64A19C2B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5088E-C41A-4D62-9FB7-7ACD7726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DC927-F7C9-4D4C-A491-3EDAC091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257CF-61E4-40DA-92B5-0F1CF6A0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BAAE4-0CD0-45D6-A1BA-CBD7128D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F7C3C-B0A6-4F61-9787-7261946B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75BB3-73BA-4093-AD2A-93AE5CC9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F3E-2DCD-40A8-A007-B46417A5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3915C-C1EE-452B-9666-DC4941E4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CA4C0-CBF7-43D7-8A81-23B57FC8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B823F-C4A7-4124-AC9D-A1CAF779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27489-C9E9-4DB3-95AE-BDD03215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5ECD8-3D2F-42C0-910A-7C404447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C9371-58A5-428E-BDB6-9496FDDA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2F71C-16FB-4BE0-94B5-97C7625F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544CB-6833-4DEE-A86B-DDB95125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DFDE4-4BFF-462D-9797-00523219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69BEC-920F-4E4F-96D5-73078882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92DC-0ADF-4FF0-908E-43A3B393EB1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F2EC13B9-A312-4953-B80B-90E4594EC1B0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EC66-605A-47BA-A8B2-F7C684B266E0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5427-1FC3-412D-B0D2-0D51C3082A36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22C5364D-C6B1-4899-9B24-BA60A6358645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AE4C-3C67-423F-84B5-BD6BE62F584A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DC19-D4DA-452E-9A54-49BD476CDECA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1A0CF29D-205B-4F46-AFF9-26BC003FED39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9042-41B2-4E8F-9654-F1AD1893D977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C267-EA0F-4AA0-93E0-E48F1C5B9A96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663B9D3A-76E3-42AA-A34B-EB3B931D22CE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8:56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eece1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03E7-7D42-4845-974E-C65982AC504B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3D81-B568-4FD0-A426-92936B211EE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3703E414-0205-4F52-AA28-9F5D4B25E9EB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6D1E-568A-4E2D-B99B-0C1924EB0B8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3789-89B3-484B-AC11-84E61DFA8408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9881A1F5-5EA6-46C9-BE2E-F43224BF8D9D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77C2-A114-4E6E-AAB1-2842F3E55492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414B-83EA-427B-AD6D-13DF67925DA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164A8BD9-34F5-4FC2-87B5-1A055DE0341E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4D05-A9DE-42B3-B7A9-E7608B4D922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47D9-A626-4C53-8D25-8E852319666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14378ED9-06FF-472E-82DB-C161AE1B50DF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FBB3-5356-4E95-A8CF-DB1ADBD78DD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6B05-CC91-4FF8-8A37-F6F8E668AD06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8F277F85-E248-4AB7-BF10-7965F0421DE3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36D2-D6C8-4619-A638-9A83F98D752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F9DB-491C-4E73-804F-D552D4BA66C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887D8F60-550C-4E09-832A-11D9022E81A4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26FA-C7E1-4914-ABD7-EB547EC6E24D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5145-4860-4DC8-826B-C9839D6271B1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46BAB8E2-B7D8-4DA0-866B-4041DB413588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6ECF-1CC0-4A50-9217-2C8A9DB7DF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eece1"/>
                </a:solidFill>
                <a:latin typeface="Tw Cen MT"/>
              </a:rPr>
              <a:t>WYTRZYMAŁOŚĆ MATERIAŁÓW - CZ. 1</a:t>
            </a:r>
            <a:br>
              <a:rPr sz="3200"/>
            </a:br>
            <a:r>
              <a:rPr b="0" lang="pl-PL" sz="2400" spc="-1" strike="noStrike">
                <a:solidFill>
                  <a:srgbClr val="eeece1"/>
                </a:solidFill>
                <a:latin typeface="Tw Cen MT"/>
              </a:rPr>
              <a:t>WYKŁADY DLA STUDENTÓW</a:t>
            </a:r>
            <a:br>
              <a:rPr sz="2400"/>
            </a:br>
            <a:r>
              <a:rPr b="0" lang="pl-PL" sz="2400" spc="-1" strike="noStrike">
                <a:solidFill>
                  <a:srgbClr val="eeece1"/>
                </a:solidFill>
                <a:latin typeface="Tw Cen MT"/>
              </a:rPr>
              <a:t>STUDIÓW DZIENNYCH, MIBM</a:t>
            </a:r>
            <a:endParaRPr b="0" lang="en-US" sz="2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Opracował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Dr inż. Sylwester Samborski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85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3911-81F6-459A-95FC-819820D6B11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rostokąt 12"/>
          <p:cNvSpPr/>
          <p:nvPr/>
        </p:nvSpPr>
        <p:spPr>
          <a:xfrm>
            <a:off x="285840" y="2143080"/>
            <a:ext cx="8643960" cy="44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Gdy działa tylko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: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Gdy działa tylko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Odkształcenia całkowite:                                        , albo                                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zór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 wyraża 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prawo Hooke’a w PS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8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tan odkształcenia i prawo Hooke’a w PS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89" name="Object 3"/>
          <p:cNvGraphicFramePr/>
          <p:nvPr/>
        </p:nvGraphicFramePr>
        <p:xfrm>
          <a:off x="3006720" y="2071800"/>
          <a:ext cx="48960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6720" y="2071800"/>
                    <a:ext cx="48960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Object 4"/>
          <p:cNvGraphicFramePr/>
          <p:nvPr/>
        </p:nvGraphicFramePr>
        <p:xfrm>
          <a:off x="3041640" y="2700360"/>
          <a:ext cx="457848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1640" y="2700360"/>
                    <a:ext cx="45784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Object 5"/>
          <p:cNvGraphicFramePr/>
          <p:nvPr/>
        </p:nvGraphicFramePr>
        <p:xfrm>
          <a:off x="2954160" y="3500280"/>
          <a:ext cx="2617920" cy="192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54160" y="3500280"/>
                    <a:ext cx="261792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Object 6"/>
          <p:cNvGraphicFramePr/>
          <p:nvPr/>
        </p:nvGraphicFramePr>
        <p:xfrm>
          <a:off x="6361200" y="3417840"/>
          <a:ext cx="2000160" cy="2135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61200" y="3417840"/>
                    <a:ext cx="2000160" cy="2135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8" descr=""/>
          <p:cNvPicPr/>
          <p:nvPr/>
        </p:nvPicPr>
        <p:blipFill>
          <a:blip r:embed="rId1"/>
          <a:stretch/>
        </p:blipFill>
        <p:spPr>
          <a:xfrm>
            <a:off x="4998960" y="2606760"/>
            <a:ext cx="4145040" cy="407196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9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D156-7104-4A99-A60B-35DDF981FCD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rostokąt 12"/>
          <p:cNvSpPr/>
          <p:nvPr/>
        </p:nvSpPr>
        <p:spPr>
          <a:xfrm>
            <a:off x="214200" y="2571840"/>
            <a:ext cx="485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Zastosujemy ponownie metodę superpozycji – tym razem do przypadku trójwymiarowego stanu naprężeni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Gdy działa tylko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: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Gdy działa tylko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Gdy działa tylko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Uogólnione (trójwymiarowe) prawo Hooke’a (trójwymiarowy model Hooke’a ciał sprężystych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03" name="Object 3"/>
          <p:cNvGraphicFramePr/>
          <p:nvPr/>
        </p:nvGraphicFramePr>
        <p:xfrm>
          <a:off x="142920" y="3786120"/>
          <a:ext cx="4780080" cy="62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786120"/>
                    <a:ext cx="47800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Object 4"/>
          <p:cNvGraphicFramePr/>
          <p:nvPr/>
        </p:nvGraphicFramePr>
        <p:xfrm>
          <a:off x="142920" y="4714920"/>
          <a:ext cx="5272200" cy="67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2920" y="4714920"/>
                    <a:ext cx="52722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Object 6"/>
          <p:cNvGraphicFramePr/>
          <p:nvPr/>
        </p:nvGraphicFramePr>
        <p:xfrm>
          <a:off x="142920" y="5616720"/>
          <a:ext cx="4976640" cy="642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08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2920" y="5616720"/>
                    <a:ext cx="497664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8" descr=""/>
          <p:cNvPicPr/>
          <p:nvPr/>
        </p:nvPicPr>
        <p:blipFill>
          <a:blip r:embed="rId1"/>
          <a:stretch/>
        </p:blipFill>
        <p:spPr>
          <a:xfrm>
            <a:off x="5715000" y="2606760"/>
            <a:ext cx="2928960" cy="287640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11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2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9F6B-55A5-4EAD-B7B0-E9974E36B99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rostokąt 12"/>
          <p:cNvSpPr/>
          <p:nvPr/>
        </p:nvSpPr>
        <p:spPr>
          <a:xfrm>
            <a:off x="214200" y="2571840"/>
            <a:ext cx="8715600" cy="45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Odkształcenia całkowite:   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                                 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zory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 wyrażają 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uogólnione prawo Hooke’a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słuszne, gd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3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prop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pl-PL" sz="2000" spc="-1" strike="noStrike">
                <a:solidFill>
                  <a:srgbClr val="ff0000"/>
                </a:solidFill>
                <a:latin typeface="Tw Cen MT"/>
              </a:rPr>
              <a:t>!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 Wyrazy w kolorze niebieskim dopisuje się tylko wtedy, jeżeli w układzie występują dodatkowo odkształcenia/naprężenia cieplne: </a:t>
            </a:r>
            <a:r>
              <a:rPr b="0" i="1" lang="pl-PL" sz="20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 baseline="-25000">
                <a:solidFill>
                  <a:srgbClr val="0000ff"/>
                </a:solidFill>
                <a:latin typeface="Tw Cen MT"/>
              </a:rPr>
              <a:t>t</a:t>
            </a:r>
            <a:r>
              <a:rPr b="0" lang="pl-PL" sz="2000" spc="-1" strike="noStrike">
                <a:solidFill>
                  <a:srgbClr val="0000ff"/>
                </a:solidFill>
                <a:latin typeface="Tw Cen MT"/>
              </a:rPr>
              <a:t>=</a:t>
            </a:r>
            <a:r>
              <a:rPr b="0" i="1" lang="pl-PL" sz="20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i="1" lang="pl-PL" sz="2000" spc="-1" strike="noStrike">
                <a:solidFill>
                  <a:srgbClr val="0000ff"/>
                </a:solidFill>
                <a:latin typeface="Tw Cen MT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4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Uogólnione (trójwymiarowe) prawo Hooke’a (trójwymiarowy model Hooke’a ciał sprężystych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15" name="Object 5"/>
          <p:cNvGraphicFramePr/>
          <p:nvPr/>
        </p:nvGraphicFramePr>
        <p:xfrm>
          <a:off x="731880" y="3048120"/>
          <a:ext cx="3768840" cy="23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880" y="3048120"/>
                    <a:ext cx="3768840" cy="2309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18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9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A441-CDEC-4DAF-9F83-0A2E647FDFF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rostokąt 12"/>
          <p:cNvSpPr/>
          <p:nvPr/>
        </p:nvSpPr>
        <p:spPr>
          <a:xfrm>
            <a:off x="285840" y="2571840"/>
            <a:ext cx="864396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zględna zmiana objętości kostki po zastosowaniu wzoru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 wyraża się następująco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Natomiast przy ściskaniu izostatycznym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p) słuszna jest zależność: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Uogólnione (trójwymiarowe) prawo Hooke’a (trójwymiarowy model Hooke’a ciał sprężystych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22" name="Object 6"/>
          <p:cNvGraphicFramePr/>
          <p:nvPr/>
        </p:nvGraphicFramePr>
        <p:xfrm>
          <a:off x="1714680" y="3357720"/>
          <a:ext cx="529560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3357720"/>
                    <a:ext cx="5295600" cy="8110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24" name="Object 7"/>
          <p:cNvGraphicFramePr/>
          <p:nvPr/>
        </p:nvGraphicFramePr>
        <p:xfrm>
          <a:off x="3286080" y="5000760"/>
          <a:ext cx="187488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6080" y="5000760"/>
                    <a:ext cx="1874880" cy="714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7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D0D3-14A7-4F30-B2E9-7585D30C389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rostokąt 12"/>
          <p:cNvSpPr/>
          <p:nvPr/>
        </p:nvSpPr>
        <p:spPr>
          <a:xfrm>
            <a:off x="285840" y="2500200"/>
            <a:ext cx="8643960" cy="42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 przypadku jednowymiarowym praca sił sprężystości odniesiona do jednostki objętości materiału wyraża się wzorem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 przypadku trójwymiarowego stanu naprężenia praca wykonana kolejno przez naprężenia główne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działające na ściankach elementarnej „kostki” sześciennej równa będzie energii sprężystej zgromadzonej w „kostce”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        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a po zastosowaniu uogólnionego prawa Hooke’a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Energia potencjalna sił sprężystości w trójwymiarowym stanie napręż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31" name="Object 6"/>
          <p:cNvGraphicFramePr/>
          <p:nvPr/>
        </p:nvGraphicFramePr>
        <p:xfrm>
          <a:off x="1643040" y="3094200"/>
          <a:ext cx="572940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3094200"/>
                    <a:ext cx="572940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7"/>
          <p:cNvGraphicFramePr/>
          <p:nvPr/>
        </p:nvGraphicFramePr>
        <p:xfrm>
          <a:off x="357120" y="4692600"/>
          <a:ext cx="2800440" cy="7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20" y="4692600"/>
                    <a:ext cx="280044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4"/>
          <p:cNvGraphicFramePr/>
          <p:nvPr/>
        </p:nvGraphicFramePr>
        <p:xfrm>
          <a:off x="1192320" y="5452920"/>
          <a:ext cx="6703920" cy="84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92320" y="5452920"/>
                    <a:ext cx="6703920" cy="847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38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9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14BF-4FD1-4F5B-8464-F9AA10177CB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rostokąt 12"/>
          <p:cNvSpPr/>
          <p:nvPr/>
        </p:nvSpPr>
        <p:spPr>
          <a:xfrm>
            <a:off x="285840" y="2000160"/>
            <a:ext cx="864396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 przypadku PSN uogólnione prawo Hooke’a  zapisuje się, jako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                                                                        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 kierunkach głównych osi naprężenia kąt odkształcenia postaciowego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0, a występują tylko liniowe odkształcenia względne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. W układzie obróconym o kąt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odkształcenia liniowe wynoszą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                                                                                  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Koło Mohra dla odkształceń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42" name="Object 3"/>
          <p:cNvGraphicFramePr/>
          <p:nvPr/>
        </p:nvGraphicFramePr>
        <p:xfrm>
          <a:off x="1500120" y="2500200"/>
          <a:ext cx="57387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2500200"/>
                    <a:ext cx="5738760" cy="7239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4" name="Object 6"/>
          <p:cNvGraphicFramePr/>
          <p:nvPr/>
        </p:nvGraphicFramePr>
        <p:xfrm>
          <a:off x="642960" y="4429080"/>
          <a:ext cx="752148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4429080"/>
                    <a:ext cx="7521480" cy="1643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7" descr=""/>
          <p:cNvPicPr/>
          <p:nvPr/>
        </p:nvPicPr>
        <p:blipFill>
          <a:blip r:embed="rId1"/>
          <a:stretch/>
        </p:blipFill>
        <p:spPr>
          <a:xfrm>
            <a:off x="3643200" y="2090880"/>
            <a:ext cx="5426280" cy="4224240"/>
          </a:xfrm>
          <a:prstGeom prst="rect">
            <a:avLst/>
          </a:prstGeom>
          <a:ln w="0">
            <a:noFill/>
          </a:ln>
        </p:spPr>
      </p:pic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48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F78E-5D9F-4F3A-9D85-27D2DC0EB33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rostokąt 12"/>
          <p:cNvSpPr/>
          <p:nvPr/>
        </p:nvSpPr>
        <p:spPr>
          <a:xfrm>
            <a:off x="139680" y="2200320"/>
            <a:ext cx="3714840" cy="34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Można graficznie przedstawić stan odkształcenia za pomocą koła Mohra w układzie osi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i ½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Zmiana kąta prostego między kierunkami odchylonymi od osi głównej 1 (kierunek naprężeń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 o kąty, odpowiednio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+90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wynosi: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1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Koło Mohra dla odkształceń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52" name="Object 7"/>
          <p:cNvGraphicFramePr/>
          <p:nvPr/>
        </p:nvGraphicFramePr>
        <p:xfrm>
          <a:off x="571680" y="4929120"/>
          <a:ext cx="2741400" cy="55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680" y="4929120"/>
                    <a:ext cx="2741400" cy="5587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6" descr=""/>
          <p:cNvPicPr/>
          <p:nvPr/>
        </p:nvPicPr>
        <p:blipFill>
          <a:blip r:embed="rId1"/>
          <a:stretch/>
        </p:blipFill>
        <p:spPr>
          <a:xfrm>
            <a:off x="3467160" y="2106720"/>
            <a:ext cx="5586480" cy="327348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56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37C3-1CC4-4965-8157-E9142FC25F7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rostokąt 12"/>
          <p:cNvSpPr/>
          <p:nvPr/>
        </p:nvSpPr>
        <p:spPr>
          <a:xfrm>
            <a:off x="285840" y="2143080"/>
            <a:ext cx="32860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Po uwzględnieniu (</a:t>
            </a:r>
            <a:r>
              <a:rPr b="0" lang="pl-P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 i wyrażeń na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w PSN można zapisać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Koło Mohra dla odkształceń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60" name="Object 8"/>
          <p:cNvGraphicFramePr/>
          <p:nvPr/>
        </p:nvGraphicFramePr>
        <p:xfrm>
          <a:off x="1357200" y="3286080"/>
          <a:ext cx="1000080" cy="79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57200" y="3286080"/>
                    <a:ext cx="1000080" cy="795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2" name="Prostokąt 11"/>
          <p:cNvSpPr/>
          <p:nvPr/>
        </p:nvSpPr>
        <p:spPr>
          <a:xfrm>
            <a:off x="285840" y="4286160"/>
            <a:ext cx="321444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pl-PL" sz="2000" spc="-1" strike="noStrike">
                <a:solidFill>
                  <a:srgbClr val="ff0000"/>
                </a:solidFill>
                <a:latin typeface="Tw Cen MT"/>
              </a:rPr>
              <a:t>!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 Największe odkształcenia postaciowe występują tam, gdzie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maks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czyli 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pod kątem 45</a:t>
            </a:r>
            <a:r>
              <a:rPr b="0" lang="pl-PL" sz="2000" spc="-1" strike="noStrike">
                <a:solidFill>
                  <a:srgbClr val="00b0f0"/>
                </a:solidFill>
                <a:latin typeface="Symbol"/>
                <a:ea typeface="Symbol"/>
              </a:rPr>
              <a:t>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 do osi głównych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3" descr=""/>
          <p:cNvPicPr/>
          <p:nvPr/>
        </p:nvPicPr>
        <p:blipFill>
          <a:blip r:embed="rId1"/>
          <a:stretch/>
        </p:blipFill>
        <p:spPr>
          <a:xfrm>
            <a:off x="4143240" y="1587600"/>
            <a:ext cx="5000760" cy="50004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5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1170-31C3-4CFD-8F4F-22A3BC0A553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rostokąt 12"/>
          <p:cNvSpPr/>
          <p:nvPr/>
        </p:nvSpPr>
        <p:spPr>
          <a:xfrm>
            <a:off x="154080" y="2590920"/>
            <a:ext cx="428616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 przypadku ogólnego (trójosiowego) stanu naprężenia w danym punkc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(np. A) można wyróżnić 9 składowych stanu naprężenia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3 naprężenia normalne (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)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6 naprężeń stycznych (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xy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yx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xz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zx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yz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zy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Symbol zastępczy zawartości 4"/>
          <p:cNvSpPr/>
          <p:nvPr/>
        </p:nvSpPr>
        <p:spPr>
          <a:xfrm>
            <a:off x="214200" y="1600200"/>
            <a:ext cx="464364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kładowe stanu naprężenia w punkc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70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6D8C-0B69-4427-834D-8C26571C3AD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rostokąt 12"/>
          <p:cNvSpPr/>
          <p:nvPr/>
        </p:nvSpPr>
        <p:spPr>
          <a:xfrm>
            <a:off x="285840" y="2000160"/>
            <a:ext cx="8643960" cy="44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Naprężenia te występują na ściankach nieskończenie małego sześcianu o środku w rozważanym punkcie (A). Ten stan naprężenia można opisać wielkością fizyczną nazywaną 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tensorem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(II. rzędu), reprezentowaną przez macierz kwadratową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stopnia 3 (3x3 elementy) w następującej formie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                                                                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Równania momentów względem osi 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y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z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dają równości podane przez Cauchy’ego: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xy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yx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xz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zx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yz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z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kładowe stanu naprężenia w punkc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73" name="Object 6"/>
          <p:cNvGraphicFramePr/>
          <p:nvPr/>
        </p:nvGraphicFramePr>
        <p:xfrm>
          <a:off x="2874960" y="3649680"/>
          <a:ext cx="2922480" cy="15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4960" y="3649680"/>
                    <a:ext cx="2922480" cy="1565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75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4241880" y="2000160"/>
            <a:ext cx="4616280" cy="442908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8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98EC-15A9-4121-80DE-A07DFBB2D8E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rostokąt 12"/>
          <p:cNvSpPr/>
          <p:nvPr/>
        </p:nvSpPr>
        <p:spPr>
          <a:xfrm>
            <a:off x="285840" y="2143080"/>
            <a:ext cx="385740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Dotychczas dane były  naprężenia główne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), a wyznaczano naprężenia w przekroju pod kątem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do kierunku głównego 1. Teraz rozwiązane zostanie zagadnienie odwrotne, tzn. takie, gdy dane są naprężeni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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, a należy wyznaczyć naprężenia główn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Wyznaczanie naprężeń głównych w PS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7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76CB-54F0-45C5-9BC0-AE9F5E9CCBE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rostokąt 12"/>
          <p:cNvSpPr/>
          <p:nvPr/>
        </p:nvSpPr>
        <p:spPr>
          <a:xfrm>
            <a:off x="285840" y="200016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ówczas wzór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, czyli tzw. 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tensor Cauchy’ego stanu naprężenia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można zapisać jak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kładowe stanu naprężenia w punkc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80" name="Object 6"/>
          <p:cNvGraphicFramePr/>
          <p:nvPr/>
        </p:nvGraphicFramePr>
        <p:xfrm>
          <a:off x="2571840" y="2643120"/>
          <a:ext cx="3735360" cy="20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1840" y="2643120"/>
                    <a:ext cx="3735360" cy="2000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82" name="Prostokąt 8"/>
          <p:cNvSpPr/>
          <p:nvPr/>
        </p:nvSpPr>
        <p:spPr>
          <a:xfrm>
            <a:off x="214200" y="4984920"/>
            <a:ext cx="87156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Pozwala to opisać stan naprężenia w punkcie za pomocą jedynie 6-ciu zmiennych: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oraz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xy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xz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yz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1" lang="pl-PL" sz="2000" spc="-1" strike="noStrike">
                <a:solidFill>
                  <a:srgbClr val="ff0000"/>
                </a:solidFill>
                <a:latin typeface="Tw Cen MT"/>
              </a:rPr>
              <a:t>!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) Składowe tensora stanu naprężenia </a:t>
            </a:r>
            <a:r>
              <a:rPr b="1" lang="pl-PL" sz="2000" spc="-1" strike="noStrike">
                <a:solidFill>
                  <a:srgbClr val="ff0000"/>
                </a:solidFill>
                <a:latin typeface="Tw Cen MT"/>
              </a:rPr>
              <a:t>zmieniają się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 wraz z obrotem układu odniesienia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85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362E-936E-44CE-85D3-4AC3DF1B3C2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kładowe stanu naprężenia w punkc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87" name="Object 4"/>
          <p:cNvGraphicFramePr/>
          <p:nvPr/>
        </p:nvGraphicFramePr>
        <p:xfrm>
          <a:off x="428760" y="2214720"/>
          <a:ext cx="413856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14720"/>
                    <a:ext cx="4138560" cy="32860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89" name="Prostokąt 10"/>
          <p:cNvSpPr/>
          <p:nvPr/>
        </p:nvSpPr>
        <p:spPr>
          <a:xfrm>
            <a:off x="4714920" y="2241720"/>
            <a:ext cx="4248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Naprężeniowe 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równania równowagi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można wyprowadzić rozważając siły (zewnętrzne i wewnętrzne) działające na ciało o objętości V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[kg/m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w Cen MT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] oznacza gęstość materiału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[N/kg = m/s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] to siły masowe odniesione do jednostki masy (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jednostkowe siły masowe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Y,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 to siły masowe odniesione do jednostki objętości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0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7" descr=""/>
          <p:cNvPicPr/>
          <p:nvPr/>
        </p:nvPicPr>
        <p:blipFill>
          <a:blip r:embed="rId1"/>
          <a:stretch/>
        </p:blipFill>
        <p:spPr>
          <a:xfrm>
            <a:off x="3274920" y="1500120"/>
            <a:ext cx="5869080" cy="497988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93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4997-FD0D-4863-944B-D6A7E72A598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4" name="Symbol zastępczy zawartości 4"/>
          <p:cNvSpPr/>
          <p:nvPr/>
        </p:nvSpPr>
        <p:spPr>
          <a:xfrm>
            <a:off x="214200" y="1600200"/>
            <a:ext cx="45720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kładowe stanu naprężenia w punkc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6" name="Prostokąt 28"/>
          <p:cNvSpPr/>
          <p:nvPr/>
        </p:nvSpPr>
        <p:spPr>
          <a:xfrm>
            <a:off x="428760" y="2857680"/>
            <a:ext cx="3857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w Cen MT"/>
              </a:rPr>
              <a:t>Pytanie: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Jak określić naprężenia na ściankach kostki obróconej w przestrzeni do nowego układu odniesienia x’y’z’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b050"/>
                </a:solidFill>
                <a:latin typeface="Tw Cen MT"/>
              </a:rPr>
              <a:t>Odpowiedź: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Należy zastosować odpowiednie 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wzory transformacyjne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98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081E-10CD-4B48-8335-BBDB59DF53E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rostokąt 12"/>
          <p:cNvSpPr/>
          <p:nvPr/>
        </p:nvSpPr>
        <p:spPr>
          <a:xfrm>
            <a:off x="214200" y="219852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Kosinusy kierunkowe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czyli kosinusy kątów nachylenia osi nowego układu odniesienia x’y’z’ względem układu pierwotnego xyz przedstawia tzw. 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macierz transformacji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 Składowe tej macierzy wylicza się z następującego wzoru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0" name="Symbol zastępczy zawartości 4"/>
          <p:cNvSpPr/>
          <p:nvPr/>
        </p:nvSpPr>
        <p:spPr>
          <a:xfrm>
            <a:off x="214200" y="1600200"/>
            <a:ext cx="871560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kładowe stanu naprężenia w punkc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01" name="Object 6"/>
          <p:cNvGraphicFramePr/>
          <p:nvPr/>
        </p:nvGraphicFramePr>
        <p:xfrm>
          <a:off x="2838600" y="3317760"/>
          <a:ext cx="325584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38600" y="3317760"/>
                    <a:ext cx="3255840" cy="6494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03" name="Prostokąt 9"/>
          <p:cNvSpPr/>
          <p:nvPr/>
        </p:nvSpPr>
        <p:spPr>
          <a:xfrm>
            <a:off x="142920" y="4000680"/>
            <a:ext cx="450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gdzie </a:t>
            </a: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przyjmuje kolejno wartości </a:t>
            </a: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Tabela obok prezentuje sposób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ustalenia wartości wyrazó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(składowych) 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macierzy transformacj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4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05" name="Grupa 39"/>
          <p:cNvGrpSpPr/>
          <p:nvPr/>
        </p:nvGrpSpPr>
        <p:grpSpPr>
          <a:xfrm>
            <a:off x="4000680" y="4429080"/>
            <a:ext cx="5000400" cy="2000160"/>
            <a:chOff x="4000680" y="4429080"/>
            <a:chExt cx="5000400" cy="2000160"/>
          </a:xfrm>
        </p:grpSpPr>
        <p:graphicFrame>
          <p:nvGraphicFramePr>
            <p:cNvPr id="706" name="Object 5"/>
            <p:cNvGraphicFramePr/>
            <p:nvPr/>
          </p:nvGraphicFramePr>
          <p:xfrm>
            <a:off x="4189320" y="4429080"/>
            <a:ext cx="4811760" cy="1943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0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89320" y="4429080"/>
                      <a:ext cx="4811760" cy="194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08" name="Grupa 34"/>
            <p:cNvGrpSpPr/>
            <p:nvPr/>
          </p:nvGrpSpPr>
          <p:grpSpPr>
            <a:xfrm>
              <a:off x="4000680" y="4856040"/>
              <a:ext cx="5000400" cy="1001520"/>
              <a:chOff x="4000680" y="4856040"/>
              <a:chExt cx="5000400" cy="1001520"/>
            </a:xfrm>
          </p:grpSpPr>
          <p:sp>
            <p:nvSpPr>
              <p:cNvPr id="709" name="Łącznik prosty 17"/>
              <p:cNvSpPr/>
              <p:nvPr/>
            </p:nvSpPr>
            <p:spPr>
              <a:xfrm>
                <a:off x="4000680" y="5356080"/>
                <a:ext cx="5000400" cy="1440"/>
              </a:xfrm>
              <a:prstGeom prst="line">
                <a:avLst/>
              </a:prstGeom>
              <a:ln w="1008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10" name="Łącznik prosty 18"/>
              <p:cNvSpPr/>
              <p:nvPr/>
            </p:nvSpPr>
            <p:spPr>
              <a:xfrm>
                <a:off x="4000680" y="5856120"/>
                <a:ext cx="5000400" cy="1440"/>
              </a:xfrm>
              <a:prstGeom prst="line">
                <a:avLst/>
              </a:prstGeom>
              <a:ln w="1008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11" name="Łącznik prosty 33"/>
              <p:cNvSpPr/>
              <p:nvPr/>
            </p:nvSpPr>
            <p:spPr>
              <a:xfrm>
                <a:off x="4000680" y="4856040"/>
                <a:ext cx="5000400" cy="1440"/>
              </a:xfrm>
              <a:prstGeom prst="line">
                <a:avLst/>
              </a:prstGeom>
              <a:ln w="1008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grpSp>
          <p:nvGrpSpPr>
            <p:cNvPr id="712" name="Grupa 35"/>
            <p:cNvGrpSpPr/>
            <p:nvPr/>
          </p:nvGrpSpPr>
          <p:grpSpPr>
            <a:xfrm>
              <a:off x="4643280" y="4429080"/>
              <a:ext cx="3000240" cy="2000160"/>
              <a:chOff x="4643280" y="4429080"/>
              <a:chExt cx="3000240" cy="2000160"/>
            </a:xfrm>
          </p:grpSpPr>
          <p:sp>
            <p:nvSpPr>
              <p:cNvPr id="713" name="Łącznik prosty 36"/>
              <p:cNvSpPr/>
              <p:nvPr/>
            </p:nvSpPr>
            <p:spPr>
              <a:xfrm flipH="1">
                <a:off x="6141240" y="4429080"/>
                <a:ext cx="4680" cy="2000160"/>
              </a:xfrm>
              <a:prstGeom prst="line">
                <a:avLst/>
              </a:prstGeom>
              <a:ln w="1008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14" name="Łącznik prosty 37"/>
              <p:cNvSpPr/>
              <p:nvPr/>
            </p:nvSpPr>
            <p:spPr>
              <a:xfrm flipH="1">
                <a:off x="4643280" y="4429080"/>
                <a:ext cx="4680" cy="2000160"/>
              </a:xfrm>
              <a:prstGeom prst="line">
                <a:avLst/>
              </a:prstGeom>
              <a:ln w="1008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15" name="Łącznik prosty 38"/>
              <p:cNvSpPr/>
              <p:nvPr/>
            </p:nvSpPr>
            <p:spPr>
              <a:xfrm flipH="1">
                <a:off x="7638840" y="4429080"/>
                <a:ext cx="4680" cy="2000160"/>
              </a:xfrm>
              <a:prstGeom prst="line">
                <a:avLst/>
              </a:prstGeom>
              <a:ln w="1008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1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B0B2-1679-44A2-90F1-E63DCC9A953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kładowe stanu naprężenia w punkc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rostokąt 9"/>
          <p:cNvSpPr/>
          <p:nvPr/>
        </p:nvSpPr>
        <p:spPr>
          <a:xfrm>
            <a:off x="285840" y="2071800"/>
            <a:ext cx="86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Macierz transformacji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układu xyz do x’y’z’ ma więc postać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20" name="Object 6"/>
          <p:cNvGraphicFramePr/>
          <p:nvPr/>
        </p:nvGraphicFramePr>
        <p:xfrm>
          <a:off x="290520" y="2544840"/>
          <a:ext cx="8572320" cy="149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2544840"/>
                    <a:ext cx="8572320" cy="14936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22" name="Prostokąt 10"/>
          <p:cNvSpPr/>
          <p:nvPr/>
        </p:nvSpPr>
        <p:spPr>
          <a:xfrm>
            <a:off x="214200" y="4143240"/>
            <a:ext cx="89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Tensor naprężenia można teraz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przetransformować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do układu x’y’z’, tzn.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określić jego składowe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w nowym układzie za pomocą następującej, prostej relacji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23" name="Object 5"/>
          <p:cNvGraphicFramePr/>
          <p:nvPr/>
        </p:nvGraphicFramePr>
        <p:xfrm>
          <a:off x="2830680" y="5086440"/>
          <a:ext cx="343512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30680" y="5086440"/>
                    <a:ext cx="3435120" cy="9730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25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2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86A8-7039-4549-AAB3-196D1275940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kładowe stanu naprężenia w punkc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rostokąt 9"/>
          <p:cNvSpPr/>
          <p:nvPr/>
        </p:nvSpPr>
        <p:spPr>
          <a:xfrm>
            <a:off x="285840" y="2071800"/>
            <a:ext cx="86439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Układ odniesienia x*y*z*, w którym tensor naprężenia staje się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macierzą diagonalną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xy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yx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xz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zx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yz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zy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0), nazywa się 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układem osi głównych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30" name="Object 6"/>
          <p:cNvGraphicFramePr/>
          <p:nvPr/>
        </p:nvGraphicFramePr>
        <p:xfrm>
          <a:off x="2868480" y="2857680"/>
          <a:ext cx="3132360" cy="17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2857680"/>
                    <a:ext cx="3132360" cy="1714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32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Prostokąt 11"/>
          <p:cNvSpPr/>
          <p:nvPr/>
        </p:nvSpPr>
        <p:spPr>
          <a:xfrm>
            <a:off x="285840" y="4633920"/>
            <a:ext cx="8643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yrazy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diagonalne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powyższej macierzy to wartości główne tensora stanu naprężenia, lub krócej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naprężenia główne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 Wyznacza się je rozwiązując tzw. 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równanie charakterystyczne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sekularne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wiekowe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.Obowiązuje przy tym następująca umowa:                          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Położenie osi głównych określa się wyznaczając tzw. 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kierunki główne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Podobną analizę można przeprowadzić dla stanu odkształcenia..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34" name="Object 3"/>
          <p:cNvGraphicFramePr/>
          <p:nvPr/>
        </p:nvGraphicFramePr>
        <p:xfrm>
          <a:off x="2482920" y="5535720"/>
          <a:ext cx="1589040" cy="45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2920" y="5535720"/>
                    <a:ext cx="15890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37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F083-1E50-450C-BE5E-2A47DCB6DFD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9" name="Prostokąt 12"/>
          <p:cNvSpPr/>
          <p:nvPr/>
        </p:nvSpPr>
        <p:spPr>
          <a:xfrm>
            <a:off x="225360" y="2111400"/>
            <a:ext cx="877572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 przypadku ogólnego (trójosiowego) stanu odkształcenia w danym punkc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(np. A) można wyróżnić 9 składowych stanu odkształcenia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3 odkształcenia liniowe (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)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6 kątów odkształcenia postaciowego (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xy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yx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xz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zx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yz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zy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Można je przedstawić za pomocą odpowiedniej macierzy, którą nazwiem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tensorem stanu odkształceni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kładowe stanu odkształcenia w punkc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41" name="Object 6"/>
          <p:cNvGraphicFramePr/>
          <p:nvPr/>
        </p:nvGraphicFramePr>
        <p:xfrm>
          <a:off x="2500200" y="4429080"/>
          <a:ext cx="41752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0200" y="4429080"/>
                    <a:ext cx="4175280" cy="1857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4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4658-6BBB-437A-9016-54227A92D37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6" name="Prostokąt 12"/>
          <p:cNvSpPr/>
          <p:nvPr/>
        </p:nvSpPr>
        <p:spPr>
          <a:xfrm>
            <a:off x="225360" y="2111400"/>
            <a:ext cx="877572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obec następujących definicji kątów odkształcenia postaciowego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oraz podanej wcześniej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równości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odpowiednich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 naprężeń stycznych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xy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yx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itd.), liczba składowych stanu odkształcenia, analogicznie do stanu naprężenia, redukuje się do 6. Macierz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 staje się więc macierzą symetryczną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7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kładowe stanu odkształcenia w punkc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48" name="Object 3"/>
          <p:cNvGraphicFramePr/>
          <p:nvPr/>
        </p:nvGraphicFramePr>
        <p:xfrm>
          <a:off x="414360" y="2514600"/>
          <a:ext cx="8215200" cy="8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14600"/>
                    <a:ext cx="8215200" cy="824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50" name="Object 6"/>
          <p:cNvGraphicFramePr/>
          <p:nvPr/>
        </p:nvGraphicFramePr>
        <p:xfrm>
          <a:off x="2500200" y="4429080"/>
          <a:ext cx="4175280" cy="18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4429080"/>
                    <a:ext cx="4175280" cy="1857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53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C39F-B03A-433F-8A62-6A913A01593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kładowe stanu odkształcenia w punkc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rostokąt 9"/>
          <p:cNvSpPr/>
          <p:nvPr/>
        </p:nvSpPr>
        <p:spPr>
          <a:xfrm>
            <a:off x="285840" y="2071800"/>
            <a:ext cx="864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1" lang="pl-PL" sz="2000" spc="-1" strike="noStrike">
                <a:solidFill>
                  <a:srgbClr val="ff0000"/>
                </a:solidFill>
                <a:latin typeface="Tw Cen MT"/>
              </a:rPr>
              <a:t>!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) Składowe tensora stanu odkształcenia również </a:t>
            </a:r>
            <a:r>
              <a:rPr b="1" lang="pl-PL" sz="2000" spc="-1" strike="noStrike">
                <a:solidFill>
                  <a:srgbClr val="ff0000"/>
                </a:solidFill>
                <a:latin typeface="Tw Cen MT"/>
              </a:rPr>
              <a:t>zmieniają się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 wraz z obrotem układu odniesienia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Macierz transformacji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układu xyz do x’y’z’ ma taką samą postać, jak w przypadku tensora naprężenia, tzn.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56" name="Object 6"/>
          <p:cNvGraphicFramePr/>
          <p:nvPr/>
        </p:nvGraphicFramePr>
        <p:xfrm>
          <a:off x="290520" y="3649680"/>
          <a:ext cx="8572320" cy="14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3649680"/>
                    <a:ext cx="8572320" cy="1494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58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60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1315-A0B4-42D8-914D-36DB772CC5E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kładowe stanu odkształcenia w punkc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rostokąt 10"/>
          <p:cNvSpPr/>
          <p:nvPr/>
        </p:nvSpPr>
        <p:spPr>
          <a:xfrm>
            <a:off x="214200" y="2143080"/>
            <a:ext cx="89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Odpowiedni wzór transformacyjny ma postać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63" name="Object 3"/>
          <p:cNvGraphicFramePr/>
          <p:nvPr/>
        </p:nvGraphicFramePr>
        <p:xfrm>
          <a:off x="2913120" y="2521080"/>
          <a:ext cx="2890800" cy="84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2521080"/>
                    <a:ext cx="2890800" cy="8474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65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rostokąt 11"/>
          <p:cNvSpPr/>
          <p:nvPr/>
        </p:nvSpPr>
        <p:spPr>
          <a:xfrm>
            <a:off x="214200" y="3429000"/>
            <a:ext cx="871560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Istnieje też pewne szczególne położenie układu odniesienia, które nazwiemy 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układem osi głównych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tensora stanu odkształcenia. Macierz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 ma wtedy postać diagonalną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przy czym 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odkształcenia główne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yznacza się rozwiązując odpowiednie równanie wiekowe; wyniki takiego rozwiązania porządkuje się je następująco: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67" name="Object 6"/>
          <p:cNvGraphicFramePr/>
          <p:nvPr/>
        </p:nvGraphicFramePr>
        <p:xfrm>
          <a:off x="2913120" y="4154400"/>
          <a:ext cx="2944800" cy="17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3120" y="4154400"/>
                    <a:ext cx="2944800" cy="17319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69" name="Object 5"/>
          <p:cNvGraphicFramePr/>
          <p:nvPr/>
        </p:nvGraphicFramePr>
        <p:xfrm>
          <a:off x="7319880" y="6129360"/>
          <a:ext cx="1398600" cy="44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9880" y="6129360"/>
                    <a:ext cx="13986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5" descr=""/>
          <p:cNvPicPr/>
          <p:nvPr/>
        </p:nvPicPr>
        <p:blipFill>
          <a:blip r:embed="rId1"/>
          <a:stretch/>
        </p:blipFill>
        <p:spPr>
          <a:xfrm>
            <a:off x="3951360" y="2093760"/>
            <a:ext cx="5143320" cy="430848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4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5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CBC7-975E-4782-935E-375BAD672D1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rostokąt 12"/>
          <p:cNvSpPr/>
          <p:nvPr/>
        </p:nvSpPr>
        <p:spPr>
          <a:xfrm>
            <a:off x="90360" y="2000160"/>
            <a:ext cx="3929040" cy="36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Zagadnienie powyższe można rozwiązać za pomocą koła Mohra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punkty N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w Cen MT"/>
              </a:rPr>
              <a:t>x 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) i K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w Cen MT"/>
              </a:rPr>
              <a:t>y 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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środek koła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promień koła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Wyznaczanie naprężeń głównych w PS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18" name="Object 7"/>
          <p:cNvGraphicFramePr/>
          <p:nvPr/>
        </p:nvGraphicFramePr>
        <p:xfrm>
          <a:off x="1071720" y="4000680"/>
          <a:ext cx="1738080" cy="78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1720" y="4000680"/>
                    <a:ext cx="1738080" cy="7855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0" name="Object 3"/>
          <p:cNvGraphicFramePr/>
          <p:nvPr/>
        </p:nvGraphicFramePr>
        <p:xfrm>
          <a:off x="571680" y="5214960"/>
          <a:ext cx="2928600" cy="1047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680" y="5214960"/>
                    <a:ext cx="2928600" cy="1047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3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5601-EE3A-4D93-A795-AC34F466E24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rostokąt 12"/>
          <p:cNvSpPr/>
          <p:nvPr/>
        </p:nvSpPr>
        <p:spPr>
          <a:xfrm>
            <a:off x="285840" y="2000160"/>
            <a:ext cx="392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Widząc, że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można zapisać wzory na naprężenia główne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Wyznaczanie naprężeń głównych w PS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27" name="Object 7"/>
          <p:cNvGraphicFramePr/>
          <p:nvPr/>
        </p:nvGraphicFramePr>
        <p:xfrm>
          <a:off x="285840" y="4000680"/>
          <a:ext cx="3857400" cy="209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4000680"/>
                    <a:ext cx="3857400" cy="20952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9" name="Object 4"/>
          <p:cNvGraphicFramePr/>
          <p:nvPr/>
        </p:nvGraphicFramePr>
        <p:xfrm>
          <a:off x="285840" y="2500200"/>
          <a:ext cx="633420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500200"/>
                    <a:ext cx="6334200" cy="571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1" name="Prostokąt 9"/>
          <p:cNvSpPr/>
          <p:nvPr/>
        </p:nvSpPr>
        <p:spPr>
          <a:xfrm>
            <a:off x="4279320" y="478620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Ponadto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32" name="Object 5"/>
          <p:cNvGraphicFramePr/>
          <p:nvPr/>
        </p:nvGraphicFramePr>
        <p:xfrm>
          <a:off x="5881680" y="4500720"/>
          <a:ext cx="2833560" cy="109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1680" y="4500720"/>
                    <a:ext cx="2833560" cy="1095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5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E6D6-5E7F-487A-9EEC-1A571430EB8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rostokąt 12"/>
          <p:cNvSpPr/>
          <p:nvPr/>
        </p:nvSpPr>
        <p:spPr>
          <a:xfrm>
            <a:off x="285840" y="200016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Początkowa szerokość/grubość h pręta zmniejsza się o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h podczas jego rozciągania siłą osiową P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Jednokierunkowy stan odkształc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9" name="Picture 8" descr=""/>
          <p:cNvPicPr/>
          <p:nvPr/>
        </p:nvPicPr>
        <p:blipFill>
          <a:blip r:embed="rId1"/>
          <a:stretch/>
        </p:blipFill>
        <p:spPr>
          <a:xfrm>
            <a:off x="857160" y="3071880"/>
            <a:ext cx="73152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3462480" y="2162160"/>
            <a:ext cx="5584680" cy="426096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2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3DA3-5569-42C1-B655-BD47935EBF6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rostokąt 12"/>
          <p:cNvSpPr/>
          <p:nvPr/>
        </p:nvSpPr>
        <p:spPr>
          <a:xfrm>
            <a:off x="285840" y="2000160"/>
            <a:ext cx="435744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Z rozciąganego pręta wyodrębniono kostkę sześcienną o boku jednostkowym. Odkształcenie względne w kierunku rozciągania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/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na mocy prawa Hooke’a wynies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Jednokierunkowy stan odkształc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46" name="Object 2"/>
          <p:cNvGraphicFramePr/>
          <p:nvPr/>
        </p:nvGraphicFramePr>
        <p:xfrm>
          <a:off x="2371680" y="3297240"/>
          <a:ext cx="1071720" cy="87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71680" y="3297240"/>
                    <a:ext cx="1071720" cy="874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48" name="Prostokąt 9"/>
          <p:cNvSpPr/>
          <p:nvPr/>
        </p:nvSpPr>
        <p:spPr>
          <a:xfrm>
            <a:off x="285840" y="4214880"/>
            <a:ext cx="350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yniki doświadczalne w zakresie liniowosprężystym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</a:t>
            </a:r>
            <a:r>
              <a:rPr b="0" lang="pl-PL" sz="11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 pokazują, że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49" name="Object 4"/>
          <p:cNvGraphicFramePr/>
          <p:nvPr/>
        </p:nvGraphicFramePr>
        <p:xfrm>
          <a:off x="428760" y="5357880"/>
          <a:ext cx="2931840" cy="50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0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760" y="5357880"/>
                    <a:ext cx="2931840" cy="5079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51" name="Prostokąt 11"/>
          <p:cNvSpPr/>
          <p:nvPr/>
        </p:nvSpPr>
        <p:spPr>
          <a:xfrm>
            <a:off x="285840" y="5857920"/>
            <a:ext cx="294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gdzie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to wsp. Poisso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3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CDE6-45B7-41F8-A832-B643688CED4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rostokąt 12"/>
          <p:cNvSpPr/>
          <p:nvPr/>
        </p:nvSpPr>
        <p:spPr>
          <a:xfrm>
            <a:off x="285840" y="2000160"/>
            <a:ext cx="864396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Nowe wymiary kostki (po rozciągnięciu)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Ponieważ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V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0, stąd                                         , czyl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                          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Pomijając małe wyższego rzędu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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0,001)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otrzymuje się                       , a stąd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Na ogół przyjmuje się, że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V=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0 (np. w procesie kucia stali). Jeżeli zachodzi potrzeba obliczenia 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względnej zmiany objętości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 materiału (kostki), korzysta się z następującej, przybliżonej zależności: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                                                                                   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(%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Jednokierunkowy stan odkształc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57" name="Object 4"/>
          <p:cNvGraphicFramePr/>
          <p:nvPr/>
        </p:nvGraphicFramePr>
        <p:xfrm>
          <a:off x="214200" y="2417760"/>
          <a:ext cx="87156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2417760"/>
                    <a:ext cx="8715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9" name="Object 5"/>
          <p:cNvGraphicFramePr/>
          <p:nvPr/>
        </p:nvGraphicFramePr>
        <p:xfrm>
          <a:off x="2643120" y="3102120"/>
          <a:ext cx="2809800" cy="4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3120" y="3102120"/>
                    <a:ext cx="280980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1" name="Object 6"/>
          <p:cNvGraphicFramePr/>
          <p:nvPr/>
        </p:nvGraphicFramePr>
        <p:xfrm>
          <a:off x="6113520" y="3030480"/>
          <a:ext cx="2146320" cy="4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3520" y="3030480"/>
                    <a:ext cx="214632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3" name="Object 7"/>
          <p:cNvGraphicFramePr/>
          <p:nvPr/>
        </p:nvGraphicFramePr>
        <p:xfrm>
          <a:off x="201600" y="3720960"/>
          <a:ext cx="4070520" cy="41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1600" y="3720960"/>
                    <a:ext cx="407052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8"/>
          <p:cNvGraphicFramePr/>
          <p:nvPr/>
        </p:nvGraphicFramePr>
        <p:xfrm>
          <a:off x="1785960" y="4361040"/>
          <a:ext cx="1504800" cy="39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5960" y="4361040"/>
                    <a:ext cx="15048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Object 9"/>
          <p:cNvGraphicFramePr/>
          <p:nvPr/>
        </p:nvGraphicFramePr>
        <p:xfrm>
          <a:off x="4286160" y="4143240"/>
          <a:ext cx="785880" cy="80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8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6160" y="4143240"/>
                    <a:ext cx="785880" cy="8096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69" name="Object 11"/>
          <p:cNvGraphicFramePr/>
          <p:nvPr/>
        </p:nvGraphicFramePr>
        <p:xfrm>
          <a:off x="6000840" y="5643720"/>
          <a:ext cx="2425680" cy="739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0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00840" y="5643720"/>
                    <a:ext cx="2425680" cy="7394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2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E4A4-4A3C-46FE-828E-10441F7AAF0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4" name="Prostokąt 12"/>
          <p:cNvSpPr/>
          <p:nvPr/>
        </p:nvSpPr>
        <p:spPr>
          <a:xfrm>
            <a:off x="285840" y="2000160"/>
            <a:ext cx="8643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Dowód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Pomijając wyrazy małe wyższego rzędu otrzymuje się wzór (%), C.N.U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5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Jednokierunkowy stan odkształc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76" name="Object 10"/>
          <p:cNvGraphicFramePr/>
          <p:nvPr/>
        </p:nvGraphicFramePr>
        <p:xfrm>
          <a:off x="506520" y="2567160"/>
          <a:ext cx="8142120" cy="311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2567160"/>
                    <a:ext cx="8142120" cy="31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7" descr=""/>
          <p:cNvPicPr/>
          <p:nvPr/>
        </p:nvPicPr>
        <p:blipFill>
          <a:blip r:embed="rId1"/>
          <a:stretch/>
        </p:blipFill>
        <p:spPr>
          <a:xfrm>
            <a:off x="92160" y="2805120"/>
            <a:ext cx="8947080" cy="300024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80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B360-D47D-47FD-A888-E0B04A6DDC8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rostokąt 12"/>
          <p:cNvSpPr/>
          <p:nvPr/>
        </p:nvSpPr>
        <p:spPr>
          <a:xfrm>
            <a:off x="285840" y="2000160"/>
            <a:ext cx="86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Stosuje się metodę superpozycji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tan odkształcenia i prawo Hooke’a w PS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7:14:40Z</dcterms:created>
  <dc:creator/>
  <dc:description/>
  <dc:language>en-US</dc:language>
  <cp:lastModifiedBy/>
  <dcterms:modified xsi:type="dcterms:W3CDTF">2011-10-05T15:20:3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lpwstr>1045</vt:lpwstr>
  </property>
  <property fmtid="{D5CDD505-2E9C-101B-9397-08002B2CF9AE}" pid="3" name="_TemplateID">
    <vt:lpwstr>TC101671251045</vt:lpwstr>
  </property>
</Properties>
</file>